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1C4-138A-4FB9-A540-1A1DD637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40D-B236-44F7-BDE4-208CE54E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27F-47D7-454A-81EA-11440A20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533-2139-4977-9427-B8EA4EFC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3DF-E59F-49C7-8576-F8048A1E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AA6-1B00-4254-81C7-C524E4FD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ADD-58D7-47DA-8505-F13E9DF2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2C7-F625-4424-BC0B-EAB3E9A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58D-53F3-4136-BFD8-4F01CB76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95C-7BA4-4322-8131-DA837D6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DC7-A7E8-465C-BFCD-49FA1B6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3F9-E1A9-47B6-9A48-72B72524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3A65-4702-4EFF-87EC-9E2C72E24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1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42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-414360" y="-165240"/>
            <a:ext cx="9955080" cy="332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s56.radikal.ru/i152/0810/19/4d25ef62575e.png"/>
          <p:cNvPicPr/>
          <p:nvPr/>
        </p:nvPicPr>
        <p:blipFill>
          <a:blip r:embed="rId3"/>
          <a:stretch/>
        </p:blipFill>
        <p:spPr>
          <a:xfrm>
            <a:off x="2693880" y="2257560"/>
            <a:ext cx="6234120" cy="4484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Скругленный прямоугольник 2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96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2666880" y="890640"/>
            <a:ext cx="3881520" cy="5143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0" y="18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одичку стряхива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-4680" y="6033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змахнуть кистями рук 2 ра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Скругленный прямоугольник 4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02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4" name="Прямоугольник 1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Скругленный прямоугольник 4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06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презентации использованы материалы книги Т.Ю.Бардышевой «Привет, ладош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Скругленный прямоугольник 2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47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1"/>
          <p:cNvSpPr/>
          <p:nvPr/>
        </p:nvSpPr>
        <p:spPr>
          <a:xfrm>
            <a:off x="0" y="18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доль по речень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-4680" y="6033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Волны» ру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479680" y="900000"/>
            <a:ext cx="417672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Скругленный прямоугольник 2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5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951280" y="936720"/>
            <a:ext cx="3313080" cy="5286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0" y="18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лебеду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-28440" y="6194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ходить, плавно выгнув ру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кругленный прямоугольник 2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5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336760" y="765000"/>
            <a:ext cx="4470480" cy="5619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0" y="18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лыв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-468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махать «крыльям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Скругленный прямоугольник 2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6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270160" y="890640"/>
            <a:ext cx="4675320" cy="5143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0" y="18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ш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-4680" y="6033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тянуть руки, пальцы разве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2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7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268360" y="898560"/>
            <a:ext cx="4680000" cy="5156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0" y="18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бере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-4680" y="6033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учки одна на другую перед груд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Скругленный прямоугольник 2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77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8360" y="890640"/>
            <a:ext cx="4140000" cy="4890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0" y="18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головушку несё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6360" y="5781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уки к щекам, наклон головы в одну и другую сто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4608360" y="890640"/>
            <a:ext cx="392436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Скругленный прямоугольник 2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84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411280" y="890640"/>
            <a:ext cx="4349880" cy="5143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0" y="18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Белым крылышком помахива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-4680" y="6033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змахи  «крылье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Скругленный прямоугольник 2"/>
          <p:cNvGrpSpPr/>
          <p:nvPr/>
        </p:nvGrpSpPr>
        <p:grpSpPr>
          <a:xfrm>
            <a:off x="165240" y="171360"/>
            <a:ext cx="8881920" cy="6583320"/>
            <a:chOff x="165240" y="171360"/>
            <a:chExt cx="8881920" cy="6583320"/>
          </a:xfrm>
        </p:grpSpPr>
        <p:pic>
          <p:nvPicPr>
            <p:cNvPr id="90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81920" cy="65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00040" y="503280"/>
              <a:ext cx="8217000" cy="59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556000" y="890640"/>
            <a:ext cx="4103640" cy="5162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0" y="18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 ц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-4680" y="6033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исти вместе, пальчики разве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8:37:33Z</dcterms:created>
  <dc:creator>Солнышко</dc:creator>
  <dc:description/>
  <dc:language>en-US</dc:language>
  <cp:lastModifiedBy>Солнышко</cp:lastModifiedBy>
  <dcterms:modified xsi:type="dcterms:W3CDTF">2013-12-24T06:34:06Z</dcterms:modified>
  <cp:revision>6</cp:revision>
  <dc:subject/>
  <dc:title>Презентация PowerPoint</dc:title>
</cp:coreProperties>
</file>