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D349-3602-4900-B3FE-BBC820F7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6CBF-BFBA-419B-AE47-0A99B918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FECA-A839-46B7-A5B8-1F12A1E9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7A71-50F3-44E5-868F-E783FD16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2577-9C38-4586-BF69-64B262A1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0646-C15D-467D-A3F2-89E34A5C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A6CB-628A-4CD5-A78C-D8F29E04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5BDC-62A5-4046-B404-590802BE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F53A-E524-4746-A8CD-12193896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3432-8595-493C-987A-E21A3A01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2569-259D-453E-89D9-1BAF300E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6A6B-012B-49F4-AC09-CBEA7AF9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5DDB-6E2A-436E-BFA0-2F3FEF341E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C:\DOCUME~1\95A7~1\LOCALS~1\Temp\7zE1B.tmp\9.pn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http://v.foto.radikal.ru/0702/95b57600a39e.png"/>
          <p:cNvPicPr/>
          <p:nvPr/>
        </p:nvPicPr>
        <p:blipFill>
          <a:blip r:embed="rId2"/>
          <a:srcRect l="0" t="7387" r="0" b="76895"/>
          <a:stretch/>
        </p:blipFill>
        <p:spPr>
          <a:xfrm>
            <a:off x="250920" y="2205000"/>
            <a:ext cx="8642160" cy="355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http://v.foto.radikal.ru/0702/95b57600a39e.png"/>
          <p:cNvPicPr/>
          <p:nvPr/>
        </p:nvPicPr>
        <p:blipFill>
          <a:blip r:embed="rId3"/>
          <a:srcRect l="7387" t="19681" r="76895" b="8431"/>
          <a:stretch/>
        </p:blipFill>
        <p:spPr>
          <a:xfrm>
            <a:off x="2843280" y="339840"/>
            <a:ext cx="355680" cy="6211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ttp://v.foto.radikal.ru/0702/95b57600a39e.png"/>
          <p:cNvPicPr/>
          <p:nvPr/>
        </p:nvPicPr>
        <p:blipFill>
          <a:blip r:embed="rId4"/>
          <a:srcRect l="0" t="7387" r="0" b="76895"/>
          <a:stretch/>
        </p:blipFill>
        <p:spPr>
          <a:xfrm>
            <a:off x="230040" y="4508640"/>
            <a:ext cx="8641080" cy="355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http://v.foto.radikal.ru/0702/95b57600a39e.png"/>
          <p:cNvPicPr/>
          <p:nvPr/>
        </p:nvPicPr>
        <p:blipFill>
          <a:blip r:embed="rId5"/>
          <a:srcRect l="7387" t="19681" r="76895" b="8431"/>
          <a:stretch/>
        </p:blipFill>
        <p:spPr>
          <a:xfrm>
            <a:off x="5940360" y="318960"/>
            <a:ext cx="354240" cy="62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C:\DOCUME~1\95A7~1\LOCALS~1\Temp\7zE1B.tmp\9.png"/>
          <p:cNvPicPr/>
          <p:nvPr/>
        </p:nvPicPr>
        <p:blipFill>
          <a:blip r:embed="rId1"/>
          <a:stretch/>
        </p:blipFill>
        <p:spPr>
          <a:xfrm>
            <a:off x="-34920" y="-46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http://v.foto.radikal.ru/0702/95b57600a39e.png"/>
          <p:cNvPicPr/>
          <p:nvPr/>
        </p:nvPicPr>
        <p:blipFill>
          <a:blip r:embed="rId2"/>
          <a:srcRect l="0" t="22874" r="0" b="58419"/>
          <a:stretch/>
        </p:blipFill>
        <p:spPr>
          <a:xfrm>
            <a:off x="176040" y="2117880"/>
            <a:ext cx="8642520" cy="422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http://v.foto.radikal.ru/0702/95b57600a39e.png"/>
          <p:cNvPicPr/>
          <p:nvPr/>
        </p:nvPicPr>
        <p:blipFill>
          <a:blip r:embed="rId3"/>
          <a:srcRect l="0" t="22874" r="0" b="58419"/>
          <a:stretch/>
        </p:blipFill>
        <p:spPr>
          <a:xfrm>
            <a:off x="171360" y="4475160"/>
            <a:ext cx="8640720" cy="422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http://v.foto.radikal.ru/0702/95b57600a39e.png"/>
          <p:cNvPicPr/>
          <p:nvPr/>
        </p:nvPicPr>
        <p:blipFill>
          <a:blip r:embed="rId4"/>
          <a:srcRect l="22874" t="25283" r="58419" b="0"/>
          <a:stretch/>
        </p:blipFill>
        <p:spPr>
          <a:xfrm>
            <a:off x="2717640" y="326880"/>
            <a:ext cx="422280" cy="635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v.foto.radikal.ru/0702/95b57600a39e.png"/>
          <p:cNvPicPr/>
          <p:nvPr/>
        </p:nvPicPr>
        <p:blipFill>
          <a:blip r:embed="rId5"/>
          <a:srcRect l="22874" t="25283" r="58419" b="0"/>
          <a:stretch/>
        </p:blipFill>
        <p:spPr>
          <a:xfrm>
            <a:off x="5867280" y="358920"/>
            <a:ext cx="422280" cy="63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C:\DOCUME~1\95A7~1\LOCALS~1\Temp\7zE1B.tmp\9.png"/>
          <p:cNvPicPr/>
          <p:nvPr/>
        </p:nvPicPr>
        <p:blipFill>
          <a:blip r:embed="rId1"/>
          <a:stretch/>
        </p:blipFill>
        <p:spPr>
          <a:xfrm>
            <a:off x="15840" y="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http://v.foto.radikal.ru/0702/95b57600a39e.png"/>
          <p:cNvPicPr/>
          <p:nvPr/>
        </p:nvPicPr>
        <p:blipFill>
          <a:blip r:embed="rId2"/>
          <a:srcRect l="0" t="39267" r="0" b="43645"/>
          <a:stretch/>
        </p:blipFill>
        <p:spPr>
          <a:xfrm>
            <a:off x="176040" y="2239920"/>
            <a:ext cx="8788680" cy="36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http://v.foto.radikal.ru/0702/95b57600a39e.png"/>
          <p:cNvPicPr/>
          <p:nvPr/>
        </p:nvPicPr>
        <p:blipFill>
          <a:blip r:embed="rId3"/>
          <a:srcRect l="0" t="39267" r="0" b="43645"/>
          <a:stretch/>
        </p:blipFill>
        <p:spPr>
          <a:xfrm>
            <a:off x="176040" y="4505400"/>
            <a:ext cx="8715600" cy="361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http://v.foto.radikal.ru/0702/95b57600a39e.png"/>
          <p:cNvPicPr/>
          <p:nvPr/>
        </p:nvPicPr>
        <p:blipFill>
          <a:blip r:embed="rId4"/>
          <a:srcRect l="39267" t="25308" r="42006" b="0"/>
          <a:stretch/>
        </p:blipFill>
        <p:spPr>
          <a:xfrm>
            <a:off x="2744640" y="358920"/>
            <a:ext cx="395280" cy="6394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http://v.foto.radikal.ru/0702/95b57600a39e.png"/>
          <p:cNvPicPr/>
          <p:nvPr/>
        </p:nvPicPr>
        <p:blipFill>
          <a:blip r:embed="rId5"/>
          <a:srcRect l="39267" t="25308" r="42006" b="0"/>
          <a:stretch/>
        </p:blipFill>
        <p:spPr>
          <a:xfrm>
            <a:off x="5958000" y="358920"/>
            <a:ext cx="395280" cy="63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C:\DOCUME~1\95A7~1\LOCALS~1\Temp\7zE1B.tmp\9.png"/>
          <p:cNvPicPr/>
          <p:nvPr/>
        </p:nvPicPr>
        <p:blipFill>
          <a:blip r:embed="rId1"/>
          <a:stretch/>
        </p:blipFill>
        <p:spPr>
          <a:xfrm>
            <a:off x="-64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http://v.foto.radikal.ru/0702/95b57600a39e.png"/>
          <p:cNvPicPr/>
          <p:nvPr/>
        </p:nvPicPr>
        <p:blipFill>
          <a:blip r:embed="rId2"/>
          <a:stretch/>
        </p:blipFill>
        <p:spPr>
          <a:xfrm>
            <a:off x="212760" y="2219400"/>
            <a:ext cx="8705880" cy="322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http://v.foto.radikal.ru/0702/95b57600a39e.png"/>
          <p:cNvPicPr/>
          <p:nvPr/>
        </p:nvPicPr>
        <p:blipFill>
          <a:blip r:embed="rId3"/>
          <a:stretch/>
        </p:blipFill>
        <p:spPr>
          <a:xfrm>
            <a:off x="212760" y="4578480"/>
            <a:ext cx="8705880" cy="317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http://v.foto.radikal.ru/0702/95b57600a39e.png"/>
          <p:cNvPicPr/>
          <p:nvPr/>
        </p:nvPicPr>
        <p:blipFill>
          <a:blip r:embed="rId4"/>
          <a:stretch/>
        </p:blipFill>
        <p:spPr>
          <a:xfrm>
            <a:off x="2809800" y="231840"/>
            <a:ext cx="317520" cy="885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http://v.foto.radikal.ru/0702/95b57600a39e.png"/>
          <p:cNvPicPr/>
          <p:nvPr/>
        </p:nvPicPr>
        <p:blipFill>
          <a:blip r:embed="rId5"/>
          <a:stretch/>
        </p:blipFill>
        <p:spPr>
          <a:xfrm>
            <a:off x="5973840" y="237960"/>
            <a:ext cx="317520" cy="639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C:\DOCUME~1\95A7~1\LOCALS~1\Temp\7zE1B.tmp\9.png"/>
          <p:cNvPicPr/>
          <p:nvPr/>
        </p:nvPicPr>
        <p:blipFill>
          <a:blip r:embed="rId1"/>
          <a:stretch/>
        </p:blipFill>
        <p:spPr>
          <a:xfrm>
            <a:off x="-144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http://v.foto.radikal.ru/0702/95b57600a39e.png"/>
          <p:cNvPicPr/>
          <p:nvPr/>
        </p:nvPicPr>
        <p:blipFill>
          <a:blip r:embed="rId2"/>
          <a:srcRect l="0" t="74253" r="0" b="7097"/>
          <a:stretch/>
        </p:blipFill>
        <p:spPr>
          <a:xfrm>
            <a:off x="179280" y="4551480"/>
            <a:ext cx="8785440" cy="449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http://v.foto.radikal.ru/0702/95b57600a39e.png"/>
          <p:cNvPicPr/>
          <p:nvPr/>
        </p:nvPicPr>
        <p:blipFill>
          <a:blip r:embed="rId3"/>
          <a:srcRect l="0" t="74253" r="0" b="7097"/>
          <a:stretch/>
        </p:blipFill>
        <p:spPr>
          <a:xfrm>
            <a:off x="149400" y="2160720"/>
            <a:ext cx="8785080" cy="449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http://v.foto.radikal.ru/0702/95b57600a39e.png"/>
          <p:cNvPicPr/>
          <p:nvPr/>
        </p:nvPicPr>
        <p:blipFill>
          <a:blip r:embed="rId4"/>
          <a:srcRect l="74253" t="25761" r="10395" b="0"/>
          <a:stretch/>
        </p:blipFill>
        <p:spPr>
          <a:xfrm>
            <a:off x="2733840" y="260280"/>
            <a:ext cx="369720" cy="6523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http://v.foto.radikal.ru/0702/95b57600a39e.png"/>
          <p:cNvPicPr/>
          <p:nvPr/>
        </p:nvPicPr>
        <p:blipFill>
          <a:blip r:embed="rId5"/>
          <a:srcRect l="74253" t="25761" r="10395" b="0"/>
          <a:stretch/>
        </p:blipFill>
        <p:spPr>
          <a:xfrm>
            <a:off x="5929200" y="254160"/>
            <a:ext cx="37008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9:07:58Z</dcterms:created>
  <dc:creator>Солнышко</dc:creator>
  <dc:description/>
  <dc:language>en-US</dc:language>
  <cp:lastModifiedBy>Солнышко</cp:lastModifiedBy>
  <dcterms:modified xsi:type="dcterms:W3CDTF">2012-11-20T13:21:51Z</dcterms:modified>
  <cp:revision>4</cp:revision>
  <dc:subject/>
  <dc:title>Презентация PowerPoint</dc:title>
</cp:coreProperties>
</file>