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C7B-6906-400F-B5BC-753AEF18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31F-4315-4C96-BCA6-2775B057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92D-68A7-4864-82B9-C9268E1C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8CB-73DD-4C46-B4B8-C0FA4773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87A-B4E7-4EE1-A910-13B8EA23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792-CD58-4C83-AA20-5CD4DE7A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B92-7EA4-4082-9A38-01DDD1F5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C13-2BAA-4C16-BDC4-1325282C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AC3-C050-45E3-A993-0A34DC76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DEE-FE4D-4488-8E7A-560F8628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D59-D11D-4D1E-A363-82DC4FC1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BAD-E62A-4A05-9A20-820ABC9C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DD08-5811-491D-9886-253547003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509400">
            <a:off x="1600200" y="335232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сленица</a:t>
            </a:r>
            <a:endParaRPr b="0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ский сад общеразвивающего вида № 4 «А» «Колос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62520" y="4800600"/>
            <a:ext cx="30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Воспитател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1 катег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Лихобаби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ветлана Иван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SC_0432"/>
          <p:cNvPicPr/>
          <p:nvPr/>
        </p:nvPicPr>
        <p:blipFill>
          <a:blip r:embed="rId2"/>
          <a:stretch/>
        </p:blipFill>
        <p:spPr>
          <a:xfrm>
            <a:off x="228600" y="1752480"/>
            <a:ext cx="8763120" cy="4929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45" name="WordArt 5"/>
          <p:cNvSpPr txBox="1"/>
          <p:nvPr/>
        </p:nvSpPr>
        <p:spPr>
          <a:xfrm>
            <a:off x="228600" y="380880"/>
            <a:ext cx="8915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седа: "История праздника Масленица"</a:t>
            </a:r>
            <a:endParaRPr b="0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SC_0430"/>
          <p:cNvPicPr/>
          <p:nvPr/>
        </p:nvPicPr>
        <p:blipFill>
          <a:blip r:embed="rId2"/>
          <a:stretch/>
        </p:blipFill>
        <p:spPr>
          <a:xfrm>
            <a:off x="2514600" y="2421000"/>
            <a:ext cx="6629400" cy="443700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47" name="Picture 5" descr="DSC_0433"/>
          <p:cNvPicPr/>
          <p:nvPr/>
        </p:nvPicPr>
        <p:blipFill>
          <a:blip r:embed="rId3"/>
          <a:stretch/>
        </p:blipFill>
        <p:spPr>
          <a:xfrm>
            <a:off x="0" y="0"/>
            <a:ext cx="5257800" cy="295740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SC_0401"/>
          <p:cNvPicPr/>
          <p:nvPr/>
        </p:nvPicPr>
        <p:blipFill>
          <a:blip r:embed="rId2"/>
          <a:stretch/>
        </p:blipFill>
        <p:spPr>
          <a:xfrm>
            <a:off x="0" y="838080"/>
            <a:ext cx="6781680" cy="3357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49" name="Picture 6" descr="DSC_0402"/>
          <p:cNvPicPr/>
          <p:nvPr/>
        </p:nvPicPr>
        <p:blipFill>
          <a:blip r:embed="rId3"/>
          <a:stretch/>
        </p:blipFill>
        <p:spPr>
          <a:xfrm>
            <a:off x="2514600" y="3581280"/>
            <a:ext cx="6629400" cy="3267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0" name="WordArt 7"/>
          <p:cNvSpPr txBox="1"/>
          <p:nvPr/>
        </p:nvSpPr>
        <p:spPr>
          <a:xfrm>
            <a:off x="1143000" y="152280"/>
            <a:ext cx="67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готовление открыток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752480" y="228600"/>
            <a:ext cx="5410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й блины, блиночки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5" descr="DSC_0451"/>
          <p:cNvPicPr/>
          <p:nvPr/>
        </p:nvPicPr>
        <p:blipFill>
          <a:blip r:embed="rId2"/>
          <a:stretch/>
        </p:blipFill>
        <p:spPr>
          <a:xfrm>
            <a:off x="152280" y="1371600"/>
            <a:ext cx="8763120" cy="4929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DSC_0448"/>
          <p:cNvPicPr/>
          <p:nvPr/>
        </p:nvPicPr>
        <p:blipFill>
          <a:blip r:embed="rId2"/>
          <a:stretch/>
        </p:blipFill>
        <p:spPr>
          <a:xfrm>
            <a:off x="304920" y="3733920"/>
            <a:ext cx="3886200" cy="30272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54" name="Picture 6" descr="DSC_0446"/>
          <p:cNvPicPr/>
          <p:nvPr/>
        </p:nvPicPr>
        <p:blipFill>
          <a:blip r:embed="rId3"/>
          <a:stretch/>
        </p:blipFill>
        <p:spPr>
          <a:xfrm>
            <a:off x="1752480" y="152280"/>
            <a:ext cx="7162920" cy="40291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447920" y="228600"/>
            <a:ext cx="6248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ы прощай, прощай Масленица!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52280" y="3124080"/>
            <a:ext cx="4572000" cy="35053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4800600" y="1066680"/>
            <a:ext cx="4191120" cy="3229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543800" cy="5751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3-09T14:08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