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1C7-24BB-490E-9219-CACD7ECA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FE4-1AF1-43F6-AC7D-0D578F94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B44-1781-4A40-9527-DE644EF8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9C89-CAC7-4B23-98AF-688AA2F8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9A59-554F-4441-B3C7-A5D5F844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5DB2-35E5-405A-8291-28B4A7D9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93FD-E1D2-4EDF-85B9-3578B1FD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03AF-0528-4235-A67F-36AC0ABE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031A-510C-4723-88B8-A24AEAC5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99C8-BF54-4A11-A1ED-A0EDE2DC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4DD3-BE38-4F65-9D11-0EBF2AC3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900-5DA8-4932-AC9A-919F5642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A00B-F8FD-483B-8842-960A71B4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75B2-0A3E-4788-9DB4-C635412F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C763-EBDD-4511-93AB-875FDDDF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ECD3-693B-4698-BA60-CE74074C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6D9D-DCA7-4E57-AF29-08812911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0248-AF58-4AB7-A385-FCEDBFF0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735-A1CE-4038-B12D-BA7EA883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35A6-7D37-4E95-A055-A7603FE9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788-F083-405D-8262-6097990D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07E-85A1-4657-9E31-58CF565C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9BC-1B34-4338-9C8A-4744EFAA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0C0-E8DE-4CE7-A387-B5EF68D6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C052-C942-4AB3-B472-CDF2406321A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4825-BCD5-46B9-A76B-FC4846D75916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738648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395280" y="1676520"/>
            <a:ext cx="684072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витие мелкой моторики у дете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школьного возраст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7272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ктуальность работы по развитию мелкой моторики детей раннего возраста обусловлена возрастными психологическими и физиологическими особенностями детей: в раннем и младшем дошкольном возрасте интенсивно развиваются структуры и функции головного мозга ребенка, что расширяет его возможности в познании окружающего мира. Всестороннее представление об окружающем предметном мире у человека не может сложиться без тактильно – двигательного восприятия, так как оно лежит в основе чувственного познания. Именно с помощью тактильно – двигательного восприятия складываются первые впечатления о форме, величине предметов, их расположении в пространстве. Чтобы научить малыша говорить, необходимо не только тренировать его артикуляционный аппарат, но и развивать мелкую моторику рук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812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Что такое мелкая моторика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648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431280" algn="just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елкая моторика</a:t>
            </a: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— совокупность скоординированных действий нервной, мышечной и костной систем, часто в сочетании со зрительной системой в выполнении мелких и точных движений кистями и пальцами рук и ног. В применении к моторным навыкам руки и пальцев часто используется термин ловкость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indent="431280" algn="just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 области мелкой моторики относится большое разнообразных движений: от примитивных жестов, таких как захват объектов, до очень мелких движений, от которых, например, зависит почерк человека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66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Значение  мелкой   мотори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1598400"/>
            <a:ext cx="662472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9280" algn="just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вижения рук – это основа для формирования навыков самообслуживания у детей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Уровень развития тонкой моторики является одним из важных показателей готовности ребенка к обучению в школе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вижения пальцев рук влияют на развитие моторной функции речи и стимулируют развитие других психических функций – мышления, памяти, внимания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669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9280" algn="just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Цель работы</a:t>
            </a:r>
            <a:r>
              <a:rPr b="0" i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:</a:t>
            </a: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развитие мелкой моторики у детей раннего возраста посредством дидактических игр и игрушек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2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овершенствовать предметно – развивающую среду группы для развития мелкой моторики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звивать мелкую моторику пальцев рук у детей раннего возраста посредством дидактических игр и игрушек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звивать тактильную чувствительность рук детей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Дидактическая игра «Разноцветные палочки»  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из бросового материала на развитие мелкой моторики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691344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закрепление знаний основных цветов (желтый, зеленый, красный);</a:t>
            </a:r>
            <a:br>
              <a:rPr sz="2200"/>
            </a:br>
            <a:r>
              <a:rPr b="0" lang="ru-RU" sz="22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развитие мелкой моторики;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Для изготовления данной игры нам понадобятся: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2133720"/>
            <a:ext cx="7386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928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Баночка из под кофе, чая, чипсов, цветная самоклеющаяся бумага и счётные разноцветные палочки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SDC13849"/>
          <p:cNvPicPr/>
          <p:nvPr/>
        </p:nvPicPr>
        <p:blipFill>
          <a:blip r:embed="rId2"/>
          <a:stretch/>
        </p:blipFill>
        <p:spPr>
          <a:xfrm>
            <a:off x="3059280" y="3573360"/>
            <a:ext cx="172872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7d47d"/>
                </a:solidFill>
                <a:latin typeface="Arial"/>
              </a:rPr>
              <a:t>В этой детской игре формируется не только ручная умелость, но и сенсорные эталоны (цвет, форма, величина).</a:t>
            </a:r>
            <a:endParaRPr b="0" lang="en-US" sz="2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Picture 6" descr="SDC13847"/>
          <p:cNvPicPr/>
          <p:nvPr/>
        </p:nvPicPr>
        <p:blipFill>
          <a:blip r:embed="rId1"/>
          <a:stretch/>
        </p:blipFill>
        <p:spPr>
          <a:xfrm>
            <a:off x="1187280" y="2386080"/>
            <a:ext cx="2016360" cy="1757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SDC13848"/>
          <p:cNvPicPr/>
          <p:nvPr/>
        </p:nvPicPr>
        <p:blipFill>
          <a:blip r:embed="rId2"/>
          <a:stretch/>
        </p:blipFill>
        <p:spPr>
          <a:xfrm>
            <a:off x="4788000" y="2311560"/>
            <a:ext cx="201600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15:44:41Z</dcterms:created>
  <dc:creator>user</dc:creator>
  <dc:description/>
  <dc:language>en-US</dc:language>
  <cp:lastModifiedBy>user</cp:lastModifiedBy>
  <dcterms:modified xsi:type="dcterms:W3CDTF">2015-03-09T15:53:06Z</dcterms:modified>
  <cp:revision>8</cp:revision>
  <dc:subject/>
  <dc:title>Слайд 1</dc:title>
</cp:coreProperties>
</file>