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6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4B8-E69C-4B6D-B157-6566E11E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293-CCF2-4D6D-869A-03D9D79F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952-1B42-4410-AAA3-C9C47234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E06-E653-4EA9-9F54-4900654C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A38-104A-46E0-94C6-27A83F51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416-1D26-47D6-8F5B-8B14E45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060-29DB-40ED-B6B8-12F2380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318-0D41-4EF2-935A-11CA02D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A12-83F0-438B-8313-C408F099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6C8-1787-4128-AADB-9CE17CA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601-96FA-4106-B64C-C848BBB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436-8F2D-40EE-B9F2-391A522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127-EEAF-4EE2-9467-B1A431C5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e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773360"/>
            <a:ext cx="7921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зови ласко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ee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824360" cy="554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lum contrast="30000"/>
          </a:blip>
          <a:srcRect l="8841" t="9699" r="8179" b="11007"/>
          <a:stretch/>
        </p:blipFill>
        <p:spPr>
          <a:xfrm>
            <a:off x="1116000" y="836640"/>
            <a:ext cx="4032360" cy="54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>
            <a:lum contrast="30000"/>
          </a:blip>
          <a:srcRect l="8841" t="9699" r="8179" b="11007"/>
          <a:stretch/>
        </p:blipFill>
        <p:spPr>
          <a:xfrm>
            <a:off x="7093080" y="278136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765000"/>
            <a:ext cx="439272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48360" y="3068640"/>
            <a:ext cx="1570320" cy="124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125360"/>
            <a:ext cx="4319640" cy="424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2708280"/>
            <a:ext cx="1942920" cy="1944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ee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83914" t="3723" r="-1443" b="85743"/>
          <a:stretch/>
        </p:blipFill>
        <p:spPr>
          <a:xfrm>
            <a:off x="1042920" y="1484280"/>
            <a:ext cx="4824360" cy="375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83914" t="3723" r="-1443" b="85743"/>
          <a:stretch/>
        </p:blipFill>
        <p:spPr>
          <a:xfrm>
            <a:off x="7093080" y="2997360"/>
            <a:ext cx="1511280" cy="117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981000"/>
            <a:ext cx="5040360" cy="3960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eec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28271" t="83697" r="28271" b="-3249"/>
          <a:stretch/>
        </p:blipFill>
        <p:spPr>
          <a:xfrm>
            <a:off x="1403280" y="206064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28271" t="83697" r="28271" b="-3249"/>
          <a:stretch/>
        </p:blipFill>
        <p:spPr>
          <a:xfrm>
            <a:off x="7093080" y="2997360"/>
            <a:ext cx="1439640" cy="100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1628640"/>
            <a:ext cx="4535640" cy="30956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781360"/>
            <a:ext cx="1655640" cy="1152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ee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46057" t="0" r="0" b="51512"/>
          <a:stretch/>
        </p:blipFill>
        <p:spPr>
          <a:xfrm>
            <a:off x="971640" y="836640"/>
            <a:ext cx="4824360" cy="547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46057" t="0" r="0" b="51512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eec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58827" t="67217" r="0" b="0"/>
          <a:stretch/>
        </p:blipFill>
        <p:spPr>
          <a:xfrm flipH="1">
            <a:off x="971280" y="1484280"/>
            <a:ext cx="4824360" cy="3889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1268280"/>
            <a:ext cx="5040360" cy="424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58827" t="67217" r="0" b="0"/>
          <a:stretch/>
        </p:blipFill>
        <p:spPr>
          <a:xfrm flipH="1">
            <a:off x="7092720" y="2781360"/>
            <a:ext cx="14396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50000">
              <a:srgbClr val="ffffff"/>
            </a:gs>
            <a:gs pos="100000">
              <a:srgbClr val="fdee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:\Каталог картинок\П\feather3 G 1.gif"/>
          <p:cNvPicPr/>
          <p:nvPr/>
        </p:nvPicPr>
        <p:blipFill>
          <a:blip r:embed="rId2"/>
          <a:stretch/>
        </p:blipFill>
        <p:spPr>
          <a:xfrm>
            <a:off x="1042920" y="836640"/>
            <a:ext cx="4753080" cy="55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:\Каталог картинок\П\feather3 G 1.gif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50000">
              <a:srgbClr val="ffffff"/>
            </a:gs>
            <a:gs pos="100000">
              <a:srgbClr val="fdeec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крыло 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71640" y="836640"/>
            <a:ext cx="4895640" cy="547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крыло 1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ee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39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440" y="0"/>
            <a:ext cx="74314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обогащение и активизация предметного  словаря 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«Домашние птицы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совершенствование навыков 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уменьшительно-ласкательной  формы существитель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развитие мышления развитие слухов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17560" y="3141720"/>
            <a:ext cx="83264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Ход иг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Взрослый  демонстрирует ребенку картинку с изображением домашней птицы и задает ребенку  вопрос: "Это   петух . А  ты  попробуй назвать его ласково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После ответа ребёнка кликаем мышкой и появляется картинка с  уменьшенным изображением пт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В случаях затруднения при ответе ребенку можно задать вопрос по картинкам: « Это большой петух, а это маленький …( петушо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Аналогично рассматриваются  друге картинки. 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6320" y="836640"/>
            <a:ext cx="4890960" cy="554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107120" y="2781360"/>
            <a:ext cx="1495440" cy="15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824360" cy="554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ee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824360" cy="554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4895640" cy="554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68144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flipH="1">
            <a:off x="7019640" y="299736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852640"/>
            <a:ext cx="165600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ec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895640" cy="554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765000"/>
            <a:ext cx="5040360" cy="5688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0000" y="2708280"/>
            <a:ext cx="165564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eec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4357" r="2436" b="10638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4752720" cy="3557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060640" cy="1339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1557360"/>
            <a:ext cx="5040360" cy="38163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2708280"/>
            <a:ext cx="2232000" cy="17287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57:34Z</dcterms:created>
  <dc:creator>Солнышко</dc:creator>
  <dc:description/>
  <dc:language>en-US</dc:language>
  <cp:lastModifiedBy>XTreme</cp:lastModifiedBy>
  <dcterms:modified xsi:type="dcterms:W3CDTF">2010-03-25T14:05:52Z</dcterms:modified>
  <cp:revision>3</cp:revision>
  <dc:subject/>
  <dc:title>Слайд 1</dc:title>
</cp:coreProperties>
</file>