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597-B8D9-45D9-B6DC-A128D77F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2CB-595D-42E2-88CC-1644D882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CFC-BCB3-40E5-BD0B-7FC67355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8D9-6D96-491A-80AE-DAE262B7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EF1-E6BF-4E3B-A53C-4D96D3C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53B-2149-49B2-B723-59B30363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025-86FC-44A0-94DC-33853E9D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C8D-519C-4A5A-A335-BE074B38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F3A-F0F3-437B-84E2-E67EFF31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6A9-89C5-44C3-A31F-8A75A629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D4B-D1B3-4597-BA02-E50C430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9E4-FB84-4932-A3EB-629503C9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50000">
              <a:srgbClr val="ffffff"/>
            </a:gs>
            <a:gs pos="100000">
              <a:srgbClr val="ffe98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00D-688E-476A-8620-E365D17D2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9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476280"/>
            <a:ext cx="79214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50000">
                      <a:srgbClr val="ffe98b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ин - много</a:t>
            </a:r>
            <a:endParaRPr b="0" lang="en-US" sz="18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50000">
                    <a:srgbClr val="ffe98b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e98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2448000" cy="210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5866920" y="189000"/>
            <a:ext cx="1871640" cy="160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5795640" y="3068640"/>
            <a:ext cx="1871640" cy="160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 flipH="1">
            <a:off x="6876720" y="4724280"/>
            <a:ext cx="1871640" cy="160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 flipH="1">
            <a:off x="7272000" y="1700280"/>
            <a:ext cx="1871640" cy="160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 flipH="1">
            <a:off x="1187280" y="1628640"/>
            <a:ext cx="2881440" cy="32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84720" y="260280"/>
            <a:ext cx="1729080" cy="194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236000" y="2276640"/>
            <a:ext cx="1728720" cy="194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508720" y="2997360"/>
            <a:ext cx="1728720" cy="194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164360" y="4724280"/>
            <a:ext cx="172872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98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2954520" cy="33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flipH="1">
            <a:off x="5508720" y="333360"/>
            <a:ext cx="199080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flipH="1">
            <a:off x="6877080" y="2565360"/>
            <a:ext cx="199080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flipH="1">
            <a:off x="5076720" y="4437000"/>
            <a:ext cx="19908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50000">
              <a:srgbClr val="ffffff"/>
            </a:gs>
            <a:gs pos="100000">
              <a:srgbClr val="ffe9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flipH="1">
            <a:off x="1116000" y="206064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942920" cy="1892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508720" y="2349360"/>
            <a:ext cx="1942920" cy="189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732720" y="4076640"/>
            <a:ext cx="1942920" cy="18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50000">
              <a:srgbClr val="ffffff"/>
            </a:gs>
            <a:gs pos="100000">
              <a:srgbClr val="ffe98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42920" y="1628640"/>
            <a:ext cx="2532240" cy="3375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308720" y="333360"/>
            <a:ext cx="1397160" cy="1862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5867280" y="2205000"/>
            <a:ext cx="1397160" cy="186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7524720" y="3429000"/>
            <a:ext cx="1397160" cy="186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5867280" y="4797360"/>
            <a:ext cx="1397160" cy="1862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98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46057" t="0" r="0" b="51512"/>
          <a:stretch/>
        </p:blipFill>
        <p:spPr>
          <a:xfrm>
            <a:off x="1116000" y="2060640"/>
            <a:ext cx="203040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46057" t="0" r="0" b="51512"/>
          <a:stretch/>
        </p:blipFill>
        <p:spPr>
          <a:xfrm>
            <a:off x="6753240" y="404640"/>
            <a:ext cx="1649520" cy="187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46057" t="0" r="0" b="51512"/>
          <a:stretch/>
        </p:blipFill>
        <p:spPr>
          <a:xfrm>
            <a:off x="7236000" y="2492280"/>
            <a:ext cx="158724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rcRect l="46057" t="0" r="0" b="51512"/>
          <a:stretch/>
        </p:blipFill>
        <p:spPr>
          <a:xfrm>
            <a:off x="7020000" y="4724280"/>
            <a:ext cx="164916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rcRect l="46057" t="0" r="0" b="51512"/>
          <a:stretch/>
        </p:blipFill>
        <p:spPr>
          <a:xfrm>
            <a:off x="5148360" y="2924280"/>
            <a:ext cx="16491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50000">
              <a:srgbClr val="ffffff"/>
            </a:gs>
            <a:gs pos="100000">
              <a:srgbClr val="ffe98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58827" t="67217" r="0" b="0"/>
          <a:stretch/>
        </p:blipFill>
        <p:spPr>
          <a:xfrm flipH="1">
            <a:off x="1042560" y="333360"/>
            <a:ext cx="2808360" cy="226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21387" t="76035" r="38741" b="-2675"/>
          <a:stretch/>
        </p:blipFill>
        <p:spPr>
          <a:xfrm>
            <a:off x="4716360" y="4365720"/>
            <a:ext cx="3529080" cy="193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D:\Каталог картинок\П\feather3 G 1.gif"/>
          <p:cNvPicPr/>
          <p:nvPr/>
        </p:nvPicPr>
        <p:blipFill>
          <a:blip r:embed="rId3"/>
          <a:stretch/>
        </p:blipFill>
        <p:spPr>
          <a:xfrm>
            <a:off x="1042920" y="1413000"/>
            <a:ext cx="296244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:\Каталог картинок\П\feather3 G 1.gif"/>
          <p:cNvPicPr/>
          <p:nvPr/>
        </p:nvPicPr>
        <p:blipFill>
          <a:blip r:embed="rId4"/>
          <a:stretch/>
        </p:blipFill>
        <p:spPr>
          <a:xfrm>
            <a:off x="5724360" y="1700280"/>
            <a:ext cx="160524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D:\Каталог картинок\П\feather3 G 1.gif"/>
          <p:cNvPicPr/>
          <p:nvPr/>
        </p:nvPicPr>
        <p:blipFill>
          <a:blip r:embed="rId5"/>
          <a:stretch/>
        </p:blipFill>
        <p:spPr>
          <a:xfrm>
            <a:off x="7236000" y="189000"/>
            <a:ext cx="160488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:\Каталог картинок\П\feather3 G 1.gif"/>
          <p:cNvPicPr/>
          <p:nvPr/>
        </p:nvPicPr>
        <p:blipFill>
          <a:blip r:embed="rId6"/>
          <a:stretch/>
        </p:blipFill>
        <p:spPr>
          <a:xfrm>
            <a:off x="5651640" y="4149720"/>
            <a:ext cx="160488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D:\Каталог картинок\П\feather3 G 1.gif"/>
          <p:cNvPicPr/>
          <p:nvPr/>
        </p:nvPicPr>
        <p:blipFill>
          <a:blip r:embed="rId7"/>
          <a:stretch/>
        </p:blipFill>
        <p:spPr>
          <a:xfrm>
            <a:off x="7236000" y="4986360"/>
            <a:ext cx="160488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:\Каталог картинок\П\feather3 G 1.gif"/>
          <p:cNvPicPr/>
          <p:nvPr/>
        </p:nvPicPr>
        <p:blipFill>
          <a:blip r:embed="rId8"/>
          <a:stretch/>
        </p:blipFill>
        <p:spPr>
          <a:xfrm>
            <a:off x="7308720" y="2565360"/>
            <a:ext cx="160524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крыло 1"/>
          <p:cNvPicPr/>
          <p:nvPr/>
        </p:nvPicPr>
        <p:blipFill>
          <a:blip r:embed="rId3"/>
          <a:stretch/>
        </p:blipFill>
        <p:spPr>
          <a:xfrm>
            <a:off x="1116000" y="260280"/>
            <a:ext cx="2639880" cy="295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крыло 1"/>
          <p:cNvPicPr/>
          <p:nvPr/>
        </p:nvPicPr>
        <p:blipFill>
          <a:blip r:embed="rId4"/>
          <a:srcRect l="0" t="0" r="15457" b="0"/>
          <a:stretch/>
        </p:blipFill>
        <p:spPr>
          <a:xfrm>
            <a:off x="6659640" y="3645000"/>
            <a:ext cx="2232000" cy="295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крыло 1"/>
          <p:cNvPicPr/>
          <p:nvPr/>
        </p:nvPicPr>
        <p:blipFill>
          <a:blip r:embed="rId5"/>
          <a:srcRect l="0" t="0" r="20930" b="0"/>
          <a:stretch/>
        </p:blipFill>
        <p:spPr>
          <a:xfrm>
            <a:off x="5003640" y="3716280"/>
            <a:ext cx="2087640" cy="295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1916280"/>
            <a:ext cx="1944720" cy="2808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549360"/>
            <a:ext cx="1368360" cy="1800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24720" y="1989000"/>
            <a:ext cx="1368360" cy="1800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637000"/>
            <a:ext cx="1368720" cy="1800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4149720"/>
            <a:ext cx="1368360" cy="18003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724280"/>
            <a:ext cx="1368360" cy="18003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50000">
              <a:srgbClr val="ffffff"/>
            </a:gs>
            <a:gs pos="100000">
              <a:srgbClr val="ffe98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9720" y="0"/>
            <a:ext cx="8234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обогащение и активизация  словаря по теме «Домашние птиц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формирование навыков образования именительног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родительного  падежа множественного числа существитель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согласования числительных и существитель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08200"/>
                </a:solidFill>
                <a:latin typeface="Arial"/>
              </a:rPr>
              <a:t>развитие мышления, зрительн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205000"/>
            <a:ext cx="82440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Ход иг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82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Называется картинка, где один предмет. Взрослый клик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мышкой - появляется картинка, где много предметов, ребёнок называет её.</a:t>
            </a:r>
            <a:br>
              <a:rPr sz="2000"/>
            </a:b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- Кто это? (или - А это что?)   -  Петух.</a:t>
            </a:r>
            <a:br>
              <a:rPr sz="2000"/>
            </a:b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- Один петух, а когда много, как говорим?   - Пету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Если отрабатывается родительный падеж существительных:</a:t>
            </a:r>
            <a:br>
              <a:rPr sz="2000"/>
            </a:b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- Кто это?   - Петух .</a:t>
            </a:r>
            <a:br>
              <a:rPr sz="2000"/>
            </a:b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- Здесь один  петух, а здесь много ког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- Много петухов.</a:t>
            </a:r>
            <a:br>
              <a:rPr sz="2000"/>
            </a:b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     Если отрабатывается согласование числительных и существительных:</a:t>
            </a:r>
            <a:br>
              <a:rPr sz="2000"/>
            </a:b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- Сосчитай всех петухов.</a:t>
            </a:r>
            <a:br>
              <a:rPr sz="2000"/>
            </a:br>
            <a:r>
              <a:rPr b="0" lang="ru-RU" sz="2000" spc="-1" strike="noStrike">
                <a:solidFill>
                  <a:srgbClr val="b08200"/>
                </a:solidFill>
                <a:latin typeface="Arial"/>
              </a:rPr>
              <a:t>- Один петух, два петуха, три петуха, четыре петуха, пять пету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>
            <a:off x="1042560" y="1700280"/>
            <a:ext cx="2592360" cy="273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820880" cy="187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1844640"/>
            <a:ext cx="182088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020000" y="3213000"/>
            <a:ext cx="182088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219640" y="4653000"/>
            <a:ext cx="18208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flipH="1">
            <a:off x="1116000" y="1989000"/>
            <a:ext cx="2571840" cy="268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732720" y="4221000"/>
            <a:ext cx="1950840" cy="203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64000" y="2421000"/>
            <a:ext cx="186084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804000" y="476280"/>
            <a:ext cx="183348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98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flipH="1">
            <a:off x="1258560" y="1989000"/>
            <a:ext cx="287964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055960" cy="2158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877080" y="2565360"/>
            <a:ext cx="205596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076720" y="4508640"/>
            <a:ext cx="205596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flipH="1">
            <a:off x="1258920" y="1628640"/>
            <a:ext cx="1944720" cy="381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17468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117468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740720" y="3141720"/>
            <a:ext cx="117468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227640" y="4292640"/>
            <a:ext cx="117504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b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flipH="1">
            <a:off x="1258920" y="1844640"/>
            <a:ext cx="237960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308720" y="333360"/>
            <a:ext cx="1398600" cy="215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867280" y="1700280"/>
            <a:ext cx="1398600" cy="2158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451640" y="2852640"/>
            <a:ext cx="139860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40360" y="4221000"/>
            <a:ext cx="139860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e98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2592360" cy="266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flipH="1">
            <a:off x="7020000" y="18900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 flipH="1">
            <a:off x="5292720" y="184464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flipH="1">
            <a:off x="7020000" y="306864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flipH="1">
            <a:off x="5651640" y="4581360"/>
            <a:ext cx="189072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e98b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12891" r="2744" b="15521"/>
          <a:stretch/>
        </p:blipFill>
        <p:spPr>
          <a:xfrm rot="5400000">
            <a:off x="-3015720" y="3015360"/>
            <a:ext cx="6858000" cy="826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flipH="1">
            <a:off x="1258560" y="2276640"/>
            <a:ext cx="2663640" cy="2052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2376360" cy="1832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508720" y="1628640"/>
            <a:ext cx="2376360" cy="183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516720" y="3357720"/>
            <a:ext cx="2376360" cy="1831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5292720" y="4581360"/>
            <a:ext cx="237636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7:18:00Z</dcterms:created>
  <dc:creator>XTreme</dc:creator>
  <dc:description/>
  <dc:language>en-US</dc:language>
  <cp:lastModifiedBy>Солнышко</cp:lastModifiedBy>
  <dcterms:modified xsi:type="dcterms:W3CDTF">2010-03-26T11:06:42Z</dcterms:modified>
  <cp:revision>16</cp:revision>
  <dc:subject/>
  <dc:title>Слайд 1</dc:title>
</cp:coreProperties>
</file>