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2.gif" ContentType="image/gif"/>
  <Override PartName="/ppt/media/image9.png" ContentType="image/png"/>
  <Override PartName="/ppt/media/image17.wmf" ContentType="image/x-wmf"/>
  <Override PartName="/ppt/media/image8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2.gif" ContentType="image/gi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7A6-452B-4669-B84C-A9F5D572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CAD-61D0-442C-B513-9718BDE0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A08-4F6F-4069-BDD7-29C7978D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901-B28E-4CA8-B132-CAC7A34A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7B8-70DB-4BF1-AF21-8237DF26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F82-C726-4A5F-9E06-2D6AD74D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8B2-244C-4630-B1BC-862E9A2E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EA2-B5ED-4127-87CE-EBC40E48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BA5-8739-4881-9B40-02624F60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C80-1806-445D-98D8-B1074ADB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6A1-5557-4A06-A7F9-34C92C96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C4C-77A6-4D11-AF4E-87527C36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8694-3548-4B06-8E03-5DBA12983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cd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63640" y="2565360"/>
            <a:ext cx="6985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solidFill>
                    <a:srgbClr val="000000"/>
                  </a:solidFill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гадай загадку</a:t>
            </a:r>
            <a:endParaRPr b="0" lang="en-US" sz="1800" spc="1" strike="noStrike">
              <a:ln w="0">
                <a:solidFill>
                  <a:srgbClr val="000000"/>
                </a:solidFill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26028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Домашние 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ec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32000" y="189000"/>
            <a:ext cx="4248000" cy="51116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3889440" cy="4681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577120" y="4365720"/>
            <a:ext cx="3381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Был белый д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Чудесный 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И что-то застучало в н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И он разбился, и отт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Живое выбежало чу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—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Такое тепл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Такое пушистое и золот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76360" y="189000"/>
            <a:ext cx="4751280" cy="50403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547640" y="260280"/>
            <a:ext cx="4608720" cy="4824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08400" y="5348160"/>
            <a:ext cx="285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Спят или купаются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Все не разуваются: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День и ночь на ножках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Красные сапож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dec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76360" y="189000"/>
            <a:ext cx="4751280" cy="50403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47640" y="189000"/>
            <a:ext cx="4537080" cy="4824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576040" y="5275440"/>
            <a:ext cx="363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Без команды в строй встают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Отправляются на пруд.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Кто идет цепочкой длинной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Кто так любит дисциплин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cd"/>
            </a:gs>
            <a:gs pos="50000">
              <a:srgbClr val="ffffff"/>
            </a:gs>
            <a:gs pos="100000">
              <a:srgbClr val="ffdec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03280" y="189000"/>
            <a:ext cx="4321080" cy="51116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3887640" cy="4753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09480" y="5300640"/>
            <a:ext cx="2955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Он свой род оборон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И цыпляток охраня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Курам муж он и пасту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А зовут его 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e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95640" y="1773360"/>
            <a:ext cx="4896000" cy="48956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681440" cy="4681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92720" y="260280"/>
            <a:ext cx="38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Квохчет, квохч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Детей созыв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Всех под крыло собир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ec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340000" y="2062080"/>
            <a:ext cx="5183280" cy="41036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6000" y="620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11280" y="2133720"/>
            <a:ext cx="4969080" cy="3971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6384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48400" y="379440"/>
            <a:ext cx="274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Весь я золотистый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Мягкий и пушистый.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Я у курицы - ребёнок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А зовут меня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cd"/>
            </a:gs>
            <a:gs pos="50000">
              <a:srgbClr val="ffffff"/>
            </a:gs>
            <a:gs pos="100000">
              <a:srgbClr val="ffde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400720" cy="3816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11280" y="333360"/>
            <a:ext cx="5688000" cy="41036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4040" y="5373720"/>
            <a:ext cx="66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Желтые комочки ходят возле мамы – кв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c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68360" y="189000"/>
            <a:ext cx="4896000" cy="4248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411280" y="260280"/>
            <a:ext cx="4608720" cy="4032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43280" y="4791960"/>
            <a:ext cx="461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Заявляю всем подряд –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Отойдите от цыплят.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У меня хоть внешность птицы,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Но характер, как у льви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cd"/>
            </a:gs>
            <a:gs pos="50000">
              <a:srgbClr val="ffffff"/>
            </a:gs>
            <a:gs pos="100000">
              <a:srgbClr val="ffde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03280" y="189000"/>
            <a:ext cx="4392720" cy="6480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47640" y="260280"/>
            <a:ext cx="4086360" cy="6264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815080" y="2708280"/>
            <a:ext cx="33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Надуется, натуж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Начнет болт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По чужому лопо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cd"/>
            </a:gs>
            <a:gs pos="50000">
              <a:srgbClr val="ffffff"/>
            </a:gs>
            <a:gs pos="100000">
              <a:srgbClr val="ffdec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68360" y="189000"/>
            <a:ext cx="5616720" cy="4752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11280" y="260280"/>
            <a:ext cx="5113440" cy="4554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60760" y="5300640"/>
            <a:ext cx="287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Болбочет, болбоч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Детей созыв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Всех к себе созыв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cd"/>
            </a:gs>
            <a:gs pos="50000">
              <a:srgbClr val="ffffff"/>
            </a:gs>
            <a:gs pos="100000">
              <a:srgbClr val="ffdec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58920" y="189000"/>
            <a:ext cx="78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Цели: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уточнить названия домашних птиц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644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уточнение  внешних признаков, повадок, ч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питаются, как голос подают, какую польз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приносят домашние пти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обогащение и активизация предметного словар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развитие мышления, зрительного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55320" y="3500280"/>
            <a:ext cx="6930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Ход игры: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зрослый загадывает ребенку загад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Прослушав ее ребенок дает от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Дале взрослый кликает левой кнопкой мыш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появляется отгад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cd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708360" y="2349360"/>
            <a:ext cx="5184720" cy="43196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3641" t="37299" r="62052" b="11038"/>
          <a:stretch/>
        </p:blipFill>
        <p:spPr>
          <a:xfrm>
            <a:off x="4067280" y="2451240"/>
            <a:ext cx="4754520" cy="4146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57680" y="687240"/>
            <a:ext cx="29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Весь я золотистый, 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Мягкий и пушистый. 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У индюшки я - ребёнок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А зовут меня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dec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76360" y="1989000"/>
            <a:ext cx="5400720" cy="4680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47640" y="2030400"/>
            <a:ext cx="5040360" cy="4425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63160" y="614520"/>
            <a:ext cx="416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Она на белых камушках сидит.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Не подходите близко – закричи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cd"/>
            </a:gs>
            <a:gs pos="50000">
              <a:srgbClr val="ffffff"/>
            </a:gs>
            <a:gs pos="100000">
              <a:srgbClr val="ffde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00360" y="189000"/>
            <a:ext cx="4599000" cy="371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908000" y="4365720"/>
            <a:ext cx="6769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 !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pull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cd"/>
            </a:gs>
            <a:gs pos="50000">
              <a:srgbClr val="ffffff"/>
            </a:gs>
            <a:gs pos="100000">
              <a:srgbClr val="ffde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47640" y="189000"/>
            <a:ext cx="7201080" cy="50403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7512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7056360" cy="489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5440" y="5516640"/>
            <a:ext cx="28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В воде купался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А сух остался.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cd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76360" y="189000"/>
            <a:ext cx="7416720" cy="53276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9080" y="5734080"/>
            <a:ext cx="50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Пестрая крикуша ловит ляг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Ходит вразвалочку-спотыкал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47640" y="260280"/>
            <a:ext cx="7201080" cy="5113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ec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47640" y="189000"/>
            <a:ext cx="5040360" cy="51116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7512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489744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681880" y="5372640"/>
            <a:ext cx="346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Удивительный ребен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Только вышел из пелен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Может плавать и ныр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Как его родная м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e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6983280" cy="403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47640" y="189000"/>
            <a:ext cx="7272360" cy="4248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1640" y="4724280"/>
            <a:ext cx="369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Желтые крошки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Ищут хлеба крошки,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Если встретит червяка -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То нащиплют ему бо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e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50920" y="189000"/>
            <a:ext cx="5689800" cy="4248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124000" y="260280"/>
            <a:ext cx="5543640" cy="4105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4200" y="4327560"/>
            <a:ext cx="3559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Вдоль по речке, по водице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Плывёт лодок вереница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Впереди корабль идёт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За собою их ведёт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Вёсел нет у малых лодок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А кораблик больно ходок.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Вправо, влево, взад, вперёд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Всю ватагу поверн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decd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03280" y="189000"/>
            <a:ext cx="3888000" cy="6480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3529080" cy="6191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47800" y="2492280"/>
            <a:ext cx="380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Ходит важно, с гордым ви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Он себя не даст в оби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Зашипит и ….трусь, не тру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Ущипнуть вас может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rcRect l="0" t="3796" r="0" b="0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260280"/>
            <a:ext cx="4175280" cy="62643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619280" y="404640"/>
            <a:ext cx="3816360" cy="5904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718600" y="4508640"/>
            <a:ext cx="32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Она твердит - га-га, га - 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Кто обидел? Где? Ког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Носит красные ботин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дарит мягкие перин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5:49:39Z</dcterms:created>
  <dc:creator>XTreme</dc:creator>
  <dc:description/>
  <dc:language>en-US</dc:language>
  <cp:lastModifiedBy>Солнышко</cp:lastModifiedBy>
  <dcterms:modified xsi:type="dcterms:W3CDTF">2010-03-22T11:39:25Z</dcterms:modified>
  <cp:revision>11</cp:revision>
  <dc:subject/>
  <dc:title>Слайд 1</dc:title>
</cp:coreProperties>
</file>