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EF0-7991-4C9F-B5AE-850EB83B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2A5-F389-4C58-92F7-4CF318F1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E08-24F5-4467-B0A2-F8FE4C73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928-DCB1-4D9B-9DE7-08EDADE2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7B9-8E83-4F35-A86B-983F4B8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EC8-76EA-4E69-AAD1-CA3D9B54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DBC-3CEE-43EE-87E7-CBCCF4B5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932-B271-4F8E-9156-B9B7722C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C6A-D0AD-410E-8D42-EBE359D3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5D0-CC1E-4E57-97B0-BEB9E62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96B-D0BF-49C6-8B83-EE00A87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00B-33C4-4E87-8642-E6835F18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6EFA-3C02-4045-AD35-F7BEECB77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89000"/>
            <a:ext cx="432144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2144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432144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32144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8:30:06Z</dcterms:created>
  <dc:creator>.</dc:creator>
  <dc:description/>
  <dc:language>en-US</dc:language>
  <cp:lastModifiedBy>.</cp:lastModifiedBy>
  <dcterms:modified xsi:type="dcterms:W3CDTF">2012-11-19T18:30:45Z</dcterms:modified>
  <cp:revision>1</cp:revision>
  <dc:subject/>
  <dc:title>Слайд 1</dc:title>
</cp:coreProperties>
</file>