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489-820A-4B4B-9326-BE8459ECB4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4AA0-CFF6-4E05-B88C-91C0D6B30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98F-C9EC-4DDF-B293-DB85548F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128-06AF-4B24-97A7-3F66297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617-05DD-4FE8-95F4-04923A48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FDC-FF54-423B-B646-8D8A7F21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E7C4-2738-4CB5-A648-3E07A479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83DE-40F7-4218-AC98-65100B6F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5CC-5D62-46C1-A2C6-DE89946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2EE-D230-4FC5-8FD2-C0D4EB4A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CB1-D04F-4C22-9ACE-6DE5BA9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F17A-5F8C-4E38-A976-7FB49FE4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BB3C-BD7F-47CE-B122-3A578D6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94F-C188-4FF4-A460-EC36C89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F19-B044-48A2-92E1-B577A113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47DA-F005-42C7-8AA5-3AB9293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F5B2-9C77-4928-B28D-B2E4850C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5188-3002-432D-BB03-35D66B6B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0D0E-CEBB-471F-A673-DFBF013A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EE6F-9E27-4CA7-BD66-4F203503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A110-730C-4B0C-B496-EDFC114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5319-E9E1-4742-97B8-28AE1695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7D6C-6D0F-4981-8201-C831C485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A81-14E3-4FED-9DBA-7FBFAEB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113-B75B-4960-85B6-9061F41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D89F-B979-4D3D-B079-CC9F42D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37A1-9FF9-4556-A349-8769380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C421-2BF2-4D90-B0ED-08B6E65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4EC8-1B21-438E-80EF-0A1FCBA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3B9A-FD1F-4116-9871-C01C434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8F64-0DE9-46B6-B006-F5C9E4BD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2AAB-6724-49BF-ADFB-D7A1B89F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BE7C-7C22-47EC-8E6D-BF77A2E0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1A6D-B7DB-4FCB-A1C7-371C0B6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C94E-C38A-4985-A650-222DF5A1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B5C-47F2-442B-BA26-918C8270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C470-207A-4DD1-9D6D-EDC06D4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A97D-3201-4D9B-8433-918FD05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6B0E-54DC-407F-A8BB-2CBA3E98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546D-7D8E-4F31-8251-9BEF3BD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7729-169E-4EA8-A10A-C4E5704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2248-A4B4-4665-9797-23CD060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8D88-1112-4D09-A566-6E1AA3C6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9F78-78E9-4151-A683-02D2C6CB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9790-55F2-4F80-8F2C-C3A46FCD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FCF-CD8E-462C-8D7C-725C017A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127-DEFD-433F-B5EE-F684A86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9B0-CEC2-466C-AA40-6F89183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AB5-496A-4B82-A549-70BBEC6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E47-BD07-4E36-B220-E2243FE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00B-DC5C-47F0-8CA2-B8E6D09E92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297-A652-43A5-82F2-076F87ADE8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FD0-B677-494F-A6CD-171C8599C90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641-9E42-4C1A-A5A3-1E610E20B95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3071880" y="536400"/>
            <a:ext cx="5402160" cy="2968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00240" y="3540240"/>
            <a:ext cx="5469120" cy="17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Презентацию подготовила ТКАЧЕНКО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Анастасия, ученица   6  класс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МКОУ «ТООШ»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My lovely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ll live somewhere: in an apartment, in a house, etc. As the English say, "My home - my castle!”. Our house is a place where we spend a lot of time. We strive to set up our home and make it as comfortable as possible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demonstrate our home to others and try to know how other people l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5000" spc="-1" strike="noStrike">
                <a:solidFill>
                  <a:srgbClr val="5c8fe9"/>
                </a:solidFill>
                <a:latin typeface="Calibri"/>
              </a:rPr>
              <a:t>My lovely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ould like to describe my apartment, my "castle". Our family lives in the apartment with two bedrooms and a living room. Our apartment is bright and cozy, though small. Each room is good in its ow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living-room is the largest room in the apartment. There is a large sofa and a coffee table there. There are the bookshelves on the walls. In front of the sofa there is a TV set. This is where our family spends the evening time and welcomes visi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412120" cy="3279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USER\Desktop\IMG00607.jpg"/>
          <p:cNvPicPr/>
          <p:nvPr/>
        </p:nvPicPr>
        <p:blipFill>
          <a:blip r:embed="rId3"/>
          <a:stretch/>
        </p:blipFill>
        <p:spPr>
          <a:xfrm>
            <a:off x="108000" y="3860640"/>
            <a:ext cx="3963960" cy="299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USER\Desktop\IMG00602.jpg"/>
          <p:cNvPicPr/>
          <p:nvPr/>
        </p:nvPicPr>
        <p:blipFill>
          <a:blip r:embed="rId4"/>
          <a:stretch/>
        </p:blipFill>
        <p:spPr>
          <a:xfrm>
            <a:off x="4286160" y="3860640"/>
            <a:ext cx="3714840" cy="2997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119844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In our kitchen there is a set of cases in which we keep our ware,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The cases are bright and br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Also in the kitchen there is a big sink with the t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Over the sink there are shelves where we keep our plates and cups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Users\USER\Desktop\IMG00606.jpg"/>
          <p:cNvPicPr/>
          <p:nvPr/>
        </p:nvPicPr>
        <p:blipFill>
          <a:blip r:embed="rId2"/>
          <a:stretch/>
        </p:blipFill>
        <p:spPr>
          <a:xfrm>
            <a:off x="20520" y="3786120"/>
            <a:ext cx="4551480" cy="3071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:\Users\USER\Desktop\IMG00603.jpg"/>
          <p:cNvPicPr/>
          <p:nvPr/>
        </p:nvPicPr>
        <p:blipFill>
          <a:blip r:embed="rId3"/>
          <a:stretch/>
        </p:blipFill>
        <p:spPr>
          <a:xfrm>
            <a:off x="4643280" y="378612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My favorite place is my room. My room is not really big. My room is a bedroom and a study at the same time. But it is very good and convenient. There is no large number of furniture in it, only things which I need most of a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USER\Desktop\IMG00605.jpg"/>
          <p:cNvPicPr/>
          <p:nvPr/>
        </p:nvPicPr>
        <p:blipFill>
          <a:blip r:embed="rId2"/>
          <a:stretch/>
        </p:blipFill>
        <p:spPr>
          <a:xfrm>
            <a:off x="250920" y="4005360"/>
            <a:ext cx="3786120" cy="282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USER\Desktop\IMG00604.jpg"/>
          <p:cNvPicPr/>
          <p:nvPr/>
        </p:nvPicPr>
        <p:blipFill>
          <a:blip r:embed="rId3"/>
          <a:stretch/>
        </p:blipFill>
        <p:spPr>
          <a:xfrm>
            <a:off x="5435640" y="3933720"/>
            <a:ext cx="3571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437680" cy="3591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USER\Desktop\IMG00608.jpg"/>
          <p:cNvPicPr/>
          <p:nvPr/>
        </p:nvPicPr>
        <p:blipFill>
          <a:blip r:embed="rId3"/>
          <a:stretch/>
        </p:blipFill>
        <p:spPr>
          <a:xfrm>
            <a:off x="179280" y="4029120"/>
            <a:ext cx="3600720" cy="282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USER\Desktop\IMG00609.jpg"/>
          <p:cNvPicPr/>
          <p:nvPr/>
        </p:nvPicPr>
        <p:blipFill>
          <a:blip r:embed="rId4"/>
          <a:stretch/>
        </p:blipFill>
        <p:spPr>
          <a:xfrm>
            <a:off x="5651640" y="4029120"/>
            <a:ext cx="3287520" cy="28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Заголовок 8"/>
          <p:cNvGraphicFramePr/>
          <p:nvPr/>
        </p:nvGraphicFramePr>
        <p:xfrm>
          <a:off x="457200" y="1085760"/>
          <a:ext cx="8229600" cy="28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Заголовок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85760"/>
                    <a:ext cx="82296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10:49Z</dcterms:created>
  <dc:creator>Бойкова Оксана Владимировна</dc:creator>
  <dc:description/>
  <dc:language>en-US</dc:language>
  <cp:lastModifiedBy>я</cp:lastModifiedBy>
  <dcterms:modified xsi:type="dcterms:W3CDTF">2015-03-09T16:07:07Z</dcterms:modified>
  <cp:revision>51</cp:revision>
  <dc:subject/>
  <dc:title>РЫСЬ</dc:title>
</cp:coreProperties>
</file>