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3D5-C021-43A1-9473-BB58D753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72F-81C3-4208-8BBA-A475041A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83C-D077-416B-B6EE-67ED19D2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CB8-0F38-40A0-814F-79384583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67A1-0756-4A09-830C-DBE8DE03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2FEC-CB7B-4D11-8FBA-AA21ED64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3F5D-DBE7-4F95-9489-4812E9EB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7117-EDA2-48ED-AF8B-D3C24B52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9993-DF73-41A1-8DF1-900EC178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D82C-4574-40E0-AC71-B74EB40D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3170-409F-4119-B6BE-C8F959F5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3EF-6ABB-4738-9E1E-C958E0F7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E910-D039-4985-8AA7-C22077F3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3E8E-B23E-4B11-AC07-B57021A4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AC23-7ECA-434D-A64C-3E12B37E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3F35-901E-47B2-8266-8B4DB46C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2908-4739-49C5-B674-95A83D80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60D-CBA3-49FF-8E6D-09E60589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422-13AC-402D-A71E-B12DFF54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D71-D7AB-4264-82FE-084B00E1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7C3-6206-4DBD-A673-590FAC36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43A-1A9F-419B-92CD-65F656AF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E7B-C904-4032-9E8F-34E4BE3A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3DE-6B0A-4083-9FEF-3A5535C8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8A06-6733-416C-8572-F59900DF526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7C99-5720-409C-8F48-6F4C11EFA55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260280"/>
            <a:ext cx="777708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кружающий  ми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1280" y="4653000"/>
            <a:ext cx="439272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клас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476360" y="476280"/>
            <a:ext cx="7199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слов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789400">
            <a:off x="330120" y="2911320"/>
            <a:ext cx="61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ahoma"/>
              </a:rPr>
              <a:t>Деньги счётом креп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0769600">
            <a:off x="900000" y="3499920"/>
            <a:ext cx="718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c400"/>
                </a:solidFill>
                <a:latin typeface="Tahoma"/>
              </a:rPr>
              <a:t>Нелегко деньги нажить, а легко пр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785200">
            <a:off x="1965240" y="45745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Береги денежку на чёрн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8920" y="404640"/>
            <a:ext cx="81500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ahoma"/>
              </a:rPr>
              <a:t>Чтобы доходы семейного бюджета были больше расходов, нуж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труд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2440" y="2308320"/>
            <a:ext cx="718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Больше работаешь – лучше живёш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Лучше живёшь – больше людям даёш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Старым и малым, и тем, кто в нуж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А будет нужно – помогут и т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Помни, мой друг, - в делах не зев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Прибыль свою и страны умнож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Прибыль – трудам и уменью нагр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Как получить её? Думать тут на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Сложно? Не просто! Но ты уж пр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В жизни у нас нет другого пу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124000" y="404640"/>
            <a:ext cx="388800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2276640"/>
            <a:ext cx="5472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получ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 rot="21079200">
            <a:off x="3166920" y="4581360"/>
            <a:ext cx="5437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шей семь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7640" y="76500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ff66ff"/>
                </a:solidFill>
                <a:latin typeface="Tahoma"/>
              </a:rPr>
              <a:t>Что такое бюдж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191628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ahoma"/>
              </a:rPr>
              <a:t>План доходов и расход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924280"/>
            <a:ext cx="114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ahoma"/>
              </a:rPr>
              <a:t>Что такое государственный бюдж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71628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ahoma"/>
              </a:rPr>
              <a:t>План доходов и расход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ahoma"/>
              </a:rPr>
              <a:t>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73360"/>
            <a:ext cx="77929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549360"/>
            <a:ext cx="6408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юдже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3860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e4a8"/>
                </a:solidFill>
                <a:latin typeface="Tahoma"/>
              </a:rPr>
              <a:t>дох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3860640"/>
            <a:ext cx="33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расх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63840" y="234936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835280" y="2421000"/>
            <a:ext cx="122400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35840" y="286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2565360"/>
            <a:ext cx="1081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908000" y="549360"/>
            <a:ext cx="5400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  ур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1280" y="2276640"/>
            <a:ext cx="7561080" cy="35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мей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юдж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35560" y="84780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e4a8"/>
                </a:solidFill>
                <a:latin typeface="Tahoma"/>
              </a:rPr>
              <a:t>Семейный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1628640"/>
            <a:ext cx="16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22050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Заработная 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2205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5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92428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Пен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292428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6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346560"/>
            <a:ext cx="148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Стипе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3371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2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386064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Пособ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на реб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06728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2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360" y="5218200"/>
            <a:ext cx="28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Итого   25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2560" y="15573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рас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66800" y="212256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Проду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43880" y="212256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0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250812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Одежда, обу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255420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1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56000" y="2843280"/>
            <a:ext cx="22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Квартира, с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3059280"/>
            <a:ext cx="18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1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3500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Детский 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7080" y="35164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3922560"/>
            <a:ext cx="184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Проезд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тран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19480" y="392256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2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450864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Кино, теа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450864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2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08560" y="4869000"/>
            <a:ext cx="10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С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4869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515772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Кукл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6560" y="5157720"/>
            <a:ext cx="167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1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08560" y="5748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5516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Кни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84920" y="5516640"/>
            <a:ext cx="167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2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66840" y="615456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Итого    2100 дене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835280" y="476280"/>
            <a:ext cx="6408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коно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2349360"/>
            <a:ext cx="1016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ережливость при расходова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аких-либо сред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3676680"/>
            <a:ext cx="60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На чём можно сэконом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24200" y="4149720"/>
            <a:ext cx="43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Экономия электричества и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50864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Бережно носить одежду и обу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4797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Беречь игр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51721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Беречь школьные принадле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544500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Покупать проездной би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8440" y="5794200"/>
            <a:ext cx="41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Иметь приусадеб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47640" y="765000"/>
            <a:ext cx="6696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иц - опро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916280"/>
            <a:ext cx="64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Что такое семейный бюдж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421000"/>
            <a:ext cx="61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Из каких частей он состо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0760" y="2924280"/>
            <a:ext cx="570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Из чего складывается дох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335772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На что в первую очередь стоит расходовать сред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3480" y="42926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Бывают ли расходы, которые запланировать нельз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3120" y="4724280"/>
            <a:ext cx="722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e4a8"/>
                </a:solidFill>
                <a:latin typeface="Tahoma"/>
              </a:rPr>
              <a:t>На что ещё семья может тратить день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7840" y="5261040"/>
            <a:ext cx="63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Для чего нужен семейный бюдж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734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На какой период надо составлять семейный бюдж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1971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ahoma"/>
              </a:rPr>
              <a:t>Какой бюджет ты считаешь лучш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2200" y="2957400"/>
            <a:ext cx="69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ahoma"/>
              </a:rPr>
              <a:t>а) в котором доходы больше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2320" y="3605040"/>
            <a:ext cx="67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ahoma"/>
              </a:rPr>
              <a:t>б) в котором доходы равны расх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66760" y="4221000"/>
            <a:ext cx="655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ahoma"/>
              </a:rPr>
              <a:t>в) в котором доходы меньше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059280" y="3141720"/>
            <a:ext cx="231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ох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65040" y="1785960"/>
            <a:ext cx="15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Зар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па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0040" y="2649600"/>
            <a:ext cx="15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Поку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лек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3400" y="3944880"/>
            <a:ext cx="15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Зар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ма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4600" y="495288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Ремо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автомоб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42640" y="596124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Покупка кук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1800" y="7779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стипендия сы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836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Пен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дед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7480" y="2073240"/>
            <a:ext cx="17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Поку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987640" y="4149720"/>
            <a:ext cx="259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асх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152880"/>
            <a:ext cx="15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баб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414972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Покуп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компью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5013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Оплата сч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за теле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5960" y="603396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Посещение  ци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06107E-006 L -0.17326 -0.31482 E">
                                      <p:cBhvr>
                                        <p:cTn id="844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648 E">
                                      <p:cBhvr>
                                        <p:cTn id="84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648 E">
                                      <p:cBhvr>
                                        <p:cTn id="84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979 0.46172 E">
                                      <p:cBhvr>
                                        <p:cTn id="85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979 0.46172 E">
                                      <p:cBhvr>
                                        <p:cTn id="85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2986 0.25191 E">
                                      <p:cBhvr>
                                        <p:cTn id="854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2847 0.73444 E">
                                      <p:cBhvr>
                                        <p:cTn id="85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06107E-006 L 0.2757 -0.43025 E">
                                      <p:cBhvr>
                                        <p:cTn id="860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2761 0.05251 E">
                                      <p:cBhvr>
                                        <p:cTn id="86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2761 0.05251 E">
                                      <p:cBhvr>
                                        <p:cTn id="86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8 -0.514 E">
                                      <p:cBhvr>
                                        <p:cTn id="86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553 -0.09461 E">
                                      <p:cBhvr>
                                        <p:cTn id="86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553 -0.09461 E">
                                      <p:cBhvr>
                                        <p:cTn id="87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11:39:31Z</dcterms:created>
  <dc:creator>P H A N T O M</dc:creator>
  <dc:description/>
  <dc:language>en-US</dc:language>
  <cp:lastModifiedBy>P H A N T O M</cp:lastModifiedBy>
  <dcterms:modified xsi:type="dcterms:W3CDTF">2011-12-18T11:39:32Z</dcterms:modified>
  <cp:revision>4</cp:revision>
  <dc:subject/>
  <dc:title>Слайд 1</dc:title>
</cp:coreProperties>
</file>