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6C39-A02C-434B-8E53-3BC250BD0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40B5-384F-416B-9194-4F0C4560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5AA2-E5CD-4C63-BAAA-78FAF5536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FADB-B7D6-48AC-BE36-8C0D14C14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34EE-74BD-47F9-A720-28197E9A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81B0-AFDC-40B6-8F39-389B692B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6C09-A1F0-4FBD-A5DC-604B645F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CA24-68B2-4A40-823A-71DF216B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75D4-B058-4262-BB2C-14611E58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DFC2-16ED-4A5D-B058-081D9F81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98F8-4384-4511-86DF-887A402F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2965-7A78-4AB3-99E1-6B9A71A4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7FC1-B765-4527-9067-0554031C6ECB}" type="slidenum">
              <a:rPr b="0" lang="ru-RU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чимся писать сочинение на ЕГЭ по русскому языку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637000"/>
            <a:ext cx="6400800" cy="30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7375e"/>
                </a:solidFill>
                <a:latin typeface="Calibri"/>
              </a:rPr>
              <a:t>Требования к сочинен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Напишите сочинение по прочитанному тексту. Сформулируйте и прокомментируйте одну из проблем, поставленных автором текста (избегайте чрезмерного цитирования). Сформулируйте позицию автора. Объясните, почему вы согласны или не согласны с автором прочитанного текста. Свой ответ аргументируйте, опираясь на жизненный или читательский опыт (приведите не менее трех аргументов).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69992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вод - это и есть позиция авто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вод (заключение) подводит итог всей работы, поэтому он необходим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вести его в текст помогут следующие типовые конструкции: В итоге я хочу сказать… В заключение важно отметить… Обобщая сказанное, можно сделать вывод… Выходит, что…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69992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учить высокий балл за сочинение –рассуждение на ЕГЭ по русскому языку тебе помогут следующие советы : а) читай как можно больше. б) писать лучше по заранее отработанному тобой плану; в) твоя письменная речь должна быть чёткой и ясной; г) внимательно проверяй сочинение на наличие ошибок. Слова и предложения, в написании которых ты не уверен, лучше заменить; д) внимательно следи за средствами связи предложений в текс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Володя\Pictures\siaphoto_358095.jpg"/>
          <p:cNvPicPr/>
          <p:nvPr/>
        </p:nvPicPr>
        <p:blipFill>
          <a:blip r:embed="rId1"/>
          <a:stretch/>
        </p:blipFill>
        <p:spPr>
          <a:xfrm>
            <a:off x="1214280" y="571680"/>
            <a:ext cx="7000920" cy="5232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дачи на экзамен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и урока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овательные аспект: учить анализировать содержание исходного, подготовить к написанию домашнего сочине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вающий аспект: формировать умение определять основную проблему текста, формулировать авторскую позицию; умение создавать систему аргументов, подтверждающих справедливость выводов этих; стимулировать мыслительную деятельности, творческие способности учащихс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спитательный аспект: формирование гражданской позиции по общественно важным проблемам современности; воспитание чувства сопричастности и ответственности за мир вокруг нас; воспитывать патриотизм, чувство национальной достоин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56800" y="428760"/>
            <a:ext cx="745812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ный план сочин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9640" y="157140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Вступлен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Проблема текс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Комментарий к проблем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Позиция автор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Согласие/несогласие с автор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Аргументация собственного мн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.Вывод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56800" y="428760"/>
            <a:ext cx="745812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такое сочинение-рассужд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9640" y="15717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то тип текс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в котором выдвигается и доказывается тези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зис 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положение, мысль, которую требуется доказ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блема текста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основной вопрос, над которым задумывается авто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. В. ЯБЛО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Aleksej_Yablokov.jpg"/>
          <p:cNvPicPr/>
          <p:nvPr/>
        </p:nvPicPr>
        <p:blipFill>
          <a:blip r:embed="rId1"/>
          <a:stretch/>
        </p:blipFill>
        <p:spPr>
          <a:xfrm>
            <a:off x="2643120" y="1500120"/>
            <a:ext cx="3822840" cy="4586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Основные проблемы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169992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облема взаимоотношения «отцов» и «детей» (какова взаимная ответственность старшего и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молодого поколений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готовность к жизни современной молодёжи (готова ли к жизни современная молодёжь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облема достижения поставленных целей (как добиваться своей мечты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рмулировка позиции авто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169992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таршее поколение несёт ответственность за судьбу своих де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У современной молодёжи наблюдается разрыв между умозрительными представлениями и практической деятельностью, что мешает осуществлению намеченных цел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адо развивать свои душевные качества, надо учиться терпеть и трудиться, чтобы добиться исполнения своей мечты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 такое комментари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149976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мментари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рассуждение, пояснительные замечания по поводу проблемы тек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кстуальный комментарий, выпускник объясняет текст, как бы следуя за авторской мыслью в раскрытии проблем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Запомни!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ересказывать и чрезмерно цитировать текст нельзя! Старайся объяснить, как автор подводит читателя к своей авторской пози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ргумент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ргументац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приведение доказательств, объяснений, примеров для обоснования какой-либо мысли перед слушателями (читателями) или собеседник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ргументы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то доказательства, приводимые в поддержку тезиса: факты, примеры, утверждения, объяснения – словом, все, что может подтвердить тезис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тезиса к аргументам можно поставить вопрос «Почему?», а аргументы отвечают: «Потому что…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6:10:48Z</dcterms:created>
  <dc:creator>Максим</dc:creator>
  <dc:description/>
  <dc:language>en-US</dc:language>
  <cp:lastModifiedBy>Володя</cp:lastModifiedBy>
  <dcterms:modified xsi:type="dcterms:W3CDTF">2015-03-09T14:40:35Z</dcterms:modified>
  <cp:revision>36</cp:revision>
  <dc:subject/>
  <dc:title>Учимся писать сочинение на ЕГЭ по русскому языку</dc:title>
</cp:coreProperties>
</file>