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A24-D2F2-4368-B61D-E62B5BF9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37F-AED4-466A-AC89-773B222D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B52-3CB0-4A61-BCBC-3BFB2E32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5C1-ED5D-4E2C-A09C-F2CC929B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56CC-DE16-4580-B094-8E1DEF39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6CDC-7673-43D2-A223-D3834894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BA7A-877E-49D1-8B9D-F7D7106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7FAA-8E5A-45DD-ABAA-725200C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1BD-3ACE-4DC5-A6DD-B50E2336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899-21D1-4B5D-AFE8-1243D1BA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C619-32F3-4AF5-9481-CCA5E8E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22C-3252-4311-AC2C-54000B1B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A1A-8864-469C-856D-C0DA258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E0C8-D573-464A-B3CE-FD9DE5B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FD8-56B8-44F9-8400-ABDBD25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1A34-9416-4AD0-BDA6-2989A3A9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F78B-6E8B-4580-8682-207BD8EF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4BD1-A906-4C9C-B88D-3D1FAE2F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B23E-8A1C-40F9-94CE-F204545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98A2-5F89-4482-AE71-5E143E6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7B46-6B8D-4A53-BB05-BA78D68A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D958D-84AB-4208-83C8-444FD1F0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2B7-85E5-47B2-8A9F-2F0D4E39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CBA1-60BA-444F-839A-9500A792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5C14F-89C4-4FB2-9CF0-F6DE574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39F1-60CB-40DC-8BAC-FB17F53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EAB6-092A-4ABA-9E3B-5ACAD68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161E-F0AA-4767-98EC-6955183F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7899-3E7F-43E3-BB0E-EA631D50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F742-EC04-4C82-B768-015994A1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CB1A7-B89A-4968-BDC5-C001F201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35C7-BA57-45D2-9E58-A624A6E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F160-C1C6-4E5C-A936-82E63349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3F7-D0ED-417F-8533-A010A02F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AF52-1AC6-48E8-9E5F-EBF63142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8FE3-FC1A-4A02-9CEB-A126E14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473A-AD31-41E7-B972-FD66ED9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476E-E39D-4584-A155-43F40749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D78A-758F-4715-8B1A-4CF5155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D307-DB8E-4144-8F10-7046517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4EDB-4DDE-4B3A-889D-74BB9BC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329E-3656-4ADA-A7BD-9A97F66C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A39C-466D-40FE-82A5-FFA14331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CF7-6101-4887-89AD-460068A2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503-DB20-4855-AAE8-B478C63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588-35D2-4A36-9F56-0350412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967-6A2A-407A-BB67-CAC1BAA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7C5-CB96-48AF-A688-C8155F0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436-AD87-4E87-896B-ACA84057A9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66D0-A671-45F2-B4F8-7AE2423F84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087-4C24-4767-B4AA-1CDBEC6FFA31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5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250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30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5E2-0308-4D8D-AA24-7F459CD25999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440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3/25/747/25747205_1211722968_136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hyperlink" Target="http://images.okazje.info.pl/p/dom-i-ogrod/6167/fiskars-nozyczki-do-haftu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d5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1258920" y="2421000"/>
            <a:ext cx="65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5776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5776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4" name="" descr="Картинка 116 из 15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070600"/>
            <a:ext cx="1650960" cy="1539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826920" y="1916280"/>
            <a:ext cx="5256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К И 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48360" y="4365720"/>
            <a:ext cx="648000" cy="6458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6836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24000" y="476280"/>
            <a:ext cx="8280360" cy="6119640"/>
          </a:xfrm>
          <a:prstGeom prst="bevel">
            <a:avLst>
              <a:gd name="adj" fmla="val 2315"/>
            </a:avLst>
          </a:prstGeom>
          <a:solidFill>
            <a:srgbClr val="babe9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 rot="19644600">
            <a:off x="323640" y="2924280"/>
            <a:ext cx="8208720" cy="115236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344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539640" y="2349360"/>
            <a:ext cx="576108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А К В А Р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rcRect l="0" t="0" r="0" b="10585"/>
          <a:stretch/>
        </p:blipFill>
        <p:spPr>
          <a:xfrm>
            <a:off x="6659640" y="2060640"/>
            <a:ext cx="1728720" cy="295272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46836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95280" y="549360"/>
            <a:ext cx="8280360" cy="6119640"/>
          </a:xfrm>
          <a:prstGeom prst="bevel">
            <a:avLst>
              <a:gd name="adj" fmla="val 2315"/>
            </a:avLst>
          </a:prstGeom>
          <a:solidFill>
            <a:srgbClr val="babe9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611280" y="765000"/>
            <a:ext cx="7848360" cy="568836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344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745080" cy="263988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sp>
        <p:nvSpPr>
          <p:cNvPr id="506" name=""/>
          <p:cNvSpPr txBox="1"/>
          <p:nvPr/>
        </p:nvSpPr>
        <p:spPr>
          <a:xfrm>
            <a:off x="4067280" y="2637000"/>
            <a:ext cx="4762440" cy="22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9e4a"/>
                </a:solidFill>
                <a:latin typeface="Arial"/>
              </a:rPr>
              <a:t>Н И Ц 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09e4a"/>
              </a:solidFill>
              <a:latin typeface="Arial"/>
              <a:ea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6836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95280" y="476280"/>
            <a:ext cx="8280360" cy="6119640"/>
          </a:xfrm>
          <a:prstGeom prst="bevel">
            <a:avLst>
              <a:gd name="adj" fmla="val 2315"/>
            </a:avLst>
          </a:prstGeom>
          <a:solidFill>
            <a:srgbClr val="babe9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Картинка 104 из 8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692280"/>
            <a:ext cx="7848360" cy="568800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</p:spTree>
  </p:cSld>
  <p:transition spd="slow">
    <p:plus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344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348000" y="765000"/>
            <a:ext cx="2959200" cy="23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ПЕ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635280" y="3789360"/>
            <a:ext cx="1878120" cy="23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Л</a:t>
            </a:r>
            <a:endParaRPr b="0" lang="en-US" sz="6600" spc="1" strike="noStrike">
              <a:ln w="9360">
                <a:solidFill>
                  <a:srgbClr val="006666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84360" y="3429000"/>
            <a:ext cx="4824360" cy="0"/>
          </a:xfrm>
          <a:prstGeom prst="line">
            <a:avLst/>
          </a:prstGeom>
          <a:ln w="763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6836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468360" y="404640"/>
            <a:ext cx="8280360" cy="6120000"/>
          </a:xfrm>
          <a:prstGeom prst="bevel">
            <a:avLst>
              <a:gd name="adj" fmla="val 2315"/>
            </a:avLst>
          </a:prstGeom>
          <a:solidFill>
            <a:srgbClr val="babe9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84836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344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492360" y="2276640"/>
            <a:ext cx="2376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9e4a"/>
                </a:solidFill>
                <a:latin typeface="Arial"/>
              </a:rPr>
              <a:t>Ф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09e4a"/>
              </a:solidFill>
              <a:latin typeface="Arial"/>
              <a:ea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rcRect l="0" t="0" r="0" b="10585"/>
          <a:stretch/>
        </p:blipFill>
        <p:spPr>
          <a:xfrm>
            <a:off x="6443640" y="2060640"/>
            <a:ext cx="1728720" cy="295272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46836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826920" y="2349360"/>
            <a:ext cx="2160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9e4a"/>
                </a:solidFill>
                <a:latin typeface="Arial"/>
              </a:rPr>
              <a:t>Р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09e4a"/>
              </a:solidFill>
              <a:latin typeface="Arial"/>
              <a:ea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4438800"/>
            <a:ext cx="276480" cy="44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00000" y="3141720"/>
            <a:ext cx="27648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00000" y="3718080"/>
            <a:ext cx="276480" cy="44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000" y="2565360"/>
            <a:ext cx="27648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476360" y="2349360"/>
            <a:ext cx="239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052720" y="2349360"/>
            <a:ext cx="239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57440" y="2638440"/>
            <a:ext cx="239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629080" y="3214800"/>
            <a:ext cx="239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125800" y="3646440"/>
            <a:ext cx="239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5080" y="3646440"/>
            <a:ext cx="239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8360" y="549360"/>
            <a:ext cx="8280360" cy="6119640"/>
          </a:xfrm>
          <a:prstGeom prst="bevel">
            <a:avLst>
              <a:gd name="adj" fmla="val 2315"/>
            </a:avLst>
          </a:prstGeom>
          <a:solidFill>
            <a:srgbClr val="babe9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Картинка 65 из 1123"/>
          <p:cNvPicPr/>
          <p:nvPr/>
        </p:nvPicPr>
        <p:blipFill>
          <a:blip r:embed="rId3"/>
          <a:stretch/>
        </p:blipFill>
        <p:spPr>
          <a:xfrm>
            <a:off x="611280" y="695160"/>
            <a:ext cx="7921440" cy="5829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3344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50920" y="4048200"/>
            <a:ext cx="3529080" cy="2557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Картинка 104 из 84000"/>
          <p:cNvPicPr/>
          <p:nvPr/>
        </p:nvPicPr>
        <p:blipFill>
          <a:blip r:embed="rId2"/>
          <a:stretch/>
        </p:blipFill>
        <p:spPr>
          <a:xfrm>
            <a:off x="4716360" y="3789360"/>
            <a:ext cx="3600720" cy="261000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3743280" cy="271152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pic>
        <p:nvPicPr>
          <p:cNvPr id="535" name="" descr="Картинка 65 из 1123"/>
          <p:cNvPicPr/>
          <p:nvPr/>
        </p:nvPicPr>
        <p:blipFill>
          <a:blip r:embed="rId4"/>
          <a:stretch/>
        </p:blipFill>
        <p:spPr>
          <a:xfrm>
            <a:off x="539640" y="981000"/>
            <a:ext cx="3241800" cy="2386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05092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224365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01:37Z</dcterms:created>
  <dc:creator>XTreme</dc:creator>
  <dc:description/>
  <dc:language>en-US</dc:language>
  <cp:lastModifiedBy>Солнышко</cp:lastModifiedBy>
  <dcterms:modified xsi:type="dcterms:W3CDTF">2011-03-23T14:48:45Z</dcterms:modified>
  <cp:revision>14</cp:revision>
  <dc:subject/>
  <dc:title>Слайд 1</dc:title>
</cp:coreProperties>
</file>