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DF2-EE8A-4614-B04B-4996528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1AF-71CB-4D02-B08F-689B34B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DD0-DB46-4DAD-9682-DB80FA20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170-5B28-4FC1-918D-F5D01552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3B1-4BDA-4543-9186-E539A852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9F7-D888-4A61-8A4A-06D6A4F7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DB6-F658-4D20-81ED-4A4BA4F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FFF-50D9-4B8E-B0BC-98725F9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B0E-2DAF-495A-A736-225B749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304-65B1-448F-89C4-D89F02A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2ED-4758-495B-B80C-0686118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BC0-7C91-48DE-AD94-9E9B780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1567-C22E-4216-A7C3-4C4638917A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80808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753480" cy="726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Семейная гостиная 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«Мой малыш день за днём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658800" y="185760"/>
            <a:ext cx="3384720" cy="253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44" name="Oval 11"/>
          <p:cNvSpPr/>
          <p:nvPr/>
        </p:nvSpPr>
        <p:spPr>
          <a:xfrm rot="307200">
            <a:off x="5790960" y="96840"/>
            <a:ext cx="3382920" cy="253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45" name="Oval 12"/>
          <p:cNvSpPr/>
          <p:nvPr/>
        </p:nvSpPr>
        <p:spPr>
          <a:xfrm rot="181200">
            <a:off x="6011640" y="3933360"/>
            <a:ext cx="3456000" cy="259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46" name="Oval 13"/>
          <p:cNvSpPr/>
          <p:nvPr/>
        </p:nvSpPr>
        <p:spPr>
          <a:xfrm rot="21186600">
            <a:off x="539280" y="4076280"/>
            <a:ext cx="3457800" cy="2594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Формы работы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ус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на релаксац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ческие, творческие, ролевые игры, этюды и т.д. с приглашением  специалистов соответствующей компетен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о- педагогический консультативных пункт «Поддержк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очта довер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вижная библиотека, игротека, видеот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лективная творческая деятельность: творческие семейные проекты, праздники семь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ая газета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нёздышко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кле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тер- клас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ая мастер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йные проекты и конкурсы, спектакл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еля семьи в групп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и в непринуждённой обстанов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10" descr=""/>
          <p:cNvPicPr/>
          <p:nvPr/>
        </p:nvPicPr>
        <p:blipFill>
          <a:blip r:embed="rId2"/>
          <a:stretch/>
        </p:blipFill>
        <p:spPr>
          <a:xfrm rot="315000">
            <a:off x="6588000" y="4365360"/>
            <a:ext cx="2005200" cy="1536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2" descr=""/>
          <p:cNvPicPr/>
          <p:nvPr/>
        </p:nvPicPr>
        <p:blipFill>
          <a:blip r:embed="rId3"/>
          <a:stretch/>
        </p:blipFill>
        <p:spPr>
          <a:xfrm>
            <a:off x="6732720" y="549360"/>
            <a:ext cx="1533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Мастер-класс 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«Семейные традиц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4" descr="F:\Фото.Орленок\25.03.11 Спорт.праздник\Изображение 334.jpg"/>
          <p:cNvPicPr/>
          <p:nvPr/>
        </p:nvPicPr>
        <p:blipFill>
          <a:blip r:embed="rId2"/>
          <a:stretch/>
        </p:blipFill>
        <p:spPr>
          <a:xfrm rot="20961600">
            <a:off x="1087200" y="1653840"/>
            <a:ext cx="2628720" cy="1963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F:\Фото.Орленок\25.03.11 Спорт.праздник\Изображение 356.jpg"/>
          <p:cNvPicPr/>
          <p:nvPr/>
        </p:nvPicPr>
        <p:blipFill>
          <a:blip r:embed="rId3"/>
          <a:stretch/>
        </p:blipFill>
        <p:spPr>
          <a:xfrm rot="612000">
            <a:off x="6017760" y="1724040"/>
            <a:ext cx="2706840" cy="1984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C:\Documents and Settings\z\Local Settings\Temporary Internet Files\Content.Word\IMG_1297.jpg"/>
          <p:cNvPicPr/>
          <p:nvPr/>
        </p:nvPicPr>
        <p:blipFill>
          <a:blip r:embed="rId4"/>
          <a:stretch/>
        </p:blipFill>
        <p:spPr>
          <a:xfrm>
            <a:off x="1214280" y="3857760"/>
            <a:ext cx="300060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C:\Documents and Settings\z\Local Settings\Temporary Internet Files\Content.Word\IMG_1292.jpg"/>
          <p:cNvPicPr/>
          <p:nvPr/>
        </p:nvPicPr>
        <p:blipFill>
          <a:blip r:embed="rId5"/>
          <a:stretch/>
        </p:blipFill>
        <p:spPr>
          <a:xfrm>
            <a:off x="5572080" y="3929040"/>
            <a:ext cx="2981520" cy="2357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D:\Детский сад\Афанасьева И.Г.Орлёнок\25.03.11 Спорт.праздник\Изображение 364.jpg"/>
          <p:cNvPicPr/>
          <p:nvPr/>
        </p:nvPicPr>
        <p:blipFill>
          <a:blip r:embed="rId6"/>
          <a:stretch/>
        </p:blipFill>
        <p:spPr>
          <a:xfrm>
            <a:off x="3786120" y="242892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Семейная гостиная 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«Маму очень я любл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9" descr="C:\Documents and Settings\z\Local Settings\Temporary Internet Files\Content.Word\DSC_0070.jpg"/>
          <p:cNvPicPr/>
          <p:nvPr/>
        </p:nvPicPr>
        <p:blipFill>
          <a:blip r:embed="rId2"/>
          <a:stretch/>
        </p:blipFill>
        <p:spPr>
          <a:xfrm rot="20681400">
            <a:off x="611280" y="1915920"/>
            <a:ext cx="2992320" cy="1763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D:\фотоальбомы\2010-2011 учебный год\Праздник 1 мл1\DSC_0076.jpg"/>
          <p:cNvPicPr/>
          <p:nvPr/>
        </p:nvPicPr>
        <p:blipFill>
          <a:blip r:embed="rId3"/>
          <a:stretch/>
        </p:blipFill>
        <p:spPr>
          <a:xfrm rot="965400">
            <a:off x="6156360" y="1844640"/>
            <a:ext cx="2658960" cy="1766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IMG_3760"/>
          <p:cNvPicPr/>
          <p:nvPr/>
        </p:nvPicPr>
        <p:blipFill>
          <a:blip r:embed="rId4"/>
          <a:stretch/>
        </p:blipFill>
        <p:spPr>
          <a:xfrm>
            <a:off x="3857760" y="3571920"/>
            <a:ext cx="2360520" cy="2671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5"/>
          <a:stretch/>
        </p:blipFill>
        <p:spPr>
          <a:xfrm>
            <a:off x="4067280" y="1484280"/>
            <a:ext cx="1500120" cy="187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4" descr=""/>
          <p:cNvPicPr/>
          <p:nvPr/>
        </p:nvPicPr>
        <p:blipFill>
          <a:blip r:embed="rId6"/>
          <a:stretch/>
        </p:blipFill>
        <p:spPr>
          <a:xfrm>
            <a:off x="1476360" y="4437000"/>
            <a:ext cx="1725480" cy="1752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"/>
          <p:cNvPicPr/>
          <p:nvPr/>
        </p:nvPicPr>
        <p:blipFill>
          <a:blip r:embed="rId7"/>
          <a:stretch/>
        </p:blipFill>
        <p:spPr>
          <a:xfrm>
            <a:off x="6948360" y="4437000"/>
            <a:ext cx="1571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Творческая мастер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6" descr="C:\Documents and Settings\z\Local Settings\Temporary Internet Files\Content.Word\P1060731.jpg"/>
          <p:cNvPicPr/>
          <p:nvPr/>
        </p:nvPicPr>
        <p:blipFill>
          <a:blip r:embed="rId2"/>
          <a:stretch/>
        </p:blipFill>
        <p:spPr>
          <a:xfrm>
            <a:off x="3814920" y="1692360"/>
            <a:ext cx="1695240" cy="2270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F:\Новая папка\P1060723.JPG"/>
          <p:cNvPicPr/>
          <p:nvPr/>
        </p:nvPicPr>
        <p:blipFill>
          <a:blip r:embed="rId3"/>
          <a:stretch/>
        </p:blipFill>
        <p:spPr>
          <a:xfrm rot="550800">
            <a:off x="6205320" y="1901880"/>
            <a:ext cx="249876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F:\Новая папка\P1060720.JPG"/>
          <p:cNvPicPr/>
          <p:nvPr/>
        </p:nvPicPr>
        <p:blipFill>
          <a:blip r:embed="rId4"/>
          <a:stretch/>
        </p:blipFill>
        <p:spPr>
          <a:xfrm rot="20809800">
            <a:off x="677520" y="1911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D:\Детский сад\Афанасьева И.Г.Орлёнок\Новая папка\P1060728.JPG"/>
          <p:cNvPicPr/>
          <p:nvPr/>
        </p:nvPicPr>
        <p:blipFill>
          <a:blip r:embed="rId5"/>
          <a:stretch/>
        </p:blipFill>
        <p:spPr>
          <a:xfrm rot="436800">
            <a:off x="5489640" y="419076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F:\Новая папка\P1060722.JPG"/>
          <p:cNvPicPr/>
          <p:nvPr/>
        </p:nvPicPr>
        <p:blipFill>
          <a:blip r:embed="rId6"/>
          <a:stretch/>
        </p:blipFill>
        <p:spPr>
          <a:xfrm rot="21037200">
            <a:off x="958320" y="4233600"/>
            <a:ext cx="3164040" cy="2382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7"/>
          <a:stretch/>
        </p:blipFill>
        <p:spPr>
          <a:xfrm>
            <a:off x="4143240" y="4643280"/>
            <a:ext cx="1428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2786040" y="2286000"/>
            <a:ext cx="3835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onotype Corsiva"/>
              </a:rPr>
              <a:t>Родитель- это художник, а ребенок- это произведение искусства,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Monotype Corsiva"/>
              </a:rPr>
              <a:t>подлинность которого можно оценить через много лет. Что</a:t>
            </a: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 может быть ценнее, выше, значимее, чем семья?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Семья с хорошими корнями, с добрыми традициями?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285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00080"/>
              </a:solidFill>
              <a:latin typeface="Monotype Corsiva"/>
            </a:endParaRPr>
          </a:p>
        </p:txBody>
      </p:sp>
      <p:pic>
        <p:nvPicPr>
          <p:cNvPr id="50" name="Рисунок 4" descr="C:\Documents and Settings\z\Local Settings\Temporary Internet Files\Content.Word\DSC_0078.jpg"/>
          <p:cNvPicPr/>
          <p:nvPr/>
        </p:nvPicPr>
        <p:blipFill>
          <a:blip r:embed="rId2"/>
          <a:stretch/>
        </p:blipFill>
        <p:spPr>
          <a:xfrm rot="703200">
            <a:off x="5736960" y="2895480"/>
            <a:ext cx="2757240" cy="2613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C:\Documents and Settings\z\Local Settings\Temporary Internet Files\Content.Word\Изображение 378.jpg"/>
          <p:cNvPicPr/>
          <p:nvPr/>
        </p:nvPicPr>
        <p:blipFill>
          <a:blip r:embed="rId3"/>
          <a:stretch/>
        </p:blipFill>
        <p:spPr>
          <a:xfrm rot="20823600">
            <a:off x="833400" y="2898360"/>
            <a:ext cx="2581200" cy="262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4"/>
          <a:stretch/>
        </p:blipFill>
        <p:spPr>
          <a:xfrm>
            <a:off x="3643200" y="4643280"/>
            <a:ext cx="1571760" cy="2000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D:\Детский сад\Афанасьева И.Г.Орлёнок\семицветик\P1040736.JPG"/>
          <p:cNvPicPr/>
          <p:nvPr/>
        </p:nvPicPr>
        <p:blipFill>
          <a:blip r:embed="rId5"/>
          <a:stretch/>
        </p:blipFill>
        <p:spPr>
          <a:xfrm>
            <a:off x="3786120" y="2643120"/>
            <a:ext cx="1509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285840" y="-40968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Monotype Corsiva"/>
              </a:rPr>
              <a:t>Цель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разработать и апробировать модель взаимодействия «детский сад- семья» на основе интеграции всех субъектов, участвующих в воспитательно - образовательном процессе путем создания семейной гости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«Мой малыш день за днём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5" descr="D:\Детский сад\Афанасьева И.Г.Орлёнок\семицветик\P1060694.JPG"/>
          <p:cNvPicPr/>
          <p:nvPr/>
        </p:nvPicPr>
        <p:blipFill>
          <a:blip r:embed="rId2"/>
          <a:stretch/>
        </p:blipFill>
        <p:spPr>
          <a:xfrm>
            <a:off x="214200" y="4286160"/>
            <a:ext cx="2643480" cy="2162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D:\Детский сад\Афанасьева И.Г.Орлёнок\семицветик\P1060589.JPG"/>
          <p:cNvPicPr/>
          <p:nvPr/>
        </p:nvPicPr>
        <p:blipFill>
          <a:blip r:embed="rId3"/>
          <a:stretch/>
        </p:blipFill>
        <p:spPr>
          <a:xfrm>
            <a:off x="3429000" y="4714920"/>
            <a:ext cx="2333520" cy="1751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D:\Детский сад\Афанасьева И.Г.Орлёнок\семицветик\P1060656.JPG"/>
          <p:cNvPicPr/>
          <p:nvPr/>
        </p:nvPicPr>
        <p:blipFill>
          <a:blip r:embed="rId4"/>
          <a:stretch/>
        </p:blipFill>
        <p:spPr>
          <a:xfrm>
            <a:off x="6286680" y="4500720"/>
            <a:ext cx="30445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267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Monotype Corsiva"/>
              </a:rPr>
              <a:t>Задач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*вовлечение родителей в единое образовательное пространство «ребёнок - педагог-семья», создавая атмосферу заинтересованности и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повышение уровня родительской рефлексии как компонента субъектной позиции родителя в семейных взаимоотнош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формирование  мотивации и потребности  молодых родителей в познании себя и сво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формирование у семей  культуры семейных взаимоотношений путём формирования положительных установок детско - родительских отно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возрождение нравственно-этических норм и традиций семейного укл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закрепление  опыта социального поведения семей, обеспечивающее поддержание статуса сем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повышение профессионального уровня педагогов ДОУ в рамках реализации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пропаганда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7" descr=""/>
          <p:cNvPicPr/>
          <p:nvPr/>
        </p:nvPicPr>
        <p:blipFill>
          <a:blip r:embed="rId2"/>
          <a:stretch/>
        </p:blipFill>
        <p:spPr>
          <a:xfrm>
            <a:off x="714240" y="642960"/>
            <a:ext cx="135756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"/>
          <p:cNvPicPr/>
          <p:nvPr/>
        </p:nvPicPr>
        <p:blipFill>
          <a:blip r:embed="rId3"/>
          <a:stretch/>
        </p:blipFill>
        <p:spPr>
          <a:xfrm>
            <a:off x="3786120" y="5286240"/>
            <a:ext cx="22766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483000" y="2295360"/>
            <a:ext cx="2394000" cy="1833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Целе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9"/>
          <p:cNvSpPr/>
          <p:nvPr/>
        </p:nvSpPr>
        <p:spPr>
          <a:xfrm rot="17979000">
            <a:off x="5590080" y="2554920"/>
            <a:ext cx="3003840" cy="11509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68" name="Freeform 10"/>
          <p:cNvSpPr/>
          <p:nvPr/>
        </p:nvSpPr>
        <p:spPr>
          <a:xfrm rot="899400">
            <a:off x="3563640" y="4724280"/>
            <a:ext cx="3025800" cy="12002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69" name="Freeform 11"/>
          <p:cNvSpPr/>
          <p:nvPr/>
        </p:nvSpPr>
        <p:spPr>
          <a:xfrm rot="9678600">
            <a:off x="971280" y="1341360"/>
            <a:ext cx="3600360" cy="133344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0" y="2924280"/>
            <a:ext cx="2987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Monotype Corsiva"/>
              </a:rPr>
              <a:t>Воспитатели группы «Семицветик»</a:t>
            </a:r>
            <a:endParaRPr b="1" i="1" lang="en-US" sz="2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Monotype Corsiva"/>
              </a:rPr>
              <a:t>специалисты </a:t>
            </a:r>
            <a:endParaRPr b="1" i="1" lang="en-US" sz="2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Monotype Corsiva"/>
              </a:rPr>
              <a:t>ДОУ «Орлёнок»</a:t>
            </a:r>
            <a:endParaRPr b="1" i="1" lang="en-US" sz="28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902200" y="4292640"/>
            <a:ext cx="3241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Воспитанники группы «Семицветик»</a:t>
            </a:r>
            <a:endParaRPr b="1" i="1" lang="en-US" sz="3200" spc="-1" strike="noStrike">
              <a:solidFill>
                <a:srgbClr val="808080"/>
              </a:solidFill>
              <a:latin typeface="Monotype Corsiva"/>
            </a:endParaRPr>
          </a:p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364000" y="692280"/>
            <a:ext cx="259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Семьи воспитанников</a:t>
            </a:r>
            <a:r>
              <a:rPr b="1" i="1" lang="ru-RU" sz="32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1" i="1" lang="en-US" sz="3200" spc="-1" strike="noStrike">
              <a:solidFill>
                <a:srgbClr val="80808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67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667680" y="2446920"/>
            <a:ext cx="2240640" cy="1171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ие и внешние потенциалы 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 rot="10586400">
            <a:off x="1187280" y="1628280"/>
            <a:ext cx="2516400" cy="79236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6" name="Freeform 8"/>
          <p:cNvSpPr/>
          <p:nvPr/>
        </p:nvSpPr>
        <p:spPr>
          <a:xfrm rot="12781800">
            <a:off x="4500360" y="1341000"/>
            <a:ext cx="2192040" cy="83520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7" name="Freeform 9"/>
          <p:cNvSpPr/>
          <p:nvPr/>
        </p:nvSpPr>
        <p:spPr>
          <a:xfrm rot="19754400">
            <a:off x="5724000" y="3068280"/>
            <a:ext cx="2448000" cy="811080"/>
          </a:xfrm>
          <a:prstGeom prst="pie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8" name="Freeform 10"/>
          <p:cNvSpPr/>
          <p:nvPr/>
        </p:nvSpPr>
        <p:spPr>
          <a:xfrm rot="2750400">
            <a:off x="3735360" y="4336560"/>
            <a:ext cx="1873440" cy="92088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79" name="Freeform 11"/>
          <p:cNvSpPr/>
          <p:nvPr/>
        </p:nvSpPr>
        <p:spPr>
          <a:xfrm rot="8464200">
            <a:off x="1115640" y="3429000"/>
            <a:ext cx="2381400" cy="9367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0" y="765000"/>
            <a:ext cx="1979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Состояние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воспитательно- обучающего помещения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84360" y="4869000"/>
            <a:ext cx="2376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Любовь, эмоциональная насыщенность, энергия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24000" y="2708280"/>
            <a:ext cx="18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Психологическая безопасность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4716360" y="5516640"/>
            <a:ext cx="1828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Положительный настрой на собственные изменения 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877080" y="400536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Диалог, 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ежедневное тесное общение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315200" y="2060640"/>
            <a:ext cx="1828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Социальный опыт 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6300720" y="1052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Желание сохранить семью полной и счастливой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411280" y="404640"/>
            <a:ext cx="2129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Monotype Corsiva"/>
              </a:rPr>
              <a:t>История семьи, родственные связи, традиции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Основополагающие принцип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принцип диалога двух миров: детского и взросл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принцип коммуника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коллективное взаимодействие и партне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личностная ориентация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Monotype Corsiva"/>
              </a:rPr>
              <a:t>моделирование и  совместная творче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6" descr=""/>
          <p:cNvPicPr/>
          <p:nvPr/>
        </p:nvPicPr>
        <p:blipFill>
          <a:blip r:embed="rId2"/>
          <a:stretch/>
        </p:blipFill>
        <p:spPr>
          <a:xfrm>
            <a:off x="3500280" y="4857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Стратегия 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достижения поставленных це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Реализация проекта по направления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50920" y="2275560"/>
            <a:ext cx="629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 родителей использованию 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их собственных ресурсов для сохранения семьи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474920" y="3499560"/>
            <a:ext cx="62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культуры общения 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родителями в условиях реализации проекта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350080" y="4651920"/>
            <a:ext cx="679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ение профессионального уровня педагогов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У в рамках развития пространства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ебенок- педагог- семья»</a:t>
            </a:r>
            <a:endParaRPr b="1" i="1" lang="en-US" sz="2000" spc="-1" strike="noStrike">
              <a:solidFill>
                <a:srgbClr val="808080"/>
              </a:solidFill>
              <a:latin typeface="Monotype Corsiva"/>
            </a:endParaRPr>
          </a:p>
        </p:txBody>
      </p:sp>
      <p:pic>
        <p:nvPicPr>
          <p:cNvPr id="98" name="Рисунок 9" descr=""/>
          <p:cNvPicPr/>
          <p:nvPr/>
        </p:nvPicPr>
        <p:blipFill>
          <a:blip r:embed="rId2"/>
          <a:stretch/>
        </p:blipFill>
        <p:spPr>
          <a:xfrm>
            <a:off x="428760" y="5286240"/>
            <a:ext cx="192852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"/>
          <p:cNvPicPr/>
          <p:nvPr/>
        </p:nvPicPr>
        <p:blipFill>
          <a:blip r:embed="rId3"/>
          <a:stretch/>
        </p:blipFill>
        <p:spPr>
          <a:xfrm>
            <a:off x="7358040" y="2214720"/>
            <a:ext cx="1428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753480" cy="72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Реализация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80"/>
                </a:solidFill>
                <a:latin typeface="Arial"/>
              </a:rPr>
              <a:t>Подготовительный этап: (1 июня -1 сентября 2010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детей, знакомство с семь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ация к детскому саду (в том числе и семейна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8000" y="2939040"/>
            <a:ext cx="5903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80"/>
                </a:solidFill>
                <a:latin typeface="Arial"/>
              </a:rPr>
              <a:t>Диагностический этап: </a:t>
            </a:r>
            <a:endParaRPr b="1" i="1" lang="en-US" sz="16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диагности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июля- 1 сентября 2010г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здание системы мониторинга: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ая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89160" y="5092560"/>
            <a:ext cx="40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1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1600" spc="-1" strike="noStrike">
                <a:solidFill>
                  <a:srgbClr val="800080"/>
                </a:solidFill>
                <a:latin typeface="Arial"/>
              </a:rPr>
              <a:t>Практический  этап:</a:t>
            </a:r>
            <a:endParaRPr b="1" i="1" lang="en-US" sz="16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1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 сентября 2010г. - 31 мая 2012г.)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1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ограмма мероприятий</a:t>
            </a: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1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808080"/>
              </a:solidFill>
              <a:latin typeface="Monotype Corsiva"/>
            </a:endParaRPr>
          </a:p>
        </p:txBody>
      </p:sp>
      <p:pic>
        <p:nvPicPr>
          <p:cNvPr id="105" name="Рисунок 7" descr="D:\Детский сад\Афанасьева И.Г.Орлёнок\семицветик\P1050270.JPG"/>
          <p:cNvPicPr/>
          <p:nvPr/>
        </p:nvPicPr>
        <p:blipFill>
          <a:blip r:embed="rId2"/>
          <a:stretch/>
        </p:blipFill>
        <p:spPr>
          <a:xfrm rot="712800">
            <a:off x="6966000" y="1428480"/>
            <a:ext cx="2178000" cy="1714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D:\Детский сад\Афанасьева И.Г.Орлёнок\семицветик\P1040750.JPG"/>
          <p:cNvPicPr/>
          <p:nvPr/>
        </p:nvPicPr>
        <p:blipFill>
          <a:blip r:embed="rId3"/>
          <a:stretch/>
        </p:blipFill>
        <p:spPr>
          <a:xfrm rot="4635600">
            <a:off x="6082560" y="299052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D:\Детский сад\Афанасьева И.Г.Орлёнок\семицветик\P1060656.JPG"/>
          <p:cNvPicPr/>
          <p:nvPr/>
        </p:nvPicPr>
        <p:blipFill>
          <a:blip r:embed="rId4"/>
          <a:stretch/>
        </p:blipFill>
        <p:spPr>
          <a:xfrm rot="847200">
            <a:off x="7022880" y="4820760"/>
            <a:ext cx="224136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9:39:13Z</dcterms:created>
  <dc:creator>Z</dc:creator>
  <dc:description/>
  <dc:language>en-US</dc:language>
  <cp:lastModifiedBy>ReSeller</cp:lastModifiedBy>
  <dcterms:modified xsi:type="dcterms:W3CDTF">2015-03-09T15:59:27Z</dcterms:modified>
  <cp:revision>29</cp:revision>
  <dc:subject/>
  <dc:title>Семейная гостиная  «Мой малыш день за днём»</dc:title>
</cp:coreProperties>
</file>