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173-A7A5-483E-979C-4FB6AC6C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EA2-5932-44F3-A53E-DA48DBDE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167-8DB5-4058-8CED-16F40E42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F0E-4637-43E0-8482-694702FF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0D81-2F93-44F5-A7AF-C324B6B6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9EFF-9A4D-4928-8151-0C7A6C54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F253-EABC-434F-B2BD-058E9232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E857-990A-4E2E-B2A6-98A046B7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104D-09A1-4F7F-A943-DBC9EC6D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1949-09A1-45FD-A06F-82A59BE7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F682-7123-4480-AB88-ECCCB247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058-B5D5-4EFA-BD17-5B2B6365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D207-7D63-4547-89D2-68AD5E51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6E8C-8D52-4186-8495-D146F40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2082-EBF8-4FC6-B4C8-6F3C587E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EE44-02DA-43B6-AD20-36C4EBCB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8396-94A4-41FC-BB96-57C4550E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B35-1DF5-444C-B554-4748E20D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674-AEB6-4BBA-833A-14A76E7B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5E7-F5D4-46E4-926D-6D30E052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880-E2B6-49B0-AAFD-0E240E33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335-45C0-4622-8525-7931F930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3CD-AFBA-415F-9D19-74A70421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A9A-C2DE-44B4-8548-F6608A9B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D431-CC3F-422A-B81C-E0BD97128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88A-694F-43DD-AA70-D8F769DD2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Школьный Проект: «Лесные Звери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тукатуров Оле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 еще зайцы могут быть домашними любимцами. Их называют- Крол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09564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4:09:10Z</dcterms:created>
  <dc:creator>Михайловна</dc:creator>
  <dc:description/>
  <dc:language>en-US</dc:language>
  <cp:lastModifiedBy>Михайловна</cp:lastModifiedBy>
  <dcterms:modified xsi:type="dcterms:W3CDTF">2015-03-09T14:12:46Z</dcterms:modified>
  <cp:revision>1</cp:revision>
  <dc:subject/>
  <dc:title>Школьный Проект: «Лесные Звер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