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850-E51B-4EBB-9E68-139DEC8D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B8B-C97E-4621-8426-14A37990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D68-7561-464E-BE51-F51EEF2E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7F7-F72A-4E7F-B6D1-72084100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E36-363E-41E6-89EA-D4253070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2C9-92AC-49FA-8D60-A5EE837C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1F6-046E-4E21-B4D3-16EF0AC1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239-A4BC-4D37-B083-A359C2C3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D51-2920-4E9F-80F4-36F7E0B2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041-DED1-4523-A7C9-3254A5A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1E5-E50F-4605-86DF-81E036C1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1D8-8B2A-42CC-B596-36B9AB0B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52AC-529C-45C7-B1E3-5034B26438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ст по теме: «Гимнастика и элементы акробатики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5" descr="C:\Users\Noodles\Desktop\ubvyfcnbrf.png"/>
          <p:cNvPicPr/>
          <p:nvPr/>
        </p:nvPicPr>
        <p:blipFill>
          <a:blip r:embed="rId1"/>
          <a:stretch/>
        </p:blipFill>
        <p:spPr>
          <a:xfrm>
            <a:off x="1295280" y="1828800"/>
            <a:ext cx="708048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Вопрос №8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кой кувырок изображён на рисунке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4" descr="Image4"/>
          <p:cNvPicPr/>
          <p:nvPr/>
        </p:nvPicPr>
        <p:blipFill>
          <a:blip r:embed="rId1"/>
          <a:stretch/>
        </p:blipFill>
        <p:spPr>
          <a:xfrm>
            <a:off x="1600200" y="3352680"/>
            <a:ext cx="6421320" cy="1378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2590920" y="205740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– кувырок 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 – кувырок вперё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– перекат вперёд, 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Вопрос №9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каком рисунке изображена стойка на лопатках перекатом назад из упора присев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4" descr="Image5"/>
          <p:cNvPicPr/>
          <p:nvPr/>
        </p:nvPicPr>
        <p:blipFill>
          <a:blip r:embed="rId1"/>
          <a:stretch/>
        </p:blipFill>
        <p:spPr>
          <a:xfrm>
            <a:off x="1066680" y="1752480"/>
            <a:ext cx="2713320" cy="143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6"/>
          <p:cNvPicPr/>
          <p:nvPr/>
        </p:nvPicPr>
        <p:blipFill>
          <a:blip r:embed="rId2"/>
          <a:stretch/>
        </p:blipFill>
        <p:spPr>
          <a:xfrm>
            <a:off x="3124080" y="3352680"/>
            <a:ext cx="2527560" cy="124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7"/>
          <p:cNvPicPr/>
          <p:nvPr/>
        </p:nvPicPr>
        <p:blipFill>
          <a:blip r:embed="rId3"/>
          <a:stretch/>
        </p:blipFill>
        <p:spPr>
          <a:xfrm>
            <a:off x="4648320" y="5105520"/>
            <a:ext cx="3047760" cy="1325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533520" y="220968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438280" y="3581280"/>
            <a:ext cx="37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039560" y="5562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99"/>
                </a:solidFill>
                <a:latin typeface="Calibri"/>
              </a:rPr>
              <a:t>Вопрос №10</a:t>
            </a:r>
            <a:br>
              <a:rPr sz="22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каком рисунке изображено лазание по канату в два приёма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Image8"/>
          <p:cNvPicPr/>
          <p:nvPr/>
        </p:nvPicPr>
        <p:blipFill>
          <a:blip r:embed="rId1"/>
          <a:stretch/>
        </p:blipFill>
        <p:spPr>
          <a:xfrm>
            <a:off x="1222200" y="1905120"/>
            <a:ext cx="3167280" cy="30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Image9"/>
          <p:cNvPicPr/>
          <p:nvPr/>
        </p:nvPicPr>
        <p:blipFill>
          <a:blip r:embed="rId2"/>
          <a:stretch/>
        </p:blipFill>
        <p:spPr>
          <a:xfrm>
            <a:off x="6019920" y="3065400"/>
            <a:ext cx="2286000" cy="3060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840240" y="259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5411520" y="48798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alibri"/>
              </a:rPr>
              <a:t>Вопрос №11</a:t>
            </a:r>
            <a:br>
              <a:rPr sz="22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каком рисунке изображено положение «Основная стойка»?</a:t>
            </a: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4" descr="Image10"/>
          <p:cNvPicPr/>
          <p:nvPr/>
        </p:nvPicPr>
        <p:blipFill>
          <a:blip r:embed="rId1"/>
          <a:stretch/>
        </p:blipFill>
        <p:spPr>
          <a:xfrm>
            <a:off x="1676520" y="1905120"/>
            <a:ext cx="56386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alibri"/>
              </a:rPr>
              <a:t>Вопрос №12</a:t>
            </a:r>
            <a:br>
              <a:rPr sz="22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каком рисунке изображено положение «Стойка ноги врозь, руки на пояс»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4" descr="Image10"/>
          <p:cNvPicPr/>
          <p:nvPr/>
        </p:nvPicPr>
        <p:blipFill>
          <a:blip r:embed="rId1"/>
          <a:stretch/>
        </p:blipFill>
        <p:spPr>
          <a:xfrm>
            <a:off x="1371600" y="1523880"/>
            <a:ext cx="632448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2d050"/>
                </a:solidFill>
                <a:latin typeface="Calibri"/>
              </a:rPr>
              <a:t>Вопрос №13</a:t>
            </a:r>
            <a:br>
              <a:rPr sz="22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каком рисунке изображено положение ног  «Руки вверх наружу»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90480" y="1766880"/>
            <a:ext cx="776304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libri"/>
              </a:rPr>
              <a:t>Вопрос №14</a:t>
            </a:r>
            <a:br>
              <a:rPr sz="22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каком рисунке изображено положение «Сед»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66640" y="1523880"/>
            <a:ext cx="8010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2240"/>
            <a:ext cx="83851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99"/>
                </a:solidFill>
                <a:latin typeface="Calibri"/>
              </a:rPr>
              <a:t>Вопрос №15</a:t>
            </a:r>
            <a:br>
              <a:rPr sz="22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каком рисунке изображено положение «Палка перед грудью»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4" descr="Image11"/>
          <p:cNvPicPr/>
          <p:nvPr/>
        </p:nvPicPr>
        <p:blipFill>
          <a:blip r:embed="rId1"/>
          <a:stretch/>
        </p:blipFill>
        <p:spPr>
          <a:xfrm>
            <a:off x="914400" y="2209680"/>
            <a:ext cx="70358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Calibri"/>
              </a:rPr>
              <a:t>Вопрос  №16</a:t>
            </a:r>
            <a:br>
              <a:rPr sz="22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чем гимнаст поднимает правую руку вверх перед выполнением упражнения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905120" y="2590920"/>
            <a:ext cx="6060960" cy="15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а – чтобы обратили на него внимание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б – абсолютная готовность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в – я всё умею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г – моя очередь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прос №17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каком рисунке изображено положение «Сед углом»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66640" y="1811160"/>
            <a:ext cx="801072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ам предстоит ответить на 20 вопрос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по разделу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Гимнастика и элементы акробатики»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 правильный ответ 1 бал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ценк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«отлично»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авится если вы набрали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7 и более баллов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оценка </a:t>
            </a: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«хорошо»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  от </a:t>
            </a: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13 до 16 баллов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«удовлетворительно»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менее 13 баллов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4" descr="C:\Users\Noodles\Desktop\ltd.jpg"/>
          <p:cNvPicPr/>
          <p:nvPr/>
        </p:nvPicPr>
        <p:blipFill>
          <a:blip r:embed="rId1"/>
          <a:stretch/>
        </p:blipFill>
        <p:spPr>
          <a:xfrm>
            <a:off x="6477120" y="304920"/>
            <a:ext cx="240192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Noodles\Desktop\мальчик.png"/>
          <p:cNvPicPr/>
          <p:nvPr/>
        </p:nvPicPr>
        <p:blipFill>
          <a:blip r:embed="rId2"/>
          <a:stretch/>
        </p:blipFill>
        <p:spPr>
          <a:xfrm>
            <a:off x="914400" y="4114800"/>
            <a:ext cx="312408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Вопрос №18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 расчёте по порядку, что должен сделать замыкающий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520" y="2590920"/>
            <a:ext cx="8610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 – назвать свой номе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 – назвать свой номер и сказать: «Расчёт окончен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– сделать шаг левой ногой вперёд, назвать свой номер, сказать: «Расчёт окончен!» и встать на мест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libri"/>
              </a:rPr>
              <a:t>Вопрос №19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 сколько градусов нужно повернуться при команде: «Направо! или  налево!»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419720" y="2819520"/>
            <a:ext cx="2301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86200" y="2590920"/>
            <a:ext cx="214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- 9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б - 18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- 45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 - 360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99"/>
                </a:solidFill>
                <a:latin typeface="Calibri"/>
              </a:rPr>
              <a:t>Вопрос №20</a:t>
            </a:r>
            <a:br>
              <a:rPr sz="22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то дают занятия гимнастикой и акробатикой для организма школьника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62160" y="2327040"/>
            <a:ext cx="444816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а – силу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б – выносливость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в – гибкость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г – координацию движений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д – красоту движений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е – ловкость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ж - быстроту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люч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05120"/>
            <a:ext cx="8159760" cy="10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-б, 2-а, 3-а, 4-а, 5-а, 6-б, 7-д, 8-б, 9-а, 10-б, 11-1, 12-3, 13-36, 14-1, 15-5, 16-б, 17-2, 18-в, 19-б,в,г,д,е,ж, 20-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сточники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.С.Кузнецов, Г.А.Колодницкий  Методика обучения основным видам движений на уроках физической культуры в школе «Владос» Москва,2004 год (иллюстрации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.К.Петров Методика преподавания гимнастики в школе «Владос» Москва, 2003 год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опрос №1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к называется вид строя изображённый на рисунке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4" descr="Image1"/>
          <p:cNvPicPr/>
          <p:nvPr/>
        </p:nvPicPr>
        <p:blipFill>
          <a:blip r:embed="rId1"/>
          <a:stretch/>
        </p:blipFill>
        <p:spPr>
          <a:xfrm>
            <a:off x="2895480" y="2722680"/>
            <a:ext cx="5334120" cy="2809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838080" y="22860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– коло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 – шерен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– ли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прос №2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к называется расстояние между занимающимися, изображённое на рисунке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Image2"/>
          <p:cNvPicPr/>
          <p:nvPr/>
        </p:nvPicPr>
        <p:blipFill>
          <a:blip r:embed="rId1"/>
          <a:stretch/>
        </p:blipFill>
        <p:spPr>
          <a:xfrm>
            <a:off x="2895480" y="2590920"/>
            <a:ext cx="5275440" cy="3251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04920" y="2286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- дист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 - интерв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Вопрос №3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кую команду подаёт учитель при построении в шеренгу по одному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2468160"/>
            <a:ext cx="670536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 – «Класс, в одну шеренгу – становись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 – «Класс, в одну шеренгу – стройся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– «Класс – становись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 – «Класс – стройся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Вопрос №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кую команду должен подать учитель, если ученики допустили ошибку при выполнении предыдущей команды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06400" y="2681280"/>
            <a:ext cx="31892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 – «Отставить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 – «Класс, стой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– «Вольно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 – «Переделать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Calibri"/>
              </a:rPr>
              <a:t>Вопрос №5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какую сторону осуществляется поворот головы при команде «Равняйсь!»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53840" y="2398680"/>
            <a:ext cx="7116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а –  в сторону направляющего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б –  в сторону замыкающего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в – голову не поворачивать, смотреть на учител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г – направо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д – налево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38512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опрос №6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кие действия ты должен выполнить при перестроении из одной шеренги в две, если по расчёту у тебя второй номер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7720" y="1904760"/>
            <a:ext cx="800748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а -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тоять на мест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б -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первый счёт с левой ноги сделать шаг назад; на второй счёт, не приставляя правой ноги, - шаг вправо, чтобы стать в затылок первому номеру; на третий счёт приставить левую ногу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-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первый счёт с левой ноги сделать шаг вперёд; на второй счёт, не приставляя правой ноги, - шаг вправо, чтобы встать  впереди первого номера; на третий счёт приставить левую ногу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г -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первый счёт шаг левой назад; на второй - приставить праву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прос №7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то проверяют при  помощи теста «Наклон вперёд из положения сидя»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81280" y="2398320"/>
            <a:ext cx="29656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а – сил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б – ловкость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в – быстрот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г – выносливость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д - гибкость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odles</cp:lastModifiedBy>
  <dcterms:modified xsi:type="dcterms:W3CDTF">2015-03-09T09:41:2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