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028-EC9B-4D3E-926D-359DCEF1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1ED-F8BC-4332-93DC-E6F604E9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304-2AD4-4235-A450-8B6683FF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265-61EA-4651-940A-09FF2573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2D8-1626-48E2-B204-A4746852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453-86E4-4826-8643-85DDEE4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037-8FA5-4055-996B-D3A1181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608-1224-42EB-9130-E05E4456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448-D618-4E9C-B447-F0463B0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E50-CF46-4AEB-B7CC-9C8BCE0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A31-C1C7-41DD-8BAA-4EFB920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E30-2FD1-4ADC-B306-15647C9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996F-59BB-4914-B3E2-EC7C97CE4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deti-online.com/skazki/rasskazy-prishvina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7080" y="344160"/>
            <a:ext cx="63118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.М.Пришвин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букварный период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5157720"/>
            <a:ext cx="456876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Кантемировская МКОУ СОШ №2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учитель начальных классов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Лихотина Е.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 Пришвиным по России. timeline Timetoast timelines"/>
          <p:cNvPicPr/>
          <p:nvPr/>
        </p:nvPicPr>
        <p:blipFill>
          <a:blip r:embed="rId1"/>
          <a:stretch/>
        </p:blipFill>
        <p:spPr>
          <a:xfrm>
            <a:off x="185760" y="1035000"/>
            <a:ext cx="3017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468360" y="260280"/>
            <a:ext cx="84963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Рассказы Пришвина о прир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исатель любил наблюдать за жизнью леса. «Нужно было найти в природе такое, чего я еще не видел, и может быть, и никто еще в своей жизни с этим не встречался», - писал он. В детских рассказах Пришвина о природе так точно и достоверно описаны шелест листьев, журчание ручья, дуновения ветерка, лесные запахи, что любой маленький читатель невольно переносится в своем воображении туда, где побывал автор, начинает остро и ярко ощущать всю красоту лесного ми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Скачать бесплатно книгу: MP3, исторический роман, зарубежная литература, классика, Проспер Мериме, АРДИС, резня, гугеноты, Карл"/>
          <p:cNvPicPr/>
          <p:nvPr/>
        </p:nvPicPr>
        <p:blipFill>
          <a:blip r:embed="rId1"/>
          <a:stretch/>
        </p:blipFill>
        <p:spPr>
          <a:xfrm>
            <a:off x="2987640" y="3306600"/>
            <a:ext cx="3013200" cy="302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Пришвин Михаил - Рассказы и сказки о природе. Скачать книгу бесплатно в электронной библиотеке TheLib.Ru"/>
          <p:cNvPicPr/>
          <p:nvPr/>
        </p:nvPicPr>
        <p:blipFill>
          <a:blip r:embed="rId2"/>
          <a:stretch/>
        </p:blipFill>
        <p:spPr>
          <a:xfrm>
            <a:off x="465120" y="3135240"/>
            <a:ext cx="2435400" cy="322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Поиск книги: Набивка чучел зверей и птиц туров"/>
          <p:cNvPicPr/>
          <p:nvPr/>
        </p:nvPicPr>
        <p:blipFill>
          <a:blip r:embed="rId3"/>
          <a:stretch/>
        </p:blipFill>
        <p:spPr>
          <a:xfrm>
            <a:off x="6227640" y="3060720"/>
            <a:ext cx="2448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539640" y="620640"/>
            <a:ext cx="62643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Рассказы Пришвина о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 детства Миша Пришвин с теплотой и любовью относился к птичкам и зверюшкам. Он дружил с ними, пытался научиться понимать их язык, изучал их жизнь, стараясь не потревожить. В рассказах Пришвина о животных переданы занимательные истории о встречах автора с разными зверьками. Там встречаются веселые эпизоды, заставляющие детскую аудиторию смеяться и удивляться уму и сообразительности братьев наших меньших. А есть грустные истории о зверюшках, попавших в беду, вызывающие чувство сопереживания и желание помочь у ребя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любом случае, все эти истории пронизаны добротой и имеют, как правило, счастливый конец. Нашим детишкам, растущим в пыльных и шумных городах, особенно полезно рассказы Пришвина читать почаще. Так давайте же поскорее начнем и погрузимся вместе с ними в волшебный мир природ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Пришвин для детей Охота за бабочкой Рассказы о животных , автор Пришвин М.М. скачать Книги формата А4"/>
          <p:cNvPicPr/>
          <p:nvPr/>
        </p:nvPicPr>
        <p:blipFill>
          <a:blip r:embed="rId1"/>
          <a:stretch/>
        </p:blipFill>
        <p:spPr>
          <a:xfrm>
            <a:off x="539640" y="1208160"/>
            <a:ext cx="3759480" cy="542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пришвин рассказы Интернет-магазин Лабиринт."/>
          <p:cNvPicPr/>
          <p:nvPr/>
        </p:nvPicPr>
        <p:blipFill>
          <a:blip r:embed="rId2"/>
          <a:stretch/>
        </p:blipFill>
        <p:spPr>
          <a:xfrm>
            <a:off x="3768840" y="1235160"/>
            <a:ext cx="3967200" cy="544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&quot;Пришвин - моё открытие&quot; - Копейка, Сергиев Посад"/>
          <p:cNvPicPr/>
          <p:nvPr/>
        </p:nvPicPr>
        <p:blipFill>
          <a:blip r:embed="rId3"/>
          <a:stretch/>
        </p:blipFill>
        <p:spPr>
          <a:xfrm>
            <a:off x="6994440" y="189000"/>
            <a:ext cx="1754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ttp://im0-tub-ru.yandex.net/i?id=ffcb8f175f9bf7aae7cc042f558e2e72-95-144&amp;n=24"/>
          <p:cNvPicPr/>
          <p:nvPr/>
        </p:nvPicPr>
        <p:blipFill>
          <a:blip r:embed="rId1"/>
          <a:stretch/>
        </p:blipFill>
        <p:spPr>
          <a:xfrm>
            <a:off x="165240" y="274680"/>
            <a:ext cx="2462040" cy="2735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2703600" y="575640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Рассказы Пришвина чит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М. Пришвин - Ребята и утята"/>
          <p:cNvPicPr/>
          <p:nvPr/>
        </p:nvPicPr>
        <p:blipFill>
          <a:blip r:embed="rId3"/>
          <a:stretch/>
        </p:blipFill>
        <p:spPr>
          <a:xfrm>
            <a:off x="2652840" y="304920"/>
            <a:ext cx="2144520" cy="267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нига &quot;Кладовая солнца. Рассказы о природе&quot; Михаил Михайлович Пришвин купить с доставкой по Киеву/Украине. &quot;Кладовая солнца. Рас"/>
          <p:cNvPicPr/>
          <p:nvPr/>
        </p:nvPicPr>
        <p:blipFill>
          <a:blip r:embed="rId4"/>
          <a:stretch/>
        </p:blipFill>
        <p:spPr>
          <a:xfrm>
            <a:off x="316080" y="3176640"/>
            <a:ext cx="2160360" cy="34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Золотой луг (М. Пришвин) - Купить, заказать книгу &quot;Я фанат&quot; Yafanat.ru - книжный магазин"/>
          <p:cNvPicPr/>
          <p:nvPr/>
        </p:nvPicPr>
        <p:blipFill>
          <a:blip r:embed="rId5"/>
          <a:stretch/>
        </p:blipFill>
        <p:spPr>
          <a:xfrm>
            <a:off x="6156360" y="357336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Книга журналиста С.Р.Ашиткова посвящена важной проблеме популяризации - 6 Февраля 2014 - Blog - Skysim"/>
          <p:cNvPicPr/>
          <p:nvPr/>
        </p:nvPicPr>
        <p:blipFill>
          <a:blip r:embed="rId6"/>
          <a:stretch/>
        </p:blipFill>
        <p:spPr>
          <a:xfrm>
            <a:off x="4940280" y="255600"/>
            <a:ext cx="2003400" cy="259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Пришвин Михаил. Разговор деревьев Скачать бесплатно"/>
          <p:cNvPicPr/>
          <p:nvPr/>
        </p:nvPicPr>
        <p:blipFill>
          <a:blip r:embed="rId7"/>
          <a:stretch/>
        </p:blipFill>
        <p:spPr>
          <a:xfrm>
            <a:off x="7093080" y="274680"/>
            <a:ext cx="1933560" cy="257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Пришвин ребята и утята презентация читать - Все учебники на одном сайте"/>
          <p:cNvPicPr/>
          <p:nvPr/>
        </p:nvPicPr>
        <p:blipFill>
          <a:blip r:embed="rId8"/>
          <a:stretch/>
        </p:blipFill>
        <p:spPr>
          <a:xfrm>
            <a:off x="2652840" y="3070080"/>
            <a:ext cx="3816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8:13:50Z</dcterms:created>
  <dc:creator>Елена</dc:creator>
  <dc:description/>
  <dc:language>en-US</dc:language>
  <cp:lastModifiedBy>Елена</cp:lastModifiedBy>
  <dcterms:modified xsi:type="dcterms:W3CDTF">2015-03-09T13:50:32Z</dcterms:modified>
  <cp:revision>17</cp:revision>
  <dc:subject/>
  <dc:title>Презентация PowerPoint</dc:title>
</cp:coreProperties>
</file>