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3EC-0025-4D29-B2DA-8682B7A7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C5A-7D3F-4114-A406-0CB2A616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730-DA69-4574-B16F-E5CC1519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48E-A3F8-4497-955E-3DD72B9E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ED5-82F1-4B42-AA2C-6D6F23FD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961-B6BD-4D0A-8340-7C9378C9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F02-F8DA-4565-9288-17872C0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850-8B6F-4D9B-B6B8-B9B9AF56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1C9-A5EE-48E9-B05C-C8E4F67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A4D-36AA-46F0-B037-63AEF1FB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F6D-BC5E-4E2C-932A-1FED0F9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E49-88B3-4C8F-B393-9A0115A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9921-21BA-4627-AA4E-3E1331934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8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oskazkax.ru/read/autor/marshak/399-bagazh.html" TargetMode="External"/><Relationship Id="rId3" Type="http://schemas.openxmlformats.org/officeDocument/2006/relationships/hyperlink" Target="http://oskazkax.ru/read/autor/marshak/402-vot-kakoy-rasseyannyy.html" TargetMode="External"/><Relationship Id="rId4" Type="http://schemas.openxmlformats.org/officeDocument/2006/relationships/hyperlink" Target="http://oskazkax.ru/read/autor/marshak/406-gde-obedal-vorobey.html" TargetMode="External"/><Relationship Id="rId5" Type="http://schemas.openxmlformats.org/officeDocument/2006/relationships/hyperlink" Target="http://oskazkax.ru/read/autor/marshak/403-detki-v-kletke.html" TargetMode="External"/><Relationship Id="rId6" Type="http://schemas.openxmlformats.org/officeDocument/2006/relationships/hyperlink" Target="http://oskazkax.ru/read/autor/marshak/410-znaki-prepinaniya.html" TargetMode="External"/><Relationship Id="rId7" Type="http://schemas.openxmlformats.org/officeDocument/2006/relationships/hyperlink" Target="http://oskazkax.ru/read/autor/marshak/398-koshkin-dom.html" TargetMode="External"/><Relationship Id="rId8" Type="http://schemas.openxmlformats.org/officeDocument/2006/relationships/hyperlink" Target="http://oskazkax.ru/read/autor/marshak/400-kruglyy-god.html" TargetMode="External"/><Relationship Id="rId9" Type="http://schemas.openxmlformats.org/officeDocument/2006/relationships/hyperlink" Target="http://oskazkax.ru/read/autor/marshak/409-master-lomaster.html" TargetMode="External"/><Relationship Id="rId10" Type="http://schemas.openxmlformats.org/officeDocument/2006/relationships/hyperlink" Target="http://oskazkax.ru/read/autor/marshak/404-o-glupom-myshonke.html" TargetMode="External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563040"/>
            <a:ext cx="5970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. Я.Марша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букварный период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Самуил Яковлевич Маршак - Стихи для детей"/>
          <p:cNvPicPr/>
          <p:nvPr/>
        </p:nvPicPr>
        <p:blipFill>
          <a:blip r:embed="rId1"/>
          <a:stretch/>
        </p:blipFill>
        <p:spPr>
          <a:xfrm>
            <a:off x="324000" y="476280"/>
            <a:ext cx="3168360" cy="40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19280" y="5157720"/>
            <a:ext cx="456876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Кантемировская МКОУ СОШ №2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учитель начальных классов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Лихотина Е.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Скачать конспект урока произведения и книги с.я.маршака &quot; поиск файлов"/>
          <p:cNvPicPr/>
          <p:nvPr/>
        </p:nvPicPr>
        <p:blipFill>
          <a:blip r:embed="rId1"/>
          <a:stretch/>
        </p:blipFill>
        <p:spPr>
          <a:xfrm>
            <a:off x="324000" y="260280"/>
            <a:ext cx="86248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уил Яковлевич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рш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уил Маршак – известный поэт, который писал стихи для детей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хи Марша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со свойственной ему чистотой, прямотой и честностью нашли торжественный отклик в детских сердц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уил Маршак прожил не простую жизнь. Много несчастий и неприятных событий встречалось на его пути. Но при этом талант писать стихи открылся у автора довольно рано. С детства он сочинял рифмы и не большие стихи не особо задумываясь над их смыс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Форсайт центр barometer.kg - информационно-аналитический портал - Форсайт центр barometer.kg - информационно-аналитический порта"/>
          <p:cNvPicPr/>
          <p:nvPr/>
        </p:nvPicPr>
        <p:blipFill>
          <a:blip r:embed="rId1"/>
          <a:stretch/>
        </p:blipFill>
        <p:spPr>
          <a:xfrm>
            <a:off x="5508720" y="25092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Библиотека: Библиотека для дошколят на Кушва-онлайн.ру"/>
          <p:cNvPicPr/>
          <p:nvPr/>
        </p:nvPicPr>
        <p:blipFill>
          <a:blip r:embed="rId1"/>
          <a:stretch/>
        </p:blipFill>
        <p:spPr>
          <a:xfrm>
            <a:off x="395280" y="189000"/>
            <a:ext cx="2347920" cy="30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мультфильмы Записи в рубрике мультфильмы Дневник Солнцемоененаглядное :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6372360" y="270000"/>
            <a:ext cx="2232000" cy="308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Список всех книг от С. Маршак - Books.DataHunt"/>
          <p:cNvPicPr/>
          <p:nvPr/>
        </p:nvPicPr>
        <p:blipFill>
          <a:blip r:embed="rId3"/>
          <a:stretch/>
        </p:blipFill>
        <p:spPr>
          <a:xfrm>
            <a:off x="2986200" y="189000"/>
            <a:ext cx="3017880" cy="30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Почта (С. Маршак) - скачать бесплатно txt, fb2, rtf, doc, epub, pdf, торрент. Скачать книгу Почта (С. Маршак) для мобильного тел"/>
          <p:cNvPicPr/>
          <p:nvPr/>
        </p:nvPicPr>
        <p:blipFill>
          <a:blip r:embed="rId4"/>
          <a:stretch/>
        </p:blipFill>
        <p:spPr>
          <a:xfrm>
            <a:off x="334800" y="3352680"/>
            <a:ext cx="2530800" cy="333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Маршак Самуил Яковлевич - Усатый полосатый (рис. Сутеева), скачать книгу бесплатно без регистрации или читать книгу онлайн."/>
          <p:cNvPicPr/>
          <p:nvPr/>
        </p:nvPicPr>
        <p:blipFill>
          <a:blip r:embed="rId5"/>
          <a:stretch/>
        </p:blipFill>
        <p:spPr>
          <a:xfrm>
            <a:off x="3244680" y="3360600"/>
            <a:ext cx="2500560" cy="322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Рекомендательные списки"/>
          <p:cNvPicPr/>
          <p:nvPr/>
        </p:nvPicPr>
        <p:blipFill>
          <a:blip r:embed="rId6"/>
          <a:stretch/>
        </p:blipFill>
        <p:spPr>
          <a:xfrm>
            <a:off x="5981760" y="3408480"/>
            <a:ext cx="262260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Об умном мышонке"/>
          <p:cNvPicPr/>
          <p:nvPr/>
        </p:nvPicPr>
        <p:blipFill>
          <a:blip r:embed="rId2"/>
          <a:stretch/>
        </p:blipFill>
        <p:spPr>
          <a:xfrm>
            <a:off x="3635280" y="3668760"/>
            <a:ext cx="2333880" cy="30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Скачать Детки в клетке бесплатно без смс / Большая коллекция электронных книг в txt и fb2"/>
          <p:cNvPicPr/>
          <p:nvPr/>
        </p:nvPicPr>
        <p:blipFill>
          <a:blip r:embed="rId3"/>
          <a:stretch/>
        </p:blipFill>
        <p:spPr>
          <a:xfrm>
            <a:off x="404640" y="304920"/>
            <a:ext cx="213696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Почта (С. Маршак) - скачать бесплатно txt, fb2, rtf, doc, epub, pdf, торрент. Скачать книгу Почта (С. Маршак) для мобильного тел"/>
          <p:cNvPicPr/>
          <p:nvPr/>
        </p:nvPicPr>
        <p:blipFill>
          <a:blip r:embed="rId4"/>
          <a:stretch/>
        </p:blipFill>
        <p:spPr>
          <a:xfrm>
            <a:off x="6156360" y="304920"/>
            <a:ext cx="2260440" cy="297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2-tub-ru.yandex.net/i?id=27c9e08d0abcb37ba390194b0d6986c0-42-144&amp;n=21"/>
          <p:cNvPicPr/>
          <p:nvPr/>
        </p:nvPicPr>
        <p:blipFill>
          <a:blip r:embed="rId5"/>
          <a:stretch/>
        </p:blipFill>
        <p:spPr>
          <a:xfrm>
            <a:off x="6372360" y="3627360"/>
            <a:ext cx="2408040" cy="303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С. Маршак. &quot;На улице Бассейной&quot; и др. - Аудиокниги, MP3, сказки, аудиоспектакль"/>
          <p:cNvPicPr/>
          <p:nvPr/>
        </p:nvPicPr>
        <p:blipFill>
          <a:blip r:embed="rId6"/>
          <a:stretch/>
        </p:blipFill>
        <p:spPr>
          <a:xfrm>
            <a:off x="193680" y="3668760"/>
            <a:ext cx="3036960" cy="30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Маршак Самуил Яковлевич"/>
          <p:cNvPicPr/>
          <p:nvPr/>
        </p:nvPicPr>
        <p:blipFill>
          <a:blip r:embed="rId7"/>
          <a:stretch/>
        </p:blipFill>
        <p:spPr>
          <a:xfrm>
            <a:off x="3363840" y="304920"/>
            <a:ext cx="24195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амуил Яковлевич Марш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395280" y="12682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Баг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Вот какой рассея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Где обедал вороб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Детки в клет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Знаки препин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7"/>
              </a:rPr>
              <a:t>Кошкин 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8"/>
              </a:rPr>
              <a:t>Кругл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9"/>
              </a:rPr>
              <a:t>Мастер-ломас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0"/>
              </a:rPr>
              <a:t>О глупом мышо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Об умном мышо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Усатый Полоса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Хороший д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Отчего кошку назвали кошк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На творческих встречах Самуил Яковлевич Маршак любил читать детям свои - Картинка 13613/21"/>
          <p:cNvPicPr/>
          <p:nvPr/>
        </p:nvPicPr>
        <p:blipFill>
          <a:blip r:embed="rId11"/>
          <a:stretch/>
        </p:blipFill>
        <p:spPr>
          <a:xfrm>
            <a:off x="3635280" y="1658880"/>
            <a:ext cx="52707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8:13:50Z</dcterms:created>
  <dc:creator>Елена</dc:creator>
  <dc:description/>
  <dc:language>en-US</dc:language>
  <cp:lastModifiedBy>Елена</cp:lastModifiedBy>
  <dcterms:modified xsi:type="dcterms:W3CDTF">2015-03-09T14:11:07Z</dcterms:modified>
  <cp:revision>16</cp:revision>
  <dc:subject/>
  <dc:title>Презентация PowerPoint</dc:title>
</cp:coreProperties>
</file>