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wmf" ContentType="image/x-wmf"/>
  <Override PartName="/ppt/media/MKTRPT05.wav" ContentType="audio/x-wav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96E-EDD5-4247-B470-F1F1D992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159-B915-467E-BA1E-0EFB3345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30171-B169-4DF6-A632-8D02FD13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90325-C045-419D-9C8E-42FDF605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527D7-E95F-4EB0-809A-51B2B6B6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AEDFA-E48E-4B52-A31B-F8C5D8BF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F46D51-599D-4318-808F-1B4FE5EC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AD8D4-B7F2-41A0-BF2F-A336174D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DADD2-28A8-4C17-A470-3CBAD037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CFE48-0DCC-4370-BE38-B1D6EFFC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56167-B5A8-43AA-AC7D-837B4EFD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C30E9-EAEB-4633-9352-20B69578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D77-1B8D-4C2E-B770-6227AFC8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362CD-7EE5-4396-98C7-A376AB3C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CD3FA-5C36-4E44-A613-45102C7B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F5C03-E1A7-4575-8CC7-C1A9E8EB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D1DC9-F076-4A26-8377-706C4156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7CFF7-6678-41C9-A673-14674D57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4C3B9-F518-439E-84DF-DE0A158D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A1A00-824E-449C-B0C7-40762629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18DAC-7574-4C59-BDB0-CAAE52A0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FF8B3-9006-4B1B-84FF-3426594D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9EB1F-0FBE-40BE-BCD3-2FAF75DA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F7C5-784F-464E-B28F-CBDC1576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D94E2-F493-410D-812E-5E87D974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FA965D-75B6-4C8A-94E4-06C26C3D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CD6AEF-B212-4728-A15F-B7190D77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9F0905-6A9F-4456-BDB1-DF71AA17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878B10-4937-454C-95F9-ACA88A4D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2900AF-8D25-47B4-AF33-5D3E0E16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D01A74-0229-49C3-82C2-6757449B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D53AB4-18EB-44DD-8D6A-FB7133DA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87F549-EC9D-4F9C-9172-37059A87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CBDD47-73B8-4ACA-91FD-E2452FC7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F5AB-5040-41BF-94BB-514AF56A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D5C101-39AF-4319-8F79-AC50ECEC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E7AAD1-B53A-449A-AEB8-F4387DD4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8D0F46-12AD-4103-BE40-36091AF0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01C42-552F-4DD2-A357-8F346D64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19E58-C19B-4843-AC5A-4DD41228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E30E2-BEBB-4428-92B4-532BA6E9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20D87-81D9-48DE-9476-4D4F87B9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8A482-5355-42B7-8CD1-793F3C7E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BDD03-CBC0-497D-8288-915D96F8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87E19-6E08-4286-983C-85D9CCEA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A13B-C9B5-48D4-BEAD-05F80F90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E0902-F1BE-4E1C-9005-DE34804E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25942-482E-406C-9A45-A193E743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9B8EB-7F7B-42C6-B809-79D3CE39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F28A3-CA77-49CE-AFBD-1F5FFAF5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0469A-3E24-4BB1-935F-B93733BE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279DC-9E16-44ED-95DA-D16B8682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8F935-F568-4CEB-8342-215CFD51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922C5-36FE-4EE1-99A5-A88AB545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09465-2F9C-4B4C-904E-0BDD8770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1C1B5-F9AD-4DD4-BD8C-2C017D5A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CA4C-865A-4ADB-A162-B98B5267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7A14E-8274-4CDD-90A7-4A04FEEA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E07CD-61F6-4035-963B-6F86DEE6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6AB07-1C8D-4185-9D78-3615D979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C70E8-87ED-49E5-8F13-3E4CA0D1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518D5-DFC5-4E7D-88E7-AD95ECB3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C4DB2-40D0-41BD-B65F-2B088A47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C5203-43F7-4DDA-BEBE-E03B5C8B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14C1E-B47D-41B3-8898-38DA5282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421D15-97D4-43DB-986C-A593907C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20618-CE39-4BBA-A49C-1E1616E4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1DDE-FF3D-4720-908B-302B22F3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539D4-9D5D-4F3C-939D-232A04A5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36616C-16B3-4C84-87E1-3920A96D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A41DF-5FE8-4631-960E-639851E9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AB92B-9671-4BD7-BC40-9327B56A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F451D-E3C7-4E2F-84A5-FECE6A07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E74C4-D9E0-4ACE-99E3-83595F4B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EE8F23-47B5-4018-AA84-68F4066F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37EE8B-2E87-4E3F-8ADF-93420EE4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A7203F-B11A-4D66-BFF7-9DEF60F1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7C80B-9456-4BDC-AA1F-DC3C300C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1116-946D-48B1-9E3A-B61E9431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CC6FAE-31DC-4B53-9FAE-B42E19EB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109EF4-8F24-48E5-93BF-88CE9429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40850-C079-47BC-9B92-2906458D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8B1EF-0C1B-4B4B-8146-157EE6BF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BCE892-D447-47F0-8948-302DF53A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79249B-CBA7-43FB-8AF4-251827B1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E20A2-5B84-474D-8631-CB92B5E3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7F7F1-B451-4150-9EC5-9CA03667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4594B3-ED47-4C36-AB3A-F2CED6ED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77D7F6-79D2-4BDA-A617-07ABC599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890A-CB26-4B00-91C5-FB698F9A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770ECA-01E2-45CA-864E-7720296F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8F47C4-D6F2-4672-A863-DED5707B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8C5371-AF17-4143-9831-EE16D0B6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2485FE-9E91-49B2-857F-B9054D76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3418E0-F883-4EF0-90FB-F8879AE5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2D2FD8-8768-4B58-ADE3-AE25BEE9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D28D4C-9363-4CC7-8616-3409B2AB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9AEF78-6849-4FDD-A8A9-5F6EEB51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F3F74C-8E39-4827-A732-C492B629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8B7B5B-7E9C-45DF-BBE0-1D5CFC05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122B-31A8-456C-9687-CC1AD19C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C7069-F380-480F-8A11-73962362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4B8F40-0A13-4F0B-9647-58777A2C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63BD3C-6770-4EA4-A366-6E3A964A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BC9023-068C-4E85-A546-2389C773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B9E5D8-DAF5-40B5-8A7F-A0B88CE1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BA65B1-EA46-449D-9D98-4E3B41F4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C5697A-AA3E-4258-9093-28955469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0A80E7-C6F6-47D4-B018-9E9BC534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8B43B3-E5D1-4719-A072-B1B9B39D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FAD9B4-E625-4FC2-8D6A-3CEAA45F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8D3-EF5A-485F-9E23-E04813A0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F786-8E58-4B99-B643-7F9FED76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C396DB-EA89-4B0E-94CC-28790948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672CE5-FDFE-4BD8-8ECF-DFBDAA82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98956F-4172-4034-B96D-BB6BC46D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D43D01-6895-44C7-A0C1-469C6AD4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1CD731-38D6-4B5B-83B0-716A6FAE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1FB455-0ACF-4E82-81E5-C75FBD3B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24B723-18B1-438A-B859-CB7A64F7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19E554-A4FB-4B6E-A54A-A27F672D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DE79DB-07E8-4F9F-BF80-78613D3D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5AA231-6CA3-48FE-9355-E1202FD3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D160-7FE0-44CB-B3B6-E37C038A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BA14BB-C1C8-4E8E-88D6-C3B99356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04839F-C748-4BE7-B691-9A25C750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D20DB9-D3A4-4AEB-A1ED-D3A972E6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E4B7F1-EF2F-4B0F-AFB6-9D347DBF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3444C1-5C89-4911-B4AE-F33ECD12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CE350D-98B4-4371-8FF0-9A5C7DEF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1094E0-3565-47AD-97E0-2A1A01C9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94D040-BF7C-4793-9DA9-885CC915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9C83FE-64B9-4A7F-AA38-CEBBA90E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41219B-6450-4488-9467-A068C0F0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0D5D-4693-4149-8BBD-6188C8D3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696D4D-6365-44F0-9BFD-21C3838B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E08199-C8CC-4042-800F-21631788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95F874-C51B-4461-9A25-3D9F7E2B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1B84D2-BDF8-4837-8512-F5AED063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440D74-EEF8-41DE-86DF-9E9B02A4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5CD27B-94C4-4904-A8AB-F09EC68D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366881-B76F-4335-B707-0E27332D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7509FA-112D-4092-B540-CBB41D59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BBFA08-4D38-4D58-9449-0A53EE73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14F312-B949-4655-AA5E-E7A83128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39D7-1983-46E6-9B4C-C6F0FCC4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DB6469-6FF6-4D5B-BD99-2B8A834F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B42A24-243F-4713-8053-C59D2119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5BD7E0-0F56-4D4C-9DCB-343DAB3F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A04A51-9A58-4537-B2E2-60E3AE78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8AF61B-83E1-4C74-9410-CC506346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9D32D7-8847-40D3-9D06-C2F6CDFA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772615-0812-44EB-95A9-C79C5965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8FD778-1979-417E-ACF9-F2FCB89A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19EDA0-4D05-403A-A3E9-F1E7D67E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20F5D6-B310-42E8-9152-2B7CD7CE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F718-6EC4-4575-898C-81FA18BB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1119D6-BD57-4C13-9285-C8DB913D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ACE6A9-8757-410E-A0C6-0A7517C1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7A60C0-2B06-4382-9EB7-A86B68E9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0F5345-3FB0-4FA0-9732-06F71B11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3D8C51-7B01-41B4-8388-C8EC5CDD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87EF46-A8A3-4B74-AC74-AEC9658B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F744B1-3DF8-4A52-8FFC-C815940F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CA2F82-2885-48B3-840C-4F592C4C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6E6B6E-4759-4A5B-80A5-6F44714D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1BFC83-E2CB-47CE-A012-5AFF3864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4F080-4A09-4A53-9C5C-684B5D4E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212652-A3A8-425D-8AB7-E8A02089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D80EBF-FCCE-49C2-9A4B-EE971B65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388A0B-4F6D-4BA4-9755-2005F889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C4414D-1C1B-4B8B-89A2-82A9BA02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7FFBA3-4227-4B76-A633-D7188F19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D07D05-D6B7-4F6B-BDFB-D46862B4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0DBDF9-F174-4F38-99C2-A12DB85C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57DF94-9EAC-47EB-9AFE-4FF4B5EE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DCA019-BE26-41FF-8D6B-0456B1AF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022BF0-C409-4010-BB94-6718BEF3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45DD7-373F-41CB-BEDB-011B11B6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8A45D1-95AB-4637-95DA-0E5FC966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D43030-2B58-4949-8E61-7E0A37B2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5464AF-D52F-436A-AE2A-43B45D8F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96AE6A-A182-4AD7-9C3D-19B52C1F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F0D802-AF89-422A-A330-E55EDD95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56CCF7-C5DF-4060-A9E8-5703BF3C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E81DEB-4E8C-4507-BEBC-A0F029B2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50C98A-1E64-464F-99CF-7FB7C607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30B397-511E-412F-A859-6C2589D1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A6EC91-E1B3-4352-83A6-2E264698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D98E3-0A7E-4A7A-8FB0-F1E54E96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05D7CE-2B10-4F89-8EC1-F1560B22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EF0F52-AE14-40C9-8BFF-5516A24E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D53E8B-798E-4CD9-B2A2-F8C98403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6FE116-FDC7-4CAD-81B2-92712751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835B7F-EFB8-4345-B2CB-9D6B4BDA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469527-2456-4E7B-B68A-EA20DA38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CC4D33-B199-4BD1-B372-493F008D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393BB03-5133-469A-9805-3C7C1D8B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555E39B-4864-4406-B0E8-71513C17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D349DF7-0DEF-4F68-B5D9-5971773C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4F0F9-F6D2-4183-BFC7-9B2DACEE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8692D3C-6EB0-4912-BBFB-ABA349C1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1BEE8C8-32F4-48F6-BA45-9537D7EA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CC60E96-2064-4474-83A8-2137141D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D761D34-49EC-43A0-A11D-9662B9EE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50F2416-FFF4-4841-AADD-63830018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AF41BB4-F5AC-4A18-9CFE-8E0DE213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AFD0B9C-50A1-4B3B-90E2-573BBC80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1E3675A-0A8F-4541-B1F9-250B082B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244349C-863B-415E-9561-6D434B13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1EB42-BD3E-414B-B27C-A56C6347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732-BB23-4E12-AD8E-88E15DED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E1609-C6E6-4512-A499-B3815E0F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A194E-9805-4097-AD2C-4B82CCD2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26811-A966-4399-A22E-BC542A11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B9DA1-065C-40BF-80B5-8884B5D1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510C-B661-4CAB-A9CA-C90A88F8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F6A77-7EE2-45EF-95C8-99A26D56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C9EEE-656B-4E5A-BD22-D492DF52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E2685-B2D2-406C-AE2F-EF2E911C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7281C-22E0-4E23-A536-1A795549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DDD64-83A5-4DFE-867A-464CC605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1E2-C0CC-4C84-923F-3AD7C9BB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36DAB-4119-4F56-A135-57831EE4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AA8C4-176F-4A23-B96B-AD0FE217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DEC88-E57C-455A-9E0B-ABF5529C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F917B-63AF-4375-9A1F-DA324BE0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3653E-81FC-4132-890C-F6CB4C5D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155AE-91D2-4DAE-BD8F-0017F75F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BB274-6B01-4791-B9D6-8DF51166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77FE4-7511-4DD4-96B2-45665344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98A38-4F7D-488A-8C8E-FD4BB216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EE6B6-5A55-4739-9BAF-D1AC56E7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130-B2B8-4D80-B364-A1F686A5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A5FF5-DD2E-4200-BADF-9F8CEF0E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28876-D49C-4E2C-BB60-78ECE3C3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8159A-A7C1-46AD-BE14-F3261967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E517B-0C05-4E59-B7C8-1F1D7039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2B5B3-61C3-495D-B72A-51527D4D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C393E-6D90-4C75-83F2-7066F10E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11C11-CB57-465C-9692-9023E667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EF7FE-858D-42B2-8B04-59CC7701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C7A9A-164D-4676-B2AF-B1F3BB5F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8ABAB-E2A0-42FA-92D3-7677AD42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C9F4-0A77-4121-B6BC-E9408EEF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A9D6F-2602-4F36-A018-C903CADF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28FEC-A312-49DC-BB25-8A5D01B3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A5638-902A-4323-82E7-722DA640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AC507-C812-4B1F-9432-7215DCA2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1EA28-81D9-479C-A834-9621F165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A12E2-3E21-436F-8FF5-5F543957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DDA81-92BF-4FEF-A166-1074E3EB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F9921-FA86-40E5-9E27-741F4BDD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9E46B-7DB4-4DEC-98C2-2DDD7032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A3766-A284-4BD6-A937-E1666E30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A13-8196-413D-8873-26CE6285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19E71-5A64-4A4E-ADDA-85BA2C1C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C1B03-8441-43FA-A788-851D10C6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FCCA3-533F-41AA-A383-5A498689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9594D-D959-4A67-9961-FC94E4C7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93DC0-FD68-4E1F-9D90-38EC02C7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8779C-365B-4D3D-AEB4-DD8ECCDC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2241E-CC80-46A3-9958-C0E00061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24CC4-65FF-4B40-8BCC-D51D45B4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8E7C7-FEF3-4E68-933A-67F0AB87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29B94-1F8A-41CB-8069-02CE313F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B8FC-8D05-4F8B-B431-A411C855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C85EE-F1C0-4BC6-929D-15F49666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06DE3-473A-4034-8255-D9D88175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880A5-E5E2-4F73-9D21-23B6D32F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DF3DF-5DCD-46C0-ACB6-D4D53CD1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7A20A-48FE-4F31-988A-591A4AED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B0E6E-B156-4C94-BCC1-EF48A7AB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19639-46A8-4929-A0C6-92CFE04D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8FE22-5864-429A-B911-F3C92A18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62E34-D13B-4F43-8A22-76E8FCE4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10C4F-347B-4CC7-A9A6-95D16DB1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F5B-9063-4174-9633-B2B1D083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8CE32-C7B5-4759-B90D-FA815EDC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6B53D-A761-432E-AD80-D74243D1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369FB-9B05-4310-B89D-7C15D185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8EC2F-BBB0-4DFC-B353-2F4823CD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BAB69-5D8B-4463-AA2F-0BBCC6BC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9642A-3838-4B8A-B12D-AAB19E0C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A585C-1F6A-4707-8AD7-28914F3D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E87A0-F2C5-4F1F-8447-B0C2B955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F3A4D-9E6B-48CC-8976-18F4FA93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8CD05-7CF8-4FB3-A33B-35410DB5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AC8C-5CF2-4606-971B-45F3BC3E1C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98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55BF-4A60-4014-BD68-4BC3F39CAE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3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AA32-997A-426F-B23A-9E54B29C2EC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0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BDC4-B71C-4519-950E-EB2CE28E254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6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6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6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6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6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7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38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3F69-D582-46D7-BEC7-28B88F5A38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5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6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6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6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6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7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8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8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50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5DBB-4D98-4A73-88CD-F54959641F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55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D44B-B666-4E15-B995-83CA9BDC32F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0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22AE-A8F6-4637-8E79-60D242E514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 type="dt" idx="4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D031-C978-454A-9D0D-130ED91573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dt" idx="5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6E20-A7E8-4225-874F-3F08BFAA96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3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3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5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76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77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dt" idx="5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 type="ftr" idx="5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 type="sldNum" idx="5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B157-43E0-43BC-BABD-EA7194B8CB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6B74-30C7-45CB-B22A-1F5E5F2759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3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3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4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6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6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88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88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dt" idx="5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 type="ftr" idx="5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9E46-4DFD-42C9-B2B0-7C77E51467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B3ED-D2A9-4C88-8CDC-61EAFDD9A69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2A9C-C774-4551-98AA-AEE5A6D496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44D7-B85C-444A-85E8-8A6279F2A0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ftr" idx="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 type="sldNum" idx="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C691-0B92-45AA-844C-0EB4A9A1306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 type="dt" idx="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20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9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31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68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69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0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1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2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3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4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5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6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4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5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17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218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0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31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38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3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C9B3-FF35-4CBD-AC67-DE20D8D9D5C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85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94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95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6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5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6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9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0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1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33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334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5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6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7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8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9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4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5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2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3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4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5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6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7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9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3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4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9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82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83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5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396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403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C544-6FC0-4C97-9F50-36DFA6DEEB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5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1FD1-0F54-4161-B548-A2B969AFC3E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0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4C57-3375-4D89-9C36-5EB7705D608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6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3DBB-70C4-4BB6-A78F-FC10467E32A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4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8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802B-8F83-4B18-9BED-930F2E61FB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72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0749-690E-43B3-A915-3101CA9850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MKTRPT05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6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9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4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4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4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4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4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186920" y="1268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c4c3aa"/>
                </a:solidFill>
                <a:latin typeface="Arial"/>
              </a:rPr>
              <a:t>   </a:t>
            </a:r>
            <a:r>
              <a:rPr b="0" i="1" lang="ru-RU" sz="9400" spc="-1" strike="noStrike">
                <a:solidFill>
                  <a:srgbClr val="c4c3aa"/>
                </a:solidFill>
                <a:latin typeface="Bernard MT Condensed"/>
              </a:rPr>
              <a:t>В мире </a:t>
            </a:r>
            <a:br>
              <a:rPr sz="9400"/>
            </a:br>
            <a:r>
              <a:rPr b="0" i="1" lang="ru-RU" sz="9400" spc="-1" strike="noStrike">
                <a:solidFill>
                  <a:srgbClr val="c4c3aa"/>
                </a:solidFill>
                <a:latin typeface="Bernard MT Condensed"/>
              </a:rPr>
              <a:t>                      звуков</a:t>
            </a:r>
            <a:endParaRPr b="0" lang="en-US" sz="9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 type="subTitle"/>
          </p:nvPr>
        </p:nvSpPr>
        <p:spPr>
          <a:xfrm>
            <a:off x="125892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физик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ганской СОШ № 18 Карасёва Ирина Дмитриев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7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572000" cy="211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KTRPT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"/>
          <p:cNvSpPr/>
          <p:nvPr/>
        </p:nvSpPr>
        <p:spPr>
          <a:xfrm>
            <a:off x="1763640" y="836640"/>
            <a:ext cx="6337440" cy="1655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Rockwell Extra Bold"/>
              </a:rPr>
              <a:t>Субъективные характерист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Rockwell Extra Bold"/>
              </a:rPr>
              <a:t>зву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971640" y="2997360"/>
            <a:ext cx="2592360" cy="12236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Stencil"/>
              </a:rPr>
              <a:t>Громк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2989440" y="3860640"/>
            <a:ext cx="3600360" cy="11527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Stencil"/>
              </a:rPr>
              <a:t>Выс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6157800" y="2924280"/>
            <a:ext cx="2737080" cy="12254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Stencil"/>
              </a:rPr>
              <a:t>Темб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 flipH="1">
            <a:off x="1979280" y="2349360"/>
            <a:ext cx="1079640" cy="64800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732720" y="234936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6659640" y="2349360"/>
            <a:ext cx="1225440" cy="57492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4932360" y="2492280"/>
            <a:ext cx="0" cy="136836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20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2" name="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153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72104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ромкость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зависит не только от звуковой волны, но и от чувствительности уха. Единица громкости –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цибе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ысота звука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зависит от его частоты: чем больше частота звука, тем звук выше, и наоборо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мбр звука –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это окраска звука, зависящая от его источни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7300" fill="hold"/>
                                        <p:tgtEl>
                                          <p:spTgt spid="2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"/>
          <p:cNvSpPr txBox="1"/>
          <p:nvPr/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 txBox="1"/>
          <p:nvPr/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86800" cy="1160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i="1" lang="ru-RU" sz="4200" spc="-1" strike="noStrike">
                <a:solidFill>
                  <a:srgbClr val="ff0066"/>
                </a:solidFill>
                <a:latin typeface="Wide Latin"/>
              </a:rPr>
              <a:t>Естественный приёмник звуковых волн -</a:t>
            </a:r>
            <a:r>
              <a:rPr b="1" i="1" lang="ru-RU" sz="4500" spc="-1" strike="noStrike">
                <a:solidFill>
                  <a:srgbClr val="ff0066"/>
                </a:solidFill>
                <a:latin typeface="Wide Latin"/>
              </a:rPr>
              <a:t> </a:t>
            </a:r>
            <a:r>
              <a:rPr b="1" i="1" lang="ru-RU" sz="4500" spc="-1" strike="noStrike" u="sng">
                <a:solidFill>
                  <a:srgbClr val="0000ff"/>
                </a:solidFill>
                <a:uFillTx/>
                <a:latin typeface="Wide Latin"/>
              </a:rPr>
              <a:t>у х о</a:t>
            </a:r>
            <a:br>
              <a:rPr sz="4500"/>
            </a:b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861080" y="1598760"/>
            <a:ext cx="3821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оходящий до нас звук попадает в ушную раковину, затем по слуховому проходу в среднее ухо. Барабанная перепонка при попадании звука вибрирует, и эта вибрация передаётся на слуховые косточки: молоточек, наковальню и стремечко. Они передают вибрацию жидкости в улитке. Специальные клетки превращают звук в нервные импульсы, которые поступают в мозг для опознания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68360" y="1989000"/>
            <a:ext cx="4038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9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446544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0000"/>
                </a:solidFill>
                <a:latin typeface="Snap ITC"/>
              </a:rPr>
              <a:t>Весь диапазон воспринимаемых ухом звуковых волн соответствует громкости от 0 до 130 дБ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Как усилить звук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свернуть ватман воронкой, узкую часть воронки прислонить к уху, а широкую поднести к включённому приёмнику, то можно чётко услышать звук радиоприёмн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поднести узкую часть к губам и произнести что-нибудь, то звук голоса станет громче и будет слышен на расстоянии. Воронка из ватмана – примитивный рупор, усиливающий звук,  направляемый к уху, и усиливающий голо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5" name="" descr=""/>
          <p:cNvPicPr/>
          <p:nvPr/>
        </p:nvPicPr>
        <p:blipFill>
          <a:blip r:embed="rId1"/>
          <a:stretch/>
        </p:blipFill>
        <p:spPr>
          <a:xfrm>
            <a:off x="4500720" y="1916280"/>
            <a:ext cx="4325760" cy="4105080"/>
          </a:xfrm>
          <a:prstGeom prst="rect">
            <a:avLst/>
          </a:prstGeom>
          <a:ln w="0">
            <a:noFill/>
          </a:ln>
        </p:spPr>
      </p:pic>
      <p:pic>
        <p:nvPicPr>
          <p:cNvPr id="216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2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2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2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3000"/>
                                        <p:tgtEl>
                                          <p:spTgt spid="2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2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2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4192" fill="hold"/>
                                        <p:tgtEl>
                                          <p:spTgt spid="2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7" name="" descr="ддд"/>
          <p:cNvPicPr/>
          <p:nvPr/>
        </p:nvPicPr>
        <p:blipFill>
          <a:blip r:embed="rId1"/>
          <a:stretch/>
        </p:blipFill>
        <p:spPr>
          <a:xfrm>
            <a:off x="539640" y="1268280"/>
            <a:ext cx="7632720" cy="5327640"/>
          </a:xfrm>
          <a:prstGeom prst="rect">
            <a:avLst/>
          </a:prstGeom>
          <a:ln w="0">
            <a:noFill/>
          </a:ln>
        </p:spPr>
      </p:pic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388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Диаграмма громкостей звуков, создаваемых различными источникам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аблица громкости знакомых звук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елест листьев – 10 д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канье часов – 20 д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ирная беседа – 40 д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омкий разговор – 70 д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умная улица – 90 д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олёт на старте – 100 д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1" name="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7530" fill="hold"/>
                                        <p:tgtEl>
                                          <p:spTgt spid="2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900" spc="-1" strike="noStrike">
                <a:solidFill>
                  <a:srgbClr val="ffffff"/>
                </a:solidFill>
                <a:latin typeface="Tahoma"/>
              </a:rPr>
              <a:t>Громкие звуки далеко не безвредны для нашего организма. Согласно нормам уровень громкости шумов не должен превышать </a:t>
            </a:r>
            <a:r>
              <a:rPr b="0" lang="ru-RU" sz="3900" spc="-1" strike="noStrike">
                <a:solidFill>
                  <a:srgbClr val="ff0000"/>
                </a:solidFill>
                <a:latin typeface="Rockwell Extra Bold"/>
              </a:rPr>
              <a:t>30 – 40 дБ.</a:t>
            </a:r>
            <a:r>
              <a:rPr b="0" lang="ru-RU" sz="39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3" name=""/>
          <p:cNvSpPr txBox="1"/>
          <p:nvPr/>
        </p:nvSpPr>
        <p:spPr>
          <a:xfrm>
            <a:off x="395280" y="1125360"/>
            <a:ext cx="8424720" cy="1630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 О   О Б Р А Т И Т Е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4" name=""/>
          <p:cNvSpPr txBox="1"/>
          <p:nvPr/>
        </p:nvSpPr>
        <p:spPr>
          <a:xfrm>
            <a:off x="-6458040" y="2905200"/>
            <a:ext cx="22060080" cy="1047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Н И М А Н И Е                                                                                                                                                     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-6458040" y="3166920"/>
            <a:ext cx="2206008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Н И М А Н И Е                                                                                                                                                     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6" name=""/>
          <p:cNvSpPr txBox="1"/>
          <p:nvPr/>
        </p:nvSpPr>
        <p:spPr>
          <a:xfrm>
            <a:off x="971640" y="4076640"/>
            <a:ext cx="7200720" cy="151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cc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нимание!</a:t>
            </a:r>
            <a:endParaRPr b="0" lang="en-US" sz="1800" spc="1" strike="noStrike">
              <a:ln w="12600">
                <a:solidFill>
                  <a:srgbClr val="99cc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2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2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2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77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770" fill="hold"/>
                                        <p:tgtEl>
                                          <p:spTgt spid="2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2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8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655560" y="260280"/>
            <a:ext cx="7012080" cy="63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Snap ITC"/>
              </a:rPr>
              <a:t>Согласно исследованиям, шу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173160" algn="ctr">
              <a:lnSpc>
                <a:spcPct val="10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Snap ITC"/>
              </a:rPr>
              <a:t> </a:t>
            </a:r>
            <a:r>
              <a:rPr b="1" i="1" lang="ru-RU" sz="4000" spc="-1" strike="noStrike">
                <a:solidFill>
                  <a:srgbClr val="ff33cc"/>
                </a:solidFill>
                <a:latin typeface="Snap ITC"/>
              </a:rPr>
              <a:t>56 – 72 дБ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173160" algn="ctr">
              <a:lnSpc>
                <a:spcPct val="10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-  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беспоко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3160" algn="ctr">
              <a:lnSpc>
                <a:spcPct val="100000"/>
              </a:lnSpc>
              <a:buClr>
                <a:srgbClr val="0000ff"/>
              </a:buClr>
              <a:buFont typeface="Tahoma"/>
              <a:buChar char="-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ызывает психические       расстрой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3160" algn="ctr">
              <a:lnSpc>
                <a:spcPct val="100000"/>
              </a:lnSpc>
              <a:buClr>
                <a:srgbClr val="0000ff"/>
              </a:buClr>
              <a:buFont typeface="Tahoma"/>
              <a:buChar char="-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ызывает головную б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3160" algn="ctr">
              <a:lnSpc>
                <a:spcPct val="100000"/>
              </a:lnSpc>
              <a:buClr>
                <a:srgbClr val="0000ff"/>
              </a:buClr>
              <a:buFont typeface="Tahoma"/>
              <a:buChar char="-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шает чтению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- затрудняет разговор по телефо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3160" algn="ctr">
              <a:lnSpc>
                <a:spcPct val="100000"/>
              </a:lnSpc>
              <a:buClr>
                <a:srgbClr val="0000ff"/>
              </a:buClr>
              <a:buFont typeface="Tahoma"/>
              <a:buChar char="-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шает сну, отдыху, умственной рабо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18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От шума не умирают, но он – такой же фактор риска для здоровья человека, как курение или алкоголизм. Язва желудка от избыточного грохота, возможно, и не откроется, но иммунный барьер в организме снижается, а частота заболеваний, причём самых различных, увеличиваетс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28827" fill="hold"/>
                                        <p:tgtEl>
                                          <p:spTgt spid="2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9040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ru-RU" sz="4600" spc="-1" strike="noStrike">
                <a:solidFill>
                  <a:srgbClr val="ff0000"/>
                </a:solidFill>
                <a:latin typeface="Arial"/>
              </a:rPr>
              <a:t>Что такое звук?</a:t>
            </a:r>
            <a:br>
              <a:rPr sz="4600"/>
            </a:br>
            <a:endParaRPr b="0" lang="en-US" sz="4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Rockwell Extra Bold"/>
              </a:rPr>
              <a:t>Человек живёт в мире звуков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Rockwell Extra Bold"/>
              </a:rPr>
              <a:t>Звук – это то, что слышит ухо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Rockwell Extra Bold"/>
              </a:rPr>
              <a:t>Мы слышим голоса людей, пение птиц, звуки музыкальных инструментов, шум леса, гром во время грозы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Rockwell Extra Bold"/>
              </a:rPr>
              <a:t>Звучат работающие машины, движущийся трактор и т.д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Rockwell Extra Bold"/>
              </a:rPr>
              <a:t>Что же такое звук? Как он возникает? Чем одни звуки отличаются от других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000" cy="81000"/>
          </a:xfrm>
          <a:prstGeom prst="rect">
            <a:avLst/>
          </a:prstGeom>
          <a:ln w="0">
            <a:noFill/>
          </a:ln>
        </p:spPr>
      </p:pic>
      <p:pic>
        <p:nvPicPr>
          <p:cNvPr id="211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9072" fill="hold"/>
                                        <p:tgtEl>
                                          <p:spTgt spid="2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800" spc="-1" strike="noStrike">
                <a:solidFill>
                  <a:srgbClr val="ff33cc"/>
                </a:solidFill>
                <a:latin typeface="Stencil"/>
              </a:rPr>
              <a:t>Меры  по защите от шум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странение причин шумообразования или ослабление его в источнике возникнов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нижение шума по пути его распространения и непосредственно в объекте защи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cc"/>
                </a:solidFill>
                <a:latin typeface="Arial"/>
              </a:rPr>
              <a:t>Мероприятия по защите </a:t>
            </a:r>
            <a:br>
              <a:rPr sz="4000"/>
            </a:br>
            <a:r>
              <a:rPr b="0" i="1" lang="ru-RU" sz="4000" spc="-1" strike="noStrike">
                <a:solidFill>
                  <a:srgbClr val="ffffcc"/>
                </a:solidFill>
                <a:latin typeface="Arial"/>
              </a:rPr>
              <a:t>от шум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технические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правленные на снижение шума в источн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архитектурно-планировочные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правленные на рациональные приёмы планировки зданий, территорий застрой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строительно-акустические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правленные на ограничение шума при его распростран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организационные и административные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правленные на предотвращение (запрещение) или регулирование во времени эксплуатации тех или иных источников шу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cc"/>
                </a:solidFill>
                <a:latin typeface="Monotype Corsiva"/>
              </a:rPr>
              <a:t>Э  Х  О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вуковые волны отражаются от препятствий. Известное нам эхо – результат отражения звука от препятствий.. Отражение звуковых волн может происходить от горы, от леса и даже … от воздух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0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4032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cc"/>
                </a:solidFill>
                <a:latin typeface="comic"/>
              </a:rPr>
              <a:t>Неслышимые звуки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уки, частота которых выше акустической (от 15 кГц), называются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ультразвук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ниже акустической -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нфразву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Есть животные, которые не только воспринимают ультразвук, но и сами излучают его. Ультразвук заменяет им зр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30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3000"/>
                                        <p:tgtEl>
                                          <p:spTgt spid="2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3000" fill="hold"/>
                                        <p:tgtEl>
                                          <p:spTgt spid="2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2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3000"/>
                                        <p:tgtEl>
                                          <p:spTgt spid="2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2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2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f20"/>
            </a:gs>
            <a:gs pos="100000">
              <a:srgbClr val="5464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"/>
          <p:cNvSpPr txBox="1"/>
          <p:nvPr/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 txBox="1"/>
          <p:nvPr/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c00cc"/>
                </a:solidFill>
                <a:latin typeface="Arial"/>
              </a:rPr>
              <a:t>Ульразвук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тствует в шуме ветра и водопада, в звуках, производимых живыми существами. Многие насекомые воспринимают ультразвук (сверчки, цикады, кузнечики). Восприятие ультразвука в диапазоне частот до 100 кГц обнаружено у многих грызунов. Собаки слышат подобные колебания, что используется при подаче служебным собакам сигналов, которых не слышат окружающие люд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3000"/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1182600" y="2017800"/>
            <a:ext cx="38102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1398600" y="223344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1614600" y="244944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1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2881440" cy="3887640"/>
          </a:xfrm>
          <a:prstGeom prst="rect">
            <a:avLst/>
          </a:prstGeom>
          <a:ln w="0">
            <a:noFill/>
          </a:ln>
        </p:spPr>
      </p:pic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99"/>
                </a:solidFill>
                <a:latin typeface="Showcard Gothic"/>
              </a:rPr>
              <a:t>Живые локаторы - летучие мыш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3398760" y="1979280"/>
            <a:ext cx="51832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нципы эхолокации были использованы в радарах и сонарах ещё до того, как были обнаружены у животных. Однако искусство, с которым летучие мыши выделяют информацию  из эха от посылаемых сигналов, поистине фантастично. Эхолокация позволяет мышам охотиться за комарами, которых они хватают на лету со скоростью около двух штук в секунду, за рыбами, находящимися вблизи поверхности в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4" name="" descr=""/>
          <p:cNvPicPr/>
          <p:nvPr/>
        </p:nvPicPr>
        <p:blipFill>
          <a:blip r:embed="rId3"/>
          <a:stretch/>
        </p:blipFill>
        <p:spPr>
          <a:xfrm>
            <a:off x="755640" y="2133720"/>
            <a:ext cx="288144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Дельфин - загадка прир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41911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Одна из удивительных особенностей слуха дельфина - это способность его слышать очень слабые сигналы в сильных шумах. Столь удивительной остроте слуха дельфин обязан острой пространственной избирательности и направленности своего слухового восприятия. Эхолокатор дельфина работает на ультразвуковых частотах 80-100 кГц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7" name="" descr="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 flipH="1">
            <a:off x="2987280" y="1773360"/>
            <a:ext cx="1513080" cy="3743280"/>
          </a:xfrm>
          <a:prstGeom prst="line">
            <a:avLst/>
          </a:prstGeom>
          <a:ln w="38160">
            <a:solidFill>
              <a:srgbClr val="6865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 flipH="1">
            <a:off x="2195280" y="1773360"/>
            <a:ext cx="2305080" cy="2735280"/>
          </a:xfrm>
          <a:prstGeom prst="line">
            <a:avLst/>
          </a:prstGeom>
          <a:ln w="38160">
            <a:solidFill>
              <a:srgbClr val="6865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1979640" y="1773360"/>
            <a:ext cx="2448000" cy="1655640"/>
          </a:xfrm>
          <a:prstGeom prst="line">
            <a:avLst/>
          </a:prstGeom>
          <a:ln w="38160">
            <a:solidFill>
              <a:srgbClr val="6865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4500720" y="1773360"/>
            <a:ext cx="1584000" cy="2879640"/>
          </a:xfrm>
          <a:prstGeom prst="line">
            <a:avLst/>
          </a:prstGeom>
          <a:ln w="38160">
            <a:solidFill>
              <a:srgbClr val="6865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4500720" y="1700280"/>
            <a:ext cx="1726920" cy="2233440"/>
          </a:xfrm>
          <a:prstGeom prst="line">
            <a:avLst/>
          </a:prstGeom>
          <a:ln w="38160">
            <a:solidFill>
              <a:srgbClr val="6865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4500720" y="1773360"/>
            <a:ext cx="358560" cy="3456000"/>
          </a:xfrm>
          <a:prstGeom prst="line">
            <a:avLst/>
          </a:prstGeom>
          <a:ln w="38160">
            <a:solidFill>
              <a:srgbClr val="6865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4140000" y="1773360"/>
            <a:ext cx="360360" cy="2519280"/>
          </a:xfrm>
          <a:prstGeom prst="line">
            <a:avLst/>
          </a:prstGeom>
          <a:ln w="38160">
            <a:solidFill>
              <a:srgbClr val="6865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5003640" y="2781360"/>
            <a:ext cx="3313440" cy="100800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агностика инородных те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каня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2411280" y="476280"/>
            <a:ext cx="4248360" cy="129384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н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льтразву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468360" y="1916280"/>
            <a:ext cx="2951280" cy="108108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готовление эмульсий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спенз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2124000" y="2565360"/>
            <a:ext cx="3240000" cy="100800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действие на семена растен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стимуляции их развит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5867280" y="1916280"/>
            <a:ext cx="3097440" cy="100800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агностика злокачественны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ухоле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ухолей мозг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1116000" y="3429000"/>
            <a:ext cx="2735280" cy="93672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рилизация хирургическ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струмен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5940360" y="3716280"/>
            <a:ext cx="2808360" cy="93672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дение ингаля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3132000" y="4149720"/>
            <a:ext cx="2952720" cy="86364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ирур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971640" y="4508640"/>
            <a:ext cx="2592360" cy="93636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топе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5651640" y="4581360"/>
            <a:ext cx="2665440" cy="79236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фтальм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3419640" y="5229360"/>
            <a:ext cx="2808000" cy="86364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инек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334800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 flipH="1">
            <a:off x="1763280" y="981000"/>
            <a:ext cx="647640" cy="93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6659640" y="1125360"/>
            <a:ext cx="936720" cy="7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 flipH="1">
            <a:off x="4067280" y="1773360"/>
            <a:ext cx="43344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4572000" y="1773360"/>
            <a:ext cx="151128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1476360" y="5516640"/>
            <a:ext cx="2519280" cy="865080"/>
          </a:xfrm>
          <a:prstGeom prst="ellipse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зыкотерап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20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20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20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20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20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20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20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20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20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2000"/>
                                        <p:tgtEl>
                                          <p:spTgt spid="2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2000"/>
                                        <p:tgtEl>
                                          <p:spTgt spid="2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20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20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20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20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20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20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0" dur="2000"/>
                                        <p:tgtEl>
                                          <p:spTgt spid="2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20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20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20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0" dur="20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20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ernard MT Condensed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ernard MT Condensed"/>
              </a:rPr>
              <a:t>Издаёт звуки и море. Частота его звуков меньше 16 Гц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ernard MT Condensed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Bernard MT Condensed"/>
              </a:rPr>
              <a:t>Инфразвук мало поглощается воздухом, поэтому инфразвуковая волна распространяется на большие расстоя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ernard MT Condensed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ernard MT Condensed"/>
              </a:rPr>
              <a:t>Инфразвук обладает разрушительной силой, а потому работа с ним и его изучение представляют труднос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ernard MT Condensed"/>
              </a:rPr>
              <a:t>И всё же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7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105440" cy="4967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2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2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3000"/>
                                        <p:tgtEl>
                                          <p:spTgt spid="2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2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0" fill="hold"/>
                                        <p:tgtEl>
                                          <p:spTgt spid="2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3000"/>
                                        <p:tgtEl>
                                          <p:spTgt spid="2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6000"/>
                            </p:stCondLst>
                            <p:childTnLst>
                              <p:par>
                                <p:cTn id="632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3000" fill="hold"/>
                                        <p:tgtEl>
                                          <p:spTgt spid="2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0" fill="hold"/>
                                        <p:tgtEl>
                                          <p:spTgt spid="2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3000"/>
                                        <p:tgtEl>
                                          <p:spTgt spid="2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9000"/>
                            </p:stCondLst>
                            <p:childTnLst>
                              <p:par>
                                <p:cTn id="638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3000" fill="hold"/>
                                        <p:tgtEl>
                                          <p:spTgt spid="2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2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3000"/>
                                        <p:tgtEl>
                                          <p:spTgt spid="2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"/>
          <p:cNvSpPr/>
          <p:nvPr/>
        </p:nvSpPr>
        <p:spPr>
          <a:xfrm>
            <a:off x="5580000" y="1916280"/>
            <a:ext cx="1871640" cy="25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 flipH="1">
            <a:off x="1763280" y="1989000"/>
            <a:ext cx="2016360" cy="23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4788000" y="1989000"/>
            <a:ext cx="71280" cy="338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2411280" y="981000"/>
            <a:ext cx="4248360" cy="100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7fa2a"/>
                </a:solidFill>
                <a:latin typeface="Times New Roman"/>
              </a:rPr>
              <a:t>Применение инфразву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826920" y="2492280"/>
            <a:ext cx="2592720" cy="1081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енное де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5796000" y="2565360"/>
            <a:ext cx="2663640" cy="93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офиз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2050920" y="3284640"/>
            <a:ext cx="2521080" cy="1152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болов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5003640" y="3284640"/>
            <a:ext cx="2521080" cy="1152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059280" y="3860640"/>
            <a:ext cx="3024000" cy="1152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гнозирование шторм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цун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 flipH="1">
            <a:off x="2339640" y="1916280"/>
            <a:ext cx="1079640" cy="57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 flipH="1">
            <a:off x="3563640" y="1989000"/>
            <a:ext cx="57636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4572000" y="1989000"/>
            <a:ext cx="0" cy="187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5003640" y="1989000"/>
            <a:ext cx="790560" cy="1368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5867280" y="1844640"/>
            <a:ext cx="13687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324000" y="4365720"/>
            <a:ext cx="2663640" cy="1224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таллур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6084720" y="4437000"/>
            <a:ext cx="2808360" cy="1152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им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мыш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3132000" y="5373720"/>
            <a:ext cx="2952720" cy="1079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4265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Script MT Bold"/>
              </a:rPr>
              <a:t>Звук</a:t>
            </a:r>
            <a:r>
              <a:rPr b="1" i="1" lang="ru-RU" sz="4000" spc="-1" strike="noStrike">
                <a:solidFill>
                  <a:srgbClr val="009900"/>
                </a:solidFill>
                <a:latin typeface="Script MT Bold"/>
              </a:rPr>
              <a:t> –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  это механические волны, действие которых на ухо человека создаёт слуховые ощущ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383328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ьшинство людей воспринимает как звук волны с частотами колебаний                                   от 16 – 20 Гц до 20 кГ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1471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66ffff"/>
                </a:solidFill>
                <a:latin typeface="Stencil"/>
              </a:rPr>
              <a:t>Медуза задолго до приближения шторма спешит укрыться в безопасном месте на большей глубине. Она способна улавливать недоступные уху человека инфразвуковые колебания (частотой 8 – 13 Гц), хорошо распространяющиеся в воде и появляющиеся за 10-15 ч до шторм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2000"/>
                                        <p:tgtEl>
                                          <p:spTgt spid="2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473440"/>
          </a:xfrm>
          <a:prstGeom prst="rect">
            <a:avLst/>
          </a:prstGeom>
          <a:solidFill>
            <a:srgbClr val="eafc7c"/>
          </a:solidFill>
          <a:ln w="9360">
            <a:solidFill>
              <a:srgbClr val="eafc7c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ru-RU" sz="5400" spc="-1" strike="noStrike">
                <a:solidFill>
                  <a:srgbClr val="ff33cc"/>
                </a:solidFill>
                <a:latin typeface="Monotype Corsiva"/>
              </a:rPr>
              <a:t>Звук  может быть и нашим врагом, и нашим союзником в зависимости от того, насколько полно и точно мы знаем его влияние на человеческий организ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62" name=""/>
          <p:cNvSpPr/>
          <p:nvPr/>
        </p:nvSpPr>
        <p:spPr>
          <a:xfrm>
            <a:off x="539640" y="692280"/>
            <a:ext cx="8229600" cy="5473440"/>
          </a:xfrm>
          <a:prstGeom prst="rect">
            <a:avLst/>
          </a:prstGeom>
          <a:solidFill>
            <a:srgbClr val="eafc7c"/>
          </a:solidFill>
          <a:ln w="9360">
            <a:solidFill>
              <a:srgbClr val="eaf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ru-RU" sz="5400" spc="-1" strike="noStrike">
                <a:solidFill>
                  <a:srgbClr val="ff33cc"/>
                </a:solidFill>
                <a:latin typeface="Monotype Corsiva"/>
              </a:rPr>
              <a:t>Звук  может быть и нашим врагом, и нашим союзником в зависимости от того, насколько полно и точно мы знаем его влияние на человеческий организ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3000"/>
                                        <p:tgtEl>
                                          <p:spTgt spid="2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3000" fill="hold"/>
                                        <p:tgtEl>
                                          <p:spTgt spid="2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000" fill="hold"/>
                                        <p:tgtEl>
                                          <p:spTgt spid="2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1" dur="38950" fill="hold"/>
                                        <p:tgtEl>
                                          <p:spTgt spid="2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3000"/>
                                        <p:tgtEl>
                                          <p:spTgt spid="2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3000" fill="hold"/>
                                        <p:tgtEl>
                                          <p:spTgt spid="2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2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8" dur="38950" fill="hold"/>
                                        <p:tgtEl>
                                          <p:spTgt spid="2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Что же может быть источником звука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стейший источник звука – колеблющийся камертон, вибрация ножек которого порождает распространяющиеся во все стороны волны давления, воспринимаемые нашим органом слух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6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3887640" cy="4270320"/>
          </a:xfrm>
          <a:prstGeom prst="rect">
            <a:avLst/>
          </a:prstGeom>
          <a:ln w="0">
            <a:noFill/>
          </a:ln>
        </p:spPr>
      </p:pic>
      <p:pic>
        <p:nvPicPr>
          <p:cNvPr id="2117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477" fill="hold"/>
                                        <p:tgtEl>
                                          <p:spTgt spid="2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2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2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2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ff"/>
                </a:solidFill>
                <a:latin typeface="Tahoma"/>
              </a:rPr>
              <a:t>Подобно волнам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сли ударить по столу камертоном, он начинает колебаться и издавать звук. Опустим колеблющийся камертон в воду - его колебания переходят воде. Вода приходит в движение, возникают брызги и маленькие волны. Воздух рядом с источником звука начинает колебаться, и эти колебания передаются по воздуху дальше, пока не достигнут нашего ух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2" name="" descr=""/>
          <p:cNvPicPr/>
          <p:nvPr/>
        </p:nvPicPr>
        <p:blipFill>
          <a:blip r:embed="rId2"/>
          <a:stretch/>
        </p:blipFill>
        <p:spPr>
          <a:xfrm>
            <a:off x="4978440" y="1981080"/>
            <a:ext cx="3376440" cy="4114800"/>
          </a:xfrm>
          <a:prstGeom prst="rect">
            <a:avLst/>
          </a:prstGeom>
          <a:ln w="0">
            <a:noFill/>
          </a:ln>
        </p:spPr>
      </p:pic>
      <p:pic>
        <p:nvPicPr>
          <p:cNvPr id="212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70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191" fill="hold"/>
                                        <p:tgtEl>
                                          <p:spTgt spid="2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6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250920" cy="250920"/>
          </a:xfrm>
          <a:prstGeom prst="rect">
            <a:avLst/>
          </a:prstGeom>
          <a:ln w="0">
            <a:noFill/>
          </a:ln>
        </p:spPr>
      </p:pic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9900"/>
                </a:solidFill>
                <a:latin typeface="Tahoma"/>
              </a:rPr>
              <a:t>Но как звук доходит до нас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5327280" y="1773360"/>
            <a:ext cx="38163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чевидно, через воздух, который разделяет ухо и источник зву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о, что воздух проводник звука, было доказано опытом, поставленным                в 1660 году Р. Бойлем. Если откачать воздух из-под колокола воздушного насоса, то мы не услышим звучания находящегося там приёмн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9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49687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2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2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2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4192" fill="hold"/>
                                        <p:tgtEl>
                                          <p:spTgt spid="2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Times New Roman"/>
              </a:rPr>
              <a:t>Звук –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5400" spc="-1" strike="noStrike">
                <a:solidFill>
                  <a:srgbClr val="ff9999"/>
                </a:solidFill>
                <a:latin typeface="Times New Roman"/>
              </a:rPr>
              <a:t>это последовательность распространяющихся волн сжатия  и разрежения в окружающей нас среде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"/>
          <p:cNvSpPr/>
          <p:nvPr/>
        </p:nvSpPr>
        <p:spPr>
          <a:xfrm>
            <a:off x="1835280" y="836640"/>
            <a:ext cx="5472000" cy="16556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79"/>
                </a:solidFill>
                <a:latin typeface="Stencil"/>
              </a:rPr>
              <a:t>Основные парамет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79"/>
                </a:solidFill>
                <a:latin typeface="Stencil"/>
              </a:rPr>
              <a:t>звуковой вол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2989440" y="4005360"/>
            <a:ext cx="3168360" cy="1008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мплит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6227640" y="3068640"/>
            <a:ext cx="2592360" cy="936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tencil"/>
              </a:rPr>
              <a:t>Скор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tencil"/>
              </a:rPr>
              <a:t>распростра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 flipH="1">
            <a:off x="1835280" y="2276640"/>
            <a:ext cx="93816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395280" y="3068640"/>
            <a:ext cx="2521080" cy="936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Stencil"/>
              </a:rPr>
              <a:t>часто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6443640" y="2276640"/>
            <a:ext cx="108108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4643280" y="2492280"/>
            <a:ext cx="3240" cy="151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2773440" y="2276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30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30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30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30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30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30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30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30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1403280" y="1052640"/>
            <a:ext cx="705960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Скорость звуковых волн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в воздухе при температуре 0</a:t>
            </a:r>
            <a:r>
              <a:rPr b="1" lang="ru-RU" sz="3600" spc="-1" strike="noStrike" baseline="30000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С равна 334 м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826560" y="3357360"/>
            <a:ext cx="79218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lvl="1" marL="51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ледовательно, длины звуковых волн в воздухе принимают знач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т 17 м до 0, 017 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3" name=""/>
              <p:cNvSpPr txBox="1"/>
              <p:nvPr/>
            </p:nvSpPr>
            <p:spPr>
              <a:xfrm>
                <a:off x="6127920" y="2560680"/>
                <a:ext cx="142056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6:39:28Z</dcterms:created>
  <dc:creator>SuperUser</dc:creator>
  <dc:description/>
  <dc:language>en-US</dc:language>
  <cp:lastModifiedBy>exp1osive</cp:lastModifiedBy>
  <dcterms:modified xsi:type="dcterms:W3CDTF">2015-03-09T07:32:53Z</dcterms:modified>
  <cp:revision>53</cp:revision>
  <dc:subject/>
  <dc:title>   В мире                 зву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