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9F6-2416-4FAA-AC1E-18D64E9B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0E1-9C97-4C67-B078-1F79F30C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53F-F5BD-4337-BD11-93B5BEC4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265-ECBA-47A2-B349-2348C16D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E05-5CC6-4AC1-8153-1ECD8F99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1C9-9378-4C06-B897-E4D14CDA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8EF-F100-4D33-AAF5-C5B234D8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430-86C0-4EFF-A3ED-163C3D75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B85-32EC-4B2E-B62A-E7AF9E74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66B-311F-4482-8D22-6085E198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DEA-504E-4388-9F57-CD6E727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BF4-A7EC-408E-8C77-146089AD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38EA-6594-4500-8E54-0098DF47B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кругленный прямоугольник 1" descr=""/>
          <p:cNvPicPr/>
          <p:nvPr/>
        </p:nvPicPr>
        <p:blipFill>
          <a:blip r:embed="rId1"/>
          <a:stretch/>
        </p:blipFill>
        <p:spPr>
          <a:xfrm>
            <a:off x="-49320" y="-128520"/>
            <a:ext cx="9248760" cy="688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908000" y="1469880"/>
            <a:ext cx="4953240" cy="5238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58760" y="115920"/>
            <a:ext cx="890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Девять – звонко барабани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08000" y="597204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 Держать рот широко открытым. Стучать языком по внутренней поверхности верхних резцов,  произнося «д – д – д»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9" descr=""/>
          <p:cNvPicPr/>
          <p:nvPr/>
        </p:nvPicPr>
        <p:blipFill>
          <a:blip r:embed="rId2"/>
          <a:stretch/>
        </p:blipFill>
        <p:spPr>
          <a:xfrm>
            <a:off x="1577880" y="858960"/>
            <a:ext cx="5988240" cy="5207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28520" y="115920"/>
            <a:ext cx="890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Десять – тихо отдыха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87480" y="6218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 Рот закрыть. Язык спокойно лежит во рту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0" descr=""/>
          <p:cNvPicPr/>
          <p:nvPr/>
        </p:nvPicPr>
        <p:blipFill>
          <a:blip r:embed="rId2"/>
          <a:stretch/>
        </p:blipFill>
        <p:spPr>
          <a:xfrm>
            <a:off x="1547640" y="885960"/>
            <a:ext cx="6409080" cy="5332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Скругленный прямоугольник 4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8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Прямоугольник 1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212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Скругленный прямоугольник 4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88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Прямоугольник 1"/>
          <p:cNvSpPr/>
          <p:nvPr/>
        </p:nvSpPr>
        <p:spPr>
          <a:xfrm>
            <a:off x="-14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В презентации использованы материалы книги Т.А.Куликовской «Артикуляционная гимнастика в  считал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1" descr=""/>
          <p:cNvPicPr/>
          <p:nvPr/>
        </p:nvPicPr>
        <p:blipFill>
          <a:blip r:embed="rId2"/>
          <a:stretch/>
        </p:blipFill>
        <p:spPr>
          <a:xfrm>
            <a:off x="1835280" y="901800"/>
            <a:ext cx="4968720" cy="5325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8000" y="13176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Раз – зевнул в лесу мышон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87480" y="6218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 Открывать широкорот и закрывать его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08000" y="28260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Два – лакает суп котен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14200" y="582300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 Рот открыть. Высунуть широкий язык. Выполнять лакательные движения язык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2" descr=""/>
          <p:cNvPicPr/>
          <p:nvPr/>
        </p:nvPicPr>
        <p:blipFill>
          <a:blip r:embed="rId2"/>
          <a:stretch/>
        </p:blipFill>
        <p:spPr>
          <a:xfrm>
            <a:off x="1303200" y="992160"/>
            <a:ext cx="675180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28520" y="115920"/>
            <a:ext cx="890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Три – лошадка поскака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87480" y="554040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 Рот держать широко открытым. Улыбнуться. Медленно щелкать языком, присасывая его к небу и отрывая от него. Тянуть подъязычную связку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13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321240" cy="4632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42920" y="14760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На четыре - постоя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87480" y="563580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 Широко открыть рот и улыбнуться. Присосать язык к небу и не открывать его. Тянуть нижнюю челюсть вниз, растягивая подъязычную связку.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4" descr=""/>
          <p:cNvPicPr/>
          <p:nvPr/>
        </p:nvPicPr>
        <p:blipFill>
          <a:blip r:embed="rId2"/>
          <a:stretch/>
        </p:blipFill>
        <p:spPr>
          <a:xfrm>
            <a:off x="1476360" y="884160"/>
            <a:ext cx="6149880" cy="4888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87480" y="115920"/>
            <a:ext cx="890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Пять – болтают индю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15" descr=""/>
          <p:cNvPicPr/>
          <p:nvPr/>
        </p:nvPicPr>
        <p:blipFill>
          <a:blip r:embed="rId2"/>
          <a:stretch/>
        </p:blipFill>
        <p:spPr>
          <a:xfrm>
            <a:off x="1320840" y="861840"/>
            <a:ext cx="6440400" cy="5078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146160" y="596412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 Широко открыть рот. «Болтать» языком, проводя им вперед – назад по верхней губе: «бл – бл – бл».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87480" y="115920"/>
            <a:ext cx="890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Шесть – качели у ре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27080" y="5910120"/>
            <a:ext cx="89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Открыть рот. Тянуться языком то к носу, то к подбород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Рот не закрывать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6" descr=""/>
          <p:cNvPicPr/>
          <p:nvPr/>
        </p:nvPicPr>
        <p:blipFill>
          <a:blip r:embed="rId2"/>
          <a:stretch/>
        </p:blipFill>
        <p:spPr>
          <a:xfrm>
            <a:off x="1822320" y="917640"/>
            <a:ext cx="543744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108000" y="147600"/>
            <a:ext cx="890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Семь – варенье мы попроси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17" descr=""/>
          <p:cNvPicPr/>
          <p:nvPr/>
        </p:nvPicPr>
        <p:blipFill>
          <a:blip r:embed="rId2"/>
          <a:stretch/>
        </p:blipFill>
        <p:spPr>
          <a:xfrm>
            <a:off x="1695600" y="917640"/>
            <a:ext cx="5573520" cy="4808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142920" y="572616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 Рот открыть, улыбнуться. Широким языком облизать верхнюю губу. При этом стараемся «обнять» языком сразу всю губу и облизать ее, втягивая язык вглубь рта. Рот не закрывать.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950320" cy="6651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08000" y="163440"/>
            <a:ext cx="890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Восемь – мячик мы подброси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87480" y="591012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166a2"/>
                </a:solidFill>
                <a:latin typeface="Times New Roman"/>
                <a:ea typeface="Times New Roman"/>
              </a:rPr>
              <a:t>( Рот открыть. Вытягивать язык вверх, забрасывая его на верхнюю губку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8" descr=""/>
          <p:cNvPicPr/>
          <p:nvPr/>
        </p:nvPicPr>
        <p:blipFill>
          <a:blip r:embed="rId2"/>
          <a:stretch/>
        </p:blipFill>
        <p:spPr>
          <a:xfrm>
            <a:off x="2967120" y="826920"/>
            <a:ext cx="3168720" cy="5204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5:31:48Z</dcterms:created>
  <dc:creator>Солнышко</dc:creator>
  <dc:description/>
  <dc:language>en-US</dc:language>
  <cp:lastModifiedBy>.</cp:lastModifiedBy>
  <dcterms:modified xsi:type="dcterms:W3CDTF">2014-01-29T19:55:11Z</dcterms:modified>
  <cp:revision>7</cp:revision>
  <dc:subject/>
  <dc:title>Презентация PowerPoint</dc:title>
</cp:coreProperties>
</file>