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FB2-A55B-493D-969F-8AAC6119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ECC-8924-44F8-8F72-9ACD2A97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4EC-F357-4BBE-9862-57B93E32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D5D-6FE5-4EBC-8208-DD37F3C1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95E-5185-4890-BA3B-710393EC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CDA-EC91-4732-A88D-5BCBED7B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A55-8B3B-4D51-8BC0-A66AC01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AF6-3104-4732-86EC-937C0F6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D2A-15D7-496A-A979-0F33FC1D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A4C-2E17-44FD-8539-40A89A2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7B3-B15D-47FF-950C-037777B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476-BF29-4E45-8EC4-35731CE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cc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A903-0563-4862-9D6E-294D93C10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4360" y="404640"/>
            <a:ext cx="2087280" cy="251964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492360" y="476280"/>
            <a:ext cx="2232000" cy="244800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588000" y="476280"/>
            <a:ext cx="2160720" cy="244800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000" y="2492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ус Бе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324000" y="476280"/>
            <a:ext cx="21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638160" y="2492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аль Амунд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3059280" y="476280"/>
            <a:ext cx="3301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pic>
        <p:nvPicPr>
          <p:cNvPr id="48" name="Picture 14" descr="магеллан"/>
          <p:cNvPicPr/>
          <p:nvPr/>
        </p:nvPicPr>
        <p:blipFill>
          <a:blip r:embed="rId1"/>
          <a:stretch/>
        </p:blipFill>
        <p:spPr>
          <a:xfrm>
            <a:off x="6877080" y="620640"/>
            <a:ext cx="152568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5"/>
          <p:cNvSpPr/>
          <p:nvPr/>
        </p:nvSpPr>
        <p:spPr>
          <a:xfrm>
            <a:off x="6878880" y="24922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.Магел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6"/>
          <p:cNvSpPr txBox="1"/>
          <p:nvPr/>
        </p:nvSpPr>
        <p:spPr>
          <a:xfrm>
            <a:off x="6084720" y="476280"/>
            <a:ext cx="26352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684360" y="3500280"/>
            <a:ext cx="2158920" cy="259272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3564000" y="3500280"/>
            <a:ext cx="2232000" cy="259272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588000" y="3500280"/>
            <a:ext cx="2160720" cy="259272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1"/>
          <p:cNvSpPr txBox="1"/>
          <p:nvPr/>
        </p:nvSpPr>
        <p:spPr>
          <a:xfrm>
            <a:off x="179280" y="357336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55" name="WordArt 22"/>
          <p:cNvSpPr txBox="1"/>
          <p:nvPr/>
        </p:nvSpPr>
        <p:spPr>
          <a:xfrm>
            <a:off x="3059280" y="357336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56" name="WordArt 23"/>
          <p:cNvSpPr txBox="1"/>
          <p:nvPr/>
        </p:nvSpPr>
        <p:spPr>
          <a:xfrm>
            <a:off x="6156360" y="357336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pic>
        <p:nvPicPr>
          <p:cNvPr id="57" name="Picture 26" descr="Пржевальский"/>
          <p:cNvPicPr/>
          <p:nvPr/>
        </p:nvPicPr>
        <p:blipFill>
          <a:blip r:embed="rId2"/>
          <a:stretch/>
        </p:blipFill>
        <p:spPr>
          <a:xfrm>
            <a:off x="7020000" y="3645000"/>
            <a:ext cx="1368360" cy="1728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7"/>
          <p:cNvSpPr/>
          <p:nvPr/>
        </p:nvSpPr>
        <p:spPr>
          <a:xfrm>
            <a:off x="902160" y="5589720"/>
            <a:ext cx="17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ерт Пи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3854520" y="5589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ерт Ско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6521040" y="551664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М.Пржева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2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162864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3" descr=""/>
          <p:cNvPicPr/>
          <p:nvPr/>
        </p:nvPicPr>
        <p:blipFill>
          <a:blip r:embed="rId4"/>
          <a:stretch/>
        </p:blipFill>
        <p:spPr>
          <a:xfrm>
            <a:off x="3851280" y="3645000"/>
            <a:ext cx="1657440" cy="19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"/>
          <p:cNvPicPr/>
          <p:nvPr/>
        </p:nvPicPr>
        <p:blipFill>
          <a:blip r:embed="rId5"/>
          <a:stretch/>
        </p:blipFill>
        <p:spPr>
          <a:xfrm>
            <a:off x="971640" y="549360"/>
            <a:ext cx="1555560" cy="197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"/>
          <p:cNvPicPr/>
          <p:nvPr/>
        </p:nvPicPr>
        <p:blipFill>
          <a:blip r:embed="rId6"/>
          <a:stretch/>
        </p:blipFill>
        <p:spPr>
          <a:xfrm>
            <a:off x="3780000" y="549360"/>
            <a:ext cx="1655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114800" cy="525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677520" y="1295280"/>
            <a:ext cx="3467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25 -0.00208 L -0.52292 0.06459 E">
                                      <p:cBhvr>
                                        <p:cTn id="1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5120" y="-3077640"/>
            <a:ext cx="905184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к риску, батя, не привык, скажу я не солгав. А нам такой не нуже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60" y="7488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4137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к рис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б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я, не привык, скажу я не со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г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 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 такой не нуже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527760"/>
            <a:ext cx="236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ешане -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нетчане -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егаски -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личи -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ичи -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яне -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ичи -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ляне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8991720" y="603720"/>
            <a:ext cx="5446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п. Палех, Ивановская область РФ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Донецке, Украин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Монако, Европ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Осло, Норвеги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Омске, РФ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Курске, РФ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Томске, РФ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В Смоленске, РФ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38 -0.00487 L -0.68038 -0.00487 E">
                                      <p:cBhvr>
                                        <p:cTn id="2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1692360" y="1700280"/>
            <a:ext cx="5688000" cy="647640"/>
          </a:xfrm>
          <a:prstGeom prst="flowChartAlternateProcess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692360" y="2637000"/>
            <a:ext cx="5688000" cy="647640"/>
          </a:xfrm>
          <a:prstGeom prst="flowChartAlternateProcess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692360" y="4653000"/>
            <a:ext cx="5688000" cy="647640"/>
          </a:xfrm>
          <a:prstGeom prst="flowChartAlternateProcess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1692360" y="3645000"/>
            <a:ext cx="5688000" cy="647640"/>
          </a:xfrm>
          <a:prstGeom prst="flowChartAlternateProcess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1692360" y="692280"/>
            <a:ext cx="5688000" cy="647640"/>
          </a:xfrm>
          <a:prstGeom prst="flowChartAlternateProcess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1692360" y="5661000"/>
            <a:ext cx="5688000" cy="649440"/>
          </a:xfrm>
          <a:prstGeom prst="flowChartAlternateProcess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1187280" y="692280"/>
            <a:ext cx="257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11"/>
          <p:cNvSpPr txBox="1"/>
          <p:nvPr/>
        </p:nvSpPr>
        <p:spPr>
          <a:xfrm>
            <a:off x="1258920" y="1773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125892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13"/>
          <p:cNvSpPr txBox="1"/>
          <p:nvPr/>
        </p:nvSpPr>
        <p:spPr>
          <a:xfrm>
            <a:off x="1187280" y="371628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>
            <a:off x="1258920" y="47242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5"/>
          <p:cNvSpPr txBox="1"/>
          <p:nvPr/>
        </p:nvSpPr>
        <p:spPr>
          <a:xfrm>
            <a:off x="1258920" y="5734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16"/>
          <p:cNvSpPr txBox="1"/>
          <p:nvPr/>
        </p:nvSpPr>
        <p:spPr>
          <a:xfrm>
            <a:off x="9612360" y="765000"/>
            <a:ext cx="1590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лумб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WordArt 17"/>
          <p:cNvSpPr txBox="1"/>
          <p:nvPr/>
        </p:nvSpPr>
        <p:spPr>
          <a:xfrm>
            <a:off x="9325080" y="170028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гелл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18"/>
          <p:cNvSpPr txBox="1"/>
          <p:nvPr/>
        </p:nvSpPr>
        <p:spPr>
          <a:xfrm>
            <a:off x="9468000" y="278136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19"/>
          <p:cNvSpPr txBox="1"/>
          <p:nvPr/>
        </p:nvSpPr>
        <p:spPr>
          <a:xfrm>
            <a:off x="9612360" y="3716280"/>
            <a:ext cx="150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рин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WordArt 20"/>
          <p:cNvSpPr txBox="1"/>
          <p:nvPr/>
        </p:nvSpPr>
        <p:spPr>
          <a:xfrm>
            <a:off x="9468000" y="4724280"/>
            <a:ext cx="310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жевальск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21"/>
          <p:cNvSpPr txBox="1"/>
          <p:nvPr/>
        </p:nvSpPr>
        <p:spPr>
          <a:xfrm>
            <a:off x="9540720" y="5805360"/>
            <a:ext cx="281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ско да Га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22"/>
          <p:cNvSpPr txBox="1"/>
          <p:nvPr/>
        </p:nvSpPr>
        <p:spPr>
          <a:xfrm>
            <a:off x="7596360" y="692280"/>
            <a:ext cx="504720" cy="55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037 L -0.65399 0.0037 E">
                                      <p:cBhvr>
                                        <p:cTn id="3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09 0.01435 L -0.64271 0.01435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2 -0.00671 L -0.58073 -0.00671 E">
                                      <p:cBhvr>
                                        <p:cTn id="4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11 0.00394 L -0.64132 0.00394 E">
                                      <p:cBhvr>
                                        <p:cTn id="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61 0.00394 L -0.70521 0.00394 E">
                                      <p:cBhvr>
                                        <p:cTn id="4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97 -0.00671 L -0.69757 -0.00671 E">
                                      <p:cBhvr>
                                        <p:cTn id="5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9:31:22Z</dcterms:created>
  <dc:creator>UserXP</dc:creator>
  <dc:description/>
  <dc:language>en-US</dc:language>
  <cp:lastModifiedBy>пк</cp:lastModifiedBy>
  <dcterms:modified xsi:type="dcterms:W3CDTF">2012-04-07T11:37:21Z</dcterms:modified>
  <cp:revision>7</cp:revision>
  <dc:subject/>
  <dc:title>Слайд 1</dc:title>
</cp:coreProperties>
</file>