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BA5-DCC5-4B1F-AEBD-7DE06FF5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B8D2-2B5E-4BE0-A45A-09A67E24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E61-1E74-4B03-8621-4C22259F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B39-55A9-44A3-8DBF-04D34C91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453-AA51-4FB2-81A2-027A29ED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6B4-B7DA-40EE-A437-6978D72E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4B9-12F6-4643-9AE0-852993D1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CCB-7C34-4905-B8DE-4ED6152F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785-CC1E-4768-B616-E783C27C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6E1A-7FBD-41A0-A820-EEFC918B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6EB0-4E8E-47C3-86D3-6A7FEBC2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6A33-2BAE-43F9-AF04-264F92BC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6518-32F5-450D-A951-84AA0B501F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Скругленный прямоугольник 2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42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Прямоугольник 1" descr=""/>
          <p:cNvPicPr/>
          <p:nvPr/>
        </p:nvPicPr>
        <p:blipFill>
          <a:blip r:embed="rId2"/>
          <a:stretch/>
        </p:blipFill>
        <p:spPr>
          <a:xfrm>
            <a:off x="-19080" y="-334800"/>
            <a:ext cx="9144000" cy="4151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ttp://s016.radikal.ru/i337/1105/c7/0b9ed2a995ef.png"/>
          <p:cNvPicPr/>
          <p:nvPr/>
        </p:nvPicPr>
        <p:blipFill>
          <a:blip r:embed="rId3"/>
          <a:stretch/>
        </p:blipFill>
        <p:spPr>
          <a:xfrm>
            <a:off x="2411280" y="2552760"/>
            <a:ext cx="5256360" cy="4227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Скругленный прямоугольник 2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95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2916360" y="905040"/>
            <a:ext cx="3671640" cy="53546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-6480" y="216000"/>
            <a:ext cx="91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вои ушк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-30240" y="6256440"/>
            <a:ext cx="914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То же по средне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Скругленный прямоугольник 2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101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1862280" y="1109520"/>
            <a:ext cx="5424480" cy="51469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-6480" y="216000"/>
            <a:ext cx="91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Мыл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0" y="6256440"/>
            <a:ext cx="91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тереть правой рукой леву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Скругленный прямоугольник 2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107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805040" y="923760"/>
            <a:ext cx="5478480" cy="5410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-6480" y="216000"/>
            <a:ext cx="91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вои лапоч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-6480" y="6251400"/>
            <a:ext cx="91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тереть левой рукой праву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Скругленный прямоугольник 2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113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2057400" y="923760"/>
            <a:ext cx="5092560" cy="53089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-6480" y="216000"/>
            <a:ext cx="91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аряжалис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-30240" y="6232680"/>
            <a:ext cx="914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крутить кистями ру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Скругленный прямоугольник 2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119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2195640" y="941400"/>
            <a:ext cx="5068800" cy="53452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-6480" y="216000"/>
            <a:ext cx="91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зайчик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-30240" y="6251400"/>
            <a:ext cx="914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«Ушк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Скругленный прямоугольник 2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125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1906560" y="923760"/>
            <a:ext cx="5330880" cy="53326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-6480" y="216000"/>
            <a:ext cx="91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адевал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-30240" y="6256440"/>
            <a:ext cx="914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топать правой ног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Скругленный прямоугольник 2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131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2411280" y="961920"/>
            <a:ext cx="4883400" cy="52894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-6480" y="216000"/>
            <a:ext cx="91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тапоч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-14400" y="6251400"/>
            <a:ext cx="91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топать левой ног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Скругленный прямоугольник 4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137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9" name="Прямоугольник 1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2212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Скругленный прямоугольник 4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141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Прямоугольник 1"/>
          <p:cNvSpPr/>
          <p:nvPr/>
        </p:nvSpPr>
        <p:spPr>
          <a:xfrm>
            <a:off x="-1440" y="1916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В презентации использованы материалы книги Т.Ю.Бардышевой «Привет, ладош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-144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Автор презентации: Бунецкая Н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Скругленный прямоугольник 2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47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425600" y="960480"/>
            <a:ext cx="6235560" cy="5111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-6480" y="216000"/>
            <a:ext cx="91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Жили - бы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-7920" y="6086520"/>
            <a:ext cx="914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крутить перед собой «фонарик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Скругленный прямоугольник 2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53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1874880" y="876240"/>
            <a:ext cx="5394240" cy="545796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-6480" y="216000"/>
            <a:ext cx="91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зайч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-30240" y="6232680"/>
            <a:ext cx="914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казываем «ушк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Скругленный прямоугольник 2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59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340000" y="923760"/>
            <a:ext cx="4535640" cy="5204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-6480" y="216000"/>
            <a:ext cx="91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а лесн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-30240" y="6072120"/>
            <a:ext cx="914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Руки вверх, пальцы врозь  - «дерево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Скругленный прямоугольник 2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65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2484360" y="923760"/>
            <a:ext cx="3888000" cy="55087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-6480" y="216000"/>
            <a:ext cx="91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опушке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-30240" y="6256440"/>
            <a:ext cx="914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Ладонями нарисов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Скругленный прямоугольник 2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71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1425600" y="960480"/>
            <a:ext cx="6235560" cy="5111640"/>
          </a:xfrm>
          <a:prstGeom prst="rect">
            <a:avLst/>
          </a:prstGeom>
          <a:ln w="0">
            <a:noFill/>
          </a:ln>
        </p:spPr>
      </p:pic>
      <p:sp>
        <p:nvSpPr>
          <p:cNvPr id="74" name="TextBox 1"/>
          <p:cNvSpPr/>
          <p:nvPr/>
        </p:nvSpPr>
        <p:spPr>
          <a:xfrm>
            <a:off x="-6480" y="216000"/>
            <a:ext cx="91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Жили - бы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-7920" y="6086520"/>
            <a:ext cx="914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«Фонарик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Скругленный прямоугольник 2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77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874880" y="876240"/>
            <a:ext cx="5394240" cy="545796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-6480" y="216000"/>
            <a:ext cx="91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зайч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-30240" y="6232680"/>
            <a:ext cx="914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казываем «ушк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Скругленный прямоугольник 2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83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2373480" y="939960"/>
            <a:ext cx="4397040" cy="514656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-6480" y="216000"/>
            <a:ext cx="91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В маленькой избушк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-30240" y="6072120"/>
            <a:ext cx="914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«Домик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Скругленный прямоугольник 2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89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2700360" y="895320"/>
            <a:ext cx="3672000" cy="562284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-6480" y="216000"/>
            <a:ext cx="91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Мыл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-14400" y="6251400"/>
            <a:ext cx="91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ровести по указательному пальчи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4T13:01:30Z</dcterms:created>
  <dc:creator>Солнышко</dc:creator>
  <dc:description/>
  <dc:language>en-US</dc:language>
  <cp:lastModifiedBy>Солнышко</cp:lastModifiedBy>
  <dcterms:modified xsi:type="dcterms:W3CDTF">2013-12-24T06:33:25Z</dcterms:modified>
  <cp:revision>13</cp:revision>
  <dc:subject/>
  <dc:title>Презентация PowerPoint</dc:title>
</cp:coreProperties>
</file>