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35E-7897-4657-AFB2-6D8BB541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480-5687-4EDC-B555-F25199FE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767-039C-4637-B841-1A3739CF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B11-E213-4305-9B07-2DCB66BE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FBD-276F-4BF9-9F4D-17DFE87D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961-94B0-4617-ABA4-6DC8742C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FD2-07EB-4FBA-8AFC-FCF79E4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09D5-0311-414B-86EE-87AA8B7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93D-905A-443C-ADC2-05BD541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E78-D66A-4C47-AD32-A7A7C706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DF84-C5F3-4028-9F8C-51BE154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99F-43AB-4784-8B38-5FA8CA0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F4A-7B3F-4F27-B3A1-364F94D9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826-0378-42F1-BEA0-8DA3A82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807-690C-431F-AB75-982D962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7AB-7CA3-4271-9734-757177D6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022C-C8BE-4530-9741-E830F987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28987-70BD-47A2-82EF-B3FA942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53450-02C0-4834-813E-03CE7B16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97DCB-B414-4AB2-830F-F23A0A8D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83AE5-D051-4E38-85B6-E5E4AE86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DE547-7206-41FD-8D51-4CBFB73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F44-D65D-434E-A880-7A903BD7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DD233-04FA-4E35-845F-5079259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DD28-82E4-4780-AD6A-10DFD3B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90FE3-853A-4E1E-99CD-B3A40DF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A6D3E-4B7E-439F-B9E2-F2552EE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6FCAC-7657-4282-9B49-9C8E33A9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D05F4-655C-4219-BD88-94E7E2E9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CAD15-4C19-4607-AE1A-C0D7B11F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18A9-5DBE-4E9D-BBDF-6DB876F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BBA7-A029-4523-AA8B-5F80879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D904-F6C8-4434-A502-7ED3352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947-CC3E-4A9F-81E5-E071A787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6C76-0B2F-4DCF-BC8A-50D11FC1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28E8-BDD6-44DC-9A96-C1B2A1F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F198-1787-411A-92FB-50C1FA6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8F8A-10A7-4D2B-82E3-FC65CD5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45C3-B8B2-4BF5-A073-534EDDB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2FD2-6104-483E-9516-1550DC6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88AB-198F-4C6A-8D88-D5B08FD3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4506-336B-4F02-9EBD-86D6D48B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BD1E-4BF0-483C-B9E7-A21B86FC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E2313-9262-42B8-AED6-ABC47DA8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83B-EB00-46B1-B390-F678821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9117B-1511-499C-BED6-0CF93F2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73674-ED8F-471E-B5FD-0E25A68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4A91C-BF43-4FE4-9846-C2C87446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D2B81-CF84-45F0-9745-062FF68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3C8E8-B03C-4D1B-AE01-4600ACD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DCF52-F8F4-4626-8221-11419DE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C03E3-A7E6-4721-B652-87659AA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A4D11-1386-4225-A9E8-E04330F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B3185-07C9-49BC-BE11-C7020852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D9D4E-7756-48FC-BBA6-99585554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F78-7FD2-472C-B5FA-FF7555F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9F9EF-C387-471A-9F11-D6E9B21A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4B93A-BDDE-454E-BA73-7CEAB7FA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71407-B7D7-4B33-8A04-B91EFBE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0518C-8F7B-4C5A-BE5C-0AE160E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68173-F65D-477A-8E39-F7F5A5F6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D3CB8-C031-4D5D-82B6-FFD7230A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397E6-9F37-4134-8973-FBF5432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CE46A-0162-4FD9-BD79-47D1834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E23B3-8C3D-448D-B32F-8159169E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DD09A-57C1-4451-9BBA-8A3F960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B93-D8DE-4038-A197-131C345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636B7-2E5F-4C98-9C59-8F62603C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F7685-4F8C-485B-A18A-27FE1091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9AEF0-CBAB-40FA-ADBA-665FDD4F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7C4AC-2F91-42DD-9CCE-A957A951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A7D45-F9F0-4DE9-ACF2-7E259F0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3E4BA-195E-4470-9D82-E520D2B7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EFD8C-3F05-46A6-B3BC-CA3B44E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6A70E-0956-4EBB-8DE1-56B6FFAE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6E953-3351-468D-9C2C-D102A26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116A3-802C-43E6-8B7D-41A74A6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85B-DA61-4691-B76E-475C4A0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83011-31D0-47B1-80F9-DDEE144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D4C39-1134-41DF-A27C-7F267DC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9EA74-E8EB-4F5F-B232-EC6538E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54D5B-C0EB-4E80-8D2B-2005BB46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9295D-7C83-403A-8D51-939FF952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CE-1F77-4E16-B749-3E8FD02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E7B-B8D9-4FB2-A8E0-0A99F382BE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472-75A3-4F41-9933-595162226D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D3C-715E-463C-B4DA-9DD50222C8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6b1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fc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fc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9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6b1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9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6b1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6b1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C92-7737-47A9-AB37-94488D014C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C0A-F052-4F79-A6E2-6F75B27BAD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BC0-17CD-470C-8D40-E76536E78A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6b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a3e1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6b1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bad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96464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96464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95C1-41E2-4E0C-8912-9389067E8C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ЧИСЛИТЕЛЬНЫЕ В ПОСЛОВИЦАХ И ПОГОВОРКАХ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9646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одержимое 3" descr="0029-029-Poslovitsy-i-pogovorki.jpg"/>
          <p:cNvPicPr/>
          <p:nvPr/>
        </p:nvPicPr>
        <p:blipFill>
          <a:blip r:embed="rId1"/>
          <a:stretch/>
        </p:blipFill>
        <p:spPr>
          <a:xfrm>
            <a:off x="142920" y="142920"/>
            <a:ext cx="87152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285480"/>
            <a:ext cx="8043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Число 3 (три) в пословицах и поговорка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блудиться в трех сосн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щанного три года жду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 горшка - три верш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ыдать в три ручь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Число 4 (четыре) в пословицах и поговорках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 все четыре сторон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нь на четырех ногах, да и то спотыкае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рыться в четырех стен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14200"/>
            <a:ext cx="8258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5 (пят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ть, как свои пять пальце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6 (шест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естое чувств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14200" y="21420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Число 7 (семь) в пословицах и поговорк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 семи нянек дитя без глаз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пятниц на неде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ро с ложкой, один - с сошк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раз отмерь, один - отреж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ро одного не жду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 одной овечки семь пастух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с сошкой - семеро с ложк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уп из семи круп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ук - от семи нед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 семь вёрст киселя хлеба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вёрст до небес и все лесо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ля бешеной собаки семь вёрст не крю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е велик городок, да семь воев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ем семерых посылать, лучше самому побыва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пятниц на неделе - о непостоянств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пядей во лбу - об ум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бед - один отв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ь футов под килем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дьмая вода на киселе (о родстве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ро по лавкам (о детях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емеро на одно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…семимильными шагам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ятские - ребята хваткие, всемером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ого не боя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3" descr="0002-002-Istoricheskaja-spravka.jpg"/>
          <p:cNvPicPr/>
          <p:nvPr/>
        </p:nvPicPr>
        <p:blipFill>
          <a:blip r:embed="rId1"/>
          <a:stretch/>
        </p:blipFill>
        <p:spPr>
          <a:xfrm>
            <a:off x="142920" y="142920"/>
            <a:ext cx="85010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появились пословицы и поговорки с числом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? Мы считаем, что в древности люди наблюдали семь планет, которые вращаются вокруг Земли, а именно: Луна, Солнце, Марс, Меркурий, Юпитер, Венера и Сатурн. С числом этих небесных тел, по-видимому, связано происхождение семидневной недели лунного месяца. Число семь еще в древнем Вавилоне имело магическое значение. Для арабов, ассирийцев, евреев это число было клятвенным. В библии говорится о «семи духах божьих», «семи светильниках» и т.д. У греков: «семь чудес света», «семь мудрецов» и т.д.; «крепко, как семь» - клятва у французов. У русских: «у семи нянек дитя без глазу», «семь раз отмерь, один раз отрежь»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428400"/>
            <a:ext cx="8186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8 (восем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сна да осень - на день погод восем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9 (девят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 три девять земе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85480" y="214200"/>
            <a:ext cx="80722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10 (десят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сятая вода на кисе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сять знающих не стоят одного, который дело дела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дного стрелка по десятку загонщик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женитьбе сына посоветуйся с десятью, о разводе - с сотн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умный десять безумных вод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ь сел, один вол, да и тот гол, а десять урядник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13840" y="142920"/>
            <a:ext cx="86439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Число 13 (тринадцать) в пословицах и поговорках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токи поверья относительно мистических и страшных свойств числа тринадцать относятся к древним временам, когда у некоторых народов основанием системы счисления было число 12. Оно замыкало для них натуральный ряд, поэтому за числом 12 шло неизвестное, непостижимое число, а значит, опасное для «простых смертных». Во многих гостиницах некоторых современных и высокоразвитых стран (Великобритания, США) отсутствуют номера с числом 13, лифт не останавливается на тринадцатом этаже; нет маршрутов городского транспорта с номером 13 и т. д. Однако ничего страшного в этом числе нет и не может быть. Однако пословиц и поговорок об этом числе так и не сформировалось. Однако всем известно, что число тринадцать у большинства народов имеет другое название - Чертова дюжина. Отнесем его к поговоркам: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0 (нол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ль без палочк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ль внимания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25 (двадцать пять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вадцать пять лет - солдатский ве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ять - двадцать пят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42560" y="428760"/>
            <a:ext cx="8286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едставленные в человеческой речи числа возникли не случайно. Их возникновение связано с существованием и деятельностью человека. Процесс счет окружающих предметов с течением времени приобретал характер естественности, так как без чисел и, собственно, счисления, человечество не могло существовать и развивать экономические отношения. В древности некоторые числа были связаны с представлениями об окружающих предметах, таких как Луна, Солнце, руки, пальцы, ноги и т.д. Даже в настоящее время существуют племена, использующие в своей речи только несколько чисел. Индейцы Пираху считают так: один, два, много. Естественно, у них не появилось особых причин для отражения собственной системы счисления в пословицах и поговорках (поговорок и пословиц у них нет :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 Но в процессе эволюции у развитых цивилизаций, обладающей собственной системой счисления, появилась потребность в облегчении представлений о числе, облачая их сущность и значение в общепринятых, передаваемых из поколения в поколение пословицах и поговорках. Наиболее развиты в отношении пословиц и поговорок оказались представители славного русского народа, т.к. только русским языком можно выразить то, что неподвластно деловому языку западных нар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Но давайте все-таки начнем рассматривать числа в известных всем пословицах и поговорках. В конце 1 века нашей эры жил древнегреческий математик «Никомах». Он считал, что «…единица есть - разум, добро, гармония, счастье и в то же время материя, тьма, хаос; она соединяет в себе четное с нечетным и женское с мужским. Два есть начало неравенства, противоречия; оно есть мнение, ибо во мнении встречаются истина с ложью, Три есть первое настоящее число, так как оно имеет начало, середину и конец и потому есть число совершенное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 Олицетворение чисел положило собой начало долгого пути становления их в народных пословицах и поговорках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56760" y="214200"/>
            <a:ext cx="8286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33 + 3 (тридцать три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тий не прикурива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везет до трех р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еверия, связанные с числом три, относятся к тому времени, когда у древних людей счет не доходил дальше трех. На этой основе в христианской религии возведено в догму представление о пресвятой Троице - об едином Боге, выступающем в трех лицах (ипостасях): Бога-отца, Бога-сына, Бога-духа святого. Сюда же относится и так называемое трехперстное крестное знамение, якобы защищающее верующих от злых духов. Существует масса поверий, а также пословиц и поговорок, содержанием которых является число три, приносящее несчасть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56760" y="356760"/>
            <a:ext cx="83581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40 (сорок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рок лет - бабий в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рок лет не сорок реп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100 (сто) в пословицах и поговорка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им махом сто побивахом, а прочих не считах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о голов - сто ум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с умирает сто раз, а герой - один ра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 весна на Родине лучше, чем сто весен на чужб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14200" y="285480"/>
            <a:ext cx="8429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Число 1000 (тысяча) в пословицах и поговорках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уки поборют одного, знанье - тысяч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воин тысячу води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ого храбреца и тысяча трусов не замени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ысяча друзей - мало, один враг - много (турец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тысяча слухов еще не правда (монголь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алантов тысяча, а сердца нет (япон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 иноходца тысяча путей, у хитрого тысяча слов (рус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тысяча нарисованных ламп не заменят одной настоящей (япон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о одному поступку можно судить о 1000 других (вьетнамская).И через тысячу преград вода все равно течет в море (китай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Тот, кто учен, от тысячи бед защищен (татар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т тысячи сует пользы делу нет (туркмен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учше один раз увидеть, чем 1000 раз услышать (китай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глупый бросит алмаз в море - тысяча умных не достанет (грузин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путешествие в тысяче стран начинается с первого шага (монголь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сли не один возьмется, а тысяча, тогда и самое тяжелое бревно станет легким (эфиопская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так, мы выяснили, что числа являются и источником происхождения многих пословиц и поговорок, без которых наша речь была бы невыразительной и обедненной.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0010-010-CHisla-v-poslovitsakh-i-pogovorkakh.jpg"/>
          <p:cNvPicPr/>
          <p:nvPr/>
        </p:nvPicPr>
        <p:blipFill>
          <a:blip r:embed="rId1"/>
          <a:stretch/>
        </p:blipFill>
        <p:spPr>
          <a:xfrm>
            <a:off x="21420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13840" y="356760"/>
            <a:ext cx="3900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Употребление числительных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достаточно часто встречается в пословицах, 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 хороших пословиц с числительными 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наш народ придумал очень много.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Цифры и числительные мы используем часто. Их можно встретить на витринах магазинов, услышать о них из средств массовой информации. Но когда мы не знаем о чем именно идет речь при использовании тех или иных цифр, они становятся просто знаками.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Содержимое 5" descr="poslovicy-chislitelnymi.png"/>
          <p:cNvPicPr/>
          <p:nvPr/>
        </p:nvPicPr>
        <p:blipFill>
          <a:blip r:embed="rId1"/>
          <a:stretch/>
        </p:blipFill>
        <p:spPr>
          <a:xfrm>
            <a:off x="4643280" y="1785960"/>
            <a:ext cx="3357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214200"/>
            <a:ext cx="390060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ифр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объясняют нам сколько стоит конкретный продукт или вещь, какой возраст у ребенка и когда у него день рождения, сколько у малыша братиков и сестричек, игрушек и т.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тересный факт: числительные применяют в речи недавно, еще на Руси вместо привычных нам цифр были буквенные опис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та и время, пульс человека и многое другое мы узнаем благодаря цифрам. Всех примеров не сосчит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Содержимое 6" descr="цифры.jpg"/>
          <p:cNvPicPr/>
          <p:nvPr/>
        </p:nvPicPr>
        <p:blipFill>
          <a:blip r:embed="rId1"/>
          <a:stretch/>
        </p:blipFill>
        <p:spPr>
          <a:xfrm>
            <a:off x="4444920" y="1000080"/>
            <a:ext cx="4341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270320" y="214200"/>
            <a:ext cx="45165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Пословицы с числительным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помогают не только узнавать новые цифры и изучать их, но и стимулируют развитие речевого аппарата.  С помощью поговорок и пословиц развивается мышление, учатся формулировать мысли и понимать те, которые были сформулированы другими людьми. Короткие фразы вызывают заинтересованность к родной речи, стремления изучить ее глубже, получить новую информацию, в том числе 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 об употреблении имени числительного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Содержимое 10" descr="urokb1.jpg"/>
          <p:cNvPicPr/>
          <p:nvPr/>
        </p:nvPicPr>
        <p:blipFill>
          <a:blip r:embed="rId1"/>
          <a:stretch/>
        </p:blipFill>
        <p:spPr>
          <a:xfrm>
            <a:off x="142920" y="642960"/>
            <a:ext cx="42148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ХОРОШИЕ ПРИМЕРЫ ПОСЛОВИЦ С ЧИСЛИТЕЛЬНЫМИ</a:t>
            </a:r>
            <a:endParaRPr b="0" lang="en-US" sz="27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1600200"/>
            <a:ext cx="3900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Одной рукой в ладоши не хлопнешь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Одна правда на свете живет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Один раз не в счет. 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Как две капли воды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Кто скоро помог, тот дважды помог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Лентяй дважды работает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Хвастуну цена — три копейки. 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Без четырех углов изба не рубитс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69960" y="1600200"/>
            <a:ext cx="4302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Конь о четырех ногах, да и то спотыкается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Как телеге пятое колесо.</a:t>
            </a: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За семью морями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Семеро одного не ждут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Грош да три деньги отложь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Семь без четырех да три улетело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На сто пусто, на пятьсот ничего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Полтина без алтына, без сорока семи копеек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56760" y="356760"/>
            <a:ext cx="7567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ким образом поговорки и пословицы (неважно на каком языке) способствуют заинтересованности в изучении такой части речи, как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имя числительно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Учащиеся начинют обращать внимание на частое использование цифр и числительных в разговоре, а также учатся правильно их употреблять, следуя примерам из этих интереснейших изречен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14200" y="214200"/>
            <a:ext cx="8429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Число 1(один) в пословицах и поговорка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в поле не вои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а пчела много меду не натаска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ой рукой в ладоши не хлопнеш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а голова на плеч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а нога тут - другая т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а голова хорошо, а две лучш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глаз у циклоп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Всё - из одного (единого). Из одного (единого) - всё» (Гераклит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 за всех и все за одно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 семи нянек дитя без (одного) глаз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ервый в совете и первый в ответ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вое на одного - ра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поговорке «Один в поле не воин» числу один придано значение главного лица, подчеркивается его скрытый смысл, как числа, и в то же время подразумевается, что это человек. Этот человек - воин, который поставлен в такие условия, что при схватке с врагом, его силы и средства могут оказаться мизерными, так как он оди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В пословице «Первый в совете и первый в ответе» понятие первый принимается как главный, а потому с ним связывается уже нечто значительное, большое и могуче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В другой пословице «Двое на одного - рать» число два противопоставляется числу один, понимается как «много» и возвеличивается до огромных размеров, как рать, армия, что придает ему огромную живую и сокрушительную сил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85480" y="356760"/>
            <a:ext cx="8286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Число 2 (два) в пословицах и поговорка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 нога тут - другая т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ва сапога - па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 голова хорошо, а две лучш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две капли в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 двух огн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деть меж двух стулье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упой платит дваж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рый друг лучше новых дву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им выстрелом убить двух зайце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ромать на обе ног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 одного битого двух небитых даю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вум смертям не бывать, а одной не мино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 двух зол выбирай меньш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8:18:08Z</dcterms:created>
  <dc:creator>Пользователь</dc:creator>
  <dc:description/>
  <dc:language>en-US</dc:language>
  <cp:lastModifiedBy>Пользователь</cp:lastModifiedBy>
  <dcterms:modified xsi:type="dcterms:W3CDTF">2015-03-10T18:02:24Z</dcterms:modified>
  <cp:revision>9</cp:revision>
  <dc:subject/>
  <dc:title>Числительные в пословицах и поговорках</dc:title>
</cp:coreProperties>
</file>