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4.gif" ContentType="image/gif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1EE0-1735-4B30-90C5-8A644A40F3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DC60-B0BD-4FCD-99F8-E01D7EC63F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BFDF-56D4-45F9-9AAF-3B0872AA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DC3C-B54D-49FA-9604-698103A3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BCBE-787C-4DB0-A945-E1E085E5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E490-18EB-4439-85A9-AEEE083D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12BB-7096-44E2-A28D-960F10B1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4109-C784-4AF4-B820-B3880A32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B274-33C5-41BB-8AF4-6D49BAF2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4A39-FD9E-462E-BCED-CA286570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D9B7-B945-4C40-9228-6BFF6FC1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34DE-582F-46BD-9636-B84CD63A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142F-BD90-48C8-89E7-24E63D29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6A2E-6F3F-4DC8-A41E-A5DECE8E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E03D-C0D8-4C58-8DC3-72081ECA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F298-2C04-485F-B848-A35F8C8E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FA7D-AD5E-494C-8F26-D2D0360B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85C8-2210-4B8E-A4A1-2FF7DE63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840B-715E-4898-B7C9-390D8754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ACFC0-8F48-4F83-B07A-F3DB2151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5927F-C143-4E4C-941F-E3ADFA73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33FAD-07BA-470E-A635-46123126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68EAD-697C-47DD-B5DB-69352653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4825A-A726-4AA6-B18E-EB25A93C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C6D5-2AED-4979-AB03-1AD4BCB6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634AC-E0BC-42FD-BF0E-3CDF1D07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EEE42-B3AF-4070-B440-22958551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923D4-78A3-4477-A385-34566862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28540-23CE-4AC6-A15D-81D43DDF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5FA9A-9020-42B3-B126-457F0FAC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7A069-2DA9-4833-9D30-A7CCAF3C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6731A-B1A4-436A-AB30-3ADF2730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FB34D-9DBC-49AA-83E1-EB01EAEF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AFAF5-79DA-477A-99BC-FA843FF4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CE3C5-B2FF-4B3A-AD08-A7BFD4C4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91A5-F1C3-4D66-AD30-292214D3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09FA4-C422-47A7-9FE9-A46A4941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D7095-A6B5-4730-A9BF-C5DBEC61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04ABE-9F1E-46EC-81E6-5D1D68BF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49574-1B98-4AF9-9F0E-7B957315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6F7CA-3873-4191-8C34-20268A11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97446-7709-4151-8DBA-58E629D1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51F37-F9FF-4BBC-9784-F18484A5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73C6B-65E7-430C-9D42-A7A4CCB2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2EFC9-9F17-4DB7-B16C-2A81686A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CEA95-22B4-4A19-913D-8E1612F5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A4EB-5E62-496E-B163-4AC010AD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9D680-1C3A-4D4D-A996-601C7062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AF686-649E-4071-9922-D22DAEC1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9F103-CDC3-42C8-AD57-ECE8F441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4B0E8-F60C-4E4E-A86A-6B45A9BA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9138E-BED7-4496-8080-AAD76020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8FDE3-BF1C-408F-A4F2-C480ACCB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B5582-8E32-446B-8B56-7C6582F1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79800-BBC4-462C-9B93-EB8E9127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5313E-9AC4-45A3-B1EC-C6C17BA2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8B143-E032-44FD-AA12-5467FB93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4F27-4E20-42B3-B31D-FEDE2D0A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BD80C-3A51-4B7E-85FC-09E8BC83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4FE6-D904-4784-A88F-E807DF17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FD9D-DAE6-4641-B6D3-89398521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1588-5E16-4501-8149-E2864866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3BA7-5072-414F-B2CA-B65D84269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0E02-F5DA-4657-B277-233AFF97B98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7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9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8EE3-6B70-450E-AC1F-8C58C249BAE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7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4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6204-85B7-4895-BCEE-F3C3DD9B0B6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8902-CDC1-4AAF-9C78-3393E0FF4B8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Департамент образования гор. Москвы</a:t>
            </a:r>
            <a:br>
              <a:rPr sz="2600"/>
            </a:b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Северное окружное управление образования</a:t>
            </a:r>
            <a:br>
              <a:rPr sz="2600"/>
            </a:b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государственное образовательное учрежд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213336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d614"/>
                </a:solidFill>
                <a:latin typeface="Times New Roman"/>
              </a:rPr>
              <a:t>Г и м н а з и я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d614"/>
                </a:solidFill>
                <a:latin typeface="Times New Roman"/>
              </a:rPr>
              <a:t>№ </a:t>
            </a:r>
            <a:r>
              <a:rPr b="1" lang="en-US" sz="6000" spc="-1" strike="noStrike">
                <a:solidFill>
                  <a:srgbClr val="d6d614"/>
                </a:solidFill>
                <a:latin typeface="Times New Roman"/>
              </a:rPr>
              <a:t>2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1295280" y="54100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Ордена трудового красного знам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Имени героев Советского Союза Зои и Александра Космодемьянск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Quadro скрипка.mp3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85480" y="1999800"/>
            <a:ext cx="49719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кордно высоким значением 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Т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Constantia"/>
              </a:rPr>
              <a:t>к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(около 23 К) обладает соединение Nb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Picture 2" descr="C:\Documents and Settings\Администратор\Мои документы\Downloads\obr8-21.gif"/>
          <p:cNvPicPr/>
          <p:nvPr/>
        </p:nvPicPr>
        <p:blipFill>
          <a:blip r:embed="rId2"/>
          <a:stretch/>
        </p:blipFill>
        <p:spPr>
          <a:xfrm>
            <a:off x="4929120" y="2065320"/>
            <a:ext cx="4214880" cy="39736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28760" y="13572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В 1962 году учёными Литтлом и Парксом было обнаружено, что температура перехода тонкостенного цилиндра малого радиуса в сверхпроводящее состояние периодически (с периодом равным кванту потока) зависит от величины  магнитного потока. Этот эффект является одним из проявлений макроскопической квантовой природы сверхпроводим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Picture 3" descr="C:\Documents and Settings\Администратор\Рабочий стол\для презентации\1241444335_2.jpg"/>
          <p:cNvPicPr/>
          <p:nvPr/>
        </p:nvPicPr>
        <p:blipFill>
          <a:blip r:embed="rId2"/>
          <a:stretch/>
        </p:blipFill>
        <p:spPr>
          <a:xfrm>
            <a:off x="6500880" y="4643280"/>
            <a:ext cx="1904760" cy="15814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28760" y="1285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иболее интересные возможные промышленные применения сверхпроводимости связаны с генерированием, передачей и использованием электроэнерг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Picture 2" descr="C:\Documents and Settings\Администратор\Мои документы\Downloads\_news_12361710964488.jpg"/>
          <p:cNvPicPr/>
          <p:nvPr/>
        </p:nvPicPr>
        <p:blipFill>
          <a:blip r:embed="rId2"/>
          <a:stretch/>
        </p:blipFill>
        <p:spPr>
          <a:xfrm>
            <a:off x="5715000" y="3643200"/>
            <a:ext cx="2681280" cy="2643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:\Documents and Settings\Администратор\Мои документы\Downloads\sm.aspx.jpg"/>
          <p:cNvPicPr/>
          <p:nvPr/>
        </p:nvPicPr>
        <p:blipFill>
          <a:blip r:embed="rId3"/>
          <a:stretch/>
        </p:blipFill>
        <p:spPr>
          <a:xfrm>
            <a:off x="714240" y="3643200"/>
            <a:ext cx="3524400" cy="2610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0" y="785520"/>
            <a:ext cx="557208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Инженеры давно уже задумывались о том, как можно было бы использовать огромные магнитные поля, создаваемые с помощью сверхпроводников, для магнитной подвески поезда (магнитной левитации). За счет сил взаимного отталкивания между движущимся магнитом и током, индуцируемым в направляющем проводнике, поезд двигался бы плавно, без шума и трения и был бы способен развивать очень большие скорости. Экспериментальные поезда на магнитной подвеске в Японии и Германии достигли скоростей, близких к 300 км/ч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Рисунок 3" descr="1236809719_magneticlevitation.jpg"/>
          <p:cNvPicPr/>
          <p:nvPr/>
        </p:nvPicPr>
        <p:blipFill>
          <a:blip r:embed="rId2"/>
          <a:stretch/>
        </p:blipFill>
        <p:spPr>
          <a:xfrm>
            <a:off x="5429160" y="3214800"/>
            <a:ext cx="3500640" cy="2625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640" y="1341000"/>
            <a:ext cx="446400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4617b"/>
                </a:solidFill>
                <a:latin typeface="Arial"/>
              </a:rPr>
              <a:t>Сверхпроводимость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кадемик В.Л. Гинзбург, нобелевский лауреа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 работы по сверхпроводим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" descr="Картинка 45 из 1277"/>
          <p:cNvPicPr/>
          <p:nvPr/>
        </p:nvPicPr>
        <p:blipFill>
          <a:blip r:embed="rId2"/>
          <a:stretch/>
        </p:blipFill>
        <p:spPr>
          <a:xfrm>
            <a:off x="1908000" y="2997360"/>
            <a:ext cx="4645080" cy="33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71680" y="78552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Еще одно возможное применение сверхпроводников – в мощных генераторах тока и электродвигателях малых размеров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6" name="Рисунок 3" descr="prokudin-electro.jpg"/>
          <p:cNvPicPr/>
          <p:nvPr/>
        </p:nvPicPr>
        <p:blipFill>
          <a:blip r:embed="rId2"/>
          <a:stretch/>
        </p:blipFill>
        <p:spPr>
          <a:xfrm>
            <a:off x="4714920" y="3063960"/>
            <a:ext cx="4429080" cy="3794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714240" y="321444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alibri"/>
              </a:rPr>
              <a:t>Сверхпроводимост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2874240" y="4929120"/>
            <a:ext cx="325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Антипов Витал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11 «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оугольник 4"/>
          <p:cNvSpPr/>
          <p:nvPr/>
        </p:nvSpPr>
        <p:spPr>
          <a:xfrm>
            <a:off x="2514600" y="1714680"/>
            <a:ext cx="39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Презентация по тем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Сверхпроводимость,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 свойство многих проводников, состоящее в том, что их электрическое сопротивление скачком падает до нуля при охлаждении ниже определённой критической температуры Т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к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, характерной для данного материала. С. обнаружена у более чем 25 металлических элементов, у большого числа сплавов и интерметаллических соединений, а также у некоторых полупроводнико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28760" y="980640"/>
            <a:ext cx="52228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В 1911 году голландский физик  Камерлинг-Оннес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обнаружил, что при охлажден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ртути в жидком гелии её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сопротивление снача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меняется постепенно, а затем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при температуре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 4,2 К резко падает до нул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Рисунок 3" descr="Kamerlingh_portret.jpg"/>
          <p:cNvPicPr/>
          <p:nvPr/>
        </p:nvPicPr>
        <p:blipFill>
          <a:blip r:embed="rId2"/>
          <a:stretch/>
        </p:blipFill>
        <p:spPr>
          <a:xfrm>
            <a:off x="6227640" y="69228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Картинка 17 из 1046"/>
          <p:cNvPicPr/>
          <p:nvPr/>
        </p:nvPicPr>
        <p:blipFill>
          <a:blip r:embed="rId3"/>
          <a:stretch/>
        </p:blipFill>
        <p:spPr>
          <a:xfrm>
            <a:off x="5676840" y="3676680"/>
            <a:ext cx="3467160" cy="3181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28760" y="107172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Однако нулевое сопротивление — не единственная отличительная черта сверхпроводимости. Ещё из теории Друде известно, что проводимость металлов увеличивается с понижением температуры, то есть электрическое сопротивление стремится к нулю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2" descr="C:\Documents and Settings\Администратор\Рабочий стол\для презентации\magnetic_levitation.jpg"/>
          <p:cNvPicPr/>
          <p:nvPr/>
        </p:nvPicPr>
        <p:blipFill>
          <a:blip r:embed="rId2"/>
          <a:stretch/>
        </p:blipFill>
        <p:spPr>
          <a:xfrm>
            <a:off x="6000840" y="3786120"/>
            <a:ext cx="2355840" cy="2549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-360" y="1000080"/>
            <a:ext cx="47862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Одним из главных отличий сверхпроводников от идеальных проводников является эффект Мейснера, открытый в 1933 году, т.е. полное вытеснение  магнитного поля из материала при переходе в  сверхпроводящее состояние. Впервые явление наблюдалось в 1933 году немецкими физиками Мейснером и Оксенфельдо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Рисунок 3" descr="525px-EfektMeisnera.svg.png"/>
          <p:cNvPicPr/>
          <p:nvPr/>
        </p:nvPicPr>
        <p:blipFill>
          <a:blip r:embed="rId2"/>
          <a:stretch/>
        </p:blipFill>
        <p:spPr>
          <a:xfrm>
            <a:off x="4500720" y="785880"/>
            <a:ext cx="4643280" cy="5000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Tahoma"/>
                <a:ea typeface="Tahom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Tahoma"/>
                <a:ea typeface="Tahoma"/>
              </a:rPr>
              <a:t>Гроб Мухаммеда</a:t>
            </a:r>
            <a:r>
              <a:rPr b="0" lang="ru-RU" sz="2900" spc="-1" strike="noStrike">
                <a:solidFill>
                  <a:srgbClr val="000000"/>
                </a:solidFill>
                <a:latin typeface="Tahoma"/>
                <a:ea typeface="Tahoma"/>
              </a:rPr>
              <a:t> — опыт, демонстрирующий этот эффект в сверхпроводниках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ahoma"/>
                <a:ea typeface="Tahoma"/>
              </a:rPr>
              <a:t>По преданию, гроб с телом пророка Магомета висел в пространстве без всякой поддержки, поэтому этот опыт называют экспериментом с «магометовым гробом».</a:t>
            </a:r>
            <a:br>
              <a:rPr sz="45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Picture 2" descr="C:\Documents and Settings\Администратор\Мои документы\Downloads\180px-Magnet_4.jpg"/>
          <p:cNvPicPr/>
          <p:nvPr/>
        </p:nvPicPr>
        <p:blipFill>
          <a:blip r:embed="rId2"/>
          <a:stretch/>
        </p:blipFill>
        <p:spPr>
          <a:xfrm>
            <a:off x="5786280" y="478620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1476360" y="4365360"/>
            <a:ext cx="5905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инамическая сверхпроводим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" descr="Картинка 148 из 1277"/>
          <p:cNvPicPr/>
          <p:nvPr/>
        </p:nvPicPr>
        <p:blipFill>
          <a:blip r:embed="rId2"/>
          <a:stretch/>
        </p:blipFill>
        <p:spPr>
          <a:xfrm>
            <a:off x="2195640" y="1052640"/>
            <a:ext cx="4751280" cy="30826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Отталкиваясь от неподвижного сверхпроводника, магнит всплывает сам и продолжает парить до тех пор, пока внешние условия не выведут сверхпроводник из сверхпроводящей фазы. В результате этого эффекта магнит, приближающийся к сверхпроводнику, «увидит» магнит обратной полярности точно такого же размера, что и вызывает левитац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1-05T07:24:54Z</dcterms:modified>
  <cp:revision>41</cp:revision>
  <dc:subject/>
  <dc:title>Департамент образования гор. Москвы Северное окружное управление образования государственное образовательное учреждение</dc:title>
</cp:coreProperties>
</file>