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BE8-5AE1-45EB-8A57-845A80E7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2B7-E7DD-41A0-BC4E-688CC856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9F5-AFF8-4524-BEBE-A4B141D2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A41-7EFF-4378-AE32-CB10E0EC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246B-D553-426E-A50E-0514C76E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4513-506C-4749-A99D-C25A1BF4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935B-6A1C-4FDB-91F7-B214A40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B223-94E1-46C9-8086-29F352D3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BFE4-0D78-4F19-A29D-4E36860A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4BC9-0A82-41DF-89AD-BAC7F13D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522C-6413-4211-B81E-B78DB04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9F9-DB66-4A90-B68C-AFC6F196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3966-AD2C-4D4B-AEBF-2ED0D7FE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4946-6A91-408E-A3CA-44E27860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12A9-DC35-4E3D-A130-0C441A2F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0FA9-C259-43FF-A73A-BB0F5D6F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FC1A-4D57-4925-B497-5B78DD97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FB1-928F-4192-9CF7-3BED6E8F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1C3-A196-4C6E-A7F0-C55A2513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C7A-A0D5-46A3-8C88-28095E32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169-355F-44C9-9F4C-FE160B54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C70-20C0-4CEC-AA5B-BCAC9DA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06D-B038-4FF8-B882-5467DB4B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DC0-6D8B-4F3A-B5A8-FC6002E4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2512-3223-4876-8394-CA710CEE8A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2372-8197-4B46-AECE-BA0D4D8B87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ЕВОЕ ГОСУДАРСТВЕННОЕ БЮДЖЕТНОЕ ПРОФЕССИОНА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АЧИНСКИЙ  КОЛЛЕДЖ ОТРАСЛЕВЫХ ТЕХНОЛОГИЙ И БИЗНЕС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00000" y="2060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ые методы решения приклад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64000" y="4076640"/>
            <a:ext cx="3311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удентка: Маливанова Але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ециальность: Информационные системы (по отраслям), 3 кур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Янченко Нина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е интегрирование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324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142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этой трапеции (интеграл от линейной функции), используемая в качестве приближения к значению интеграла о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преде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формула приближенного значения интеграла будет записана в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3771720" cy="762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773440" y="4083120"/>
            <a:ext cx="40575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е интегрирование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Симпс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оде Симпсона площадь криволинейной трапеции рассчитывается как сумма площадей ряда криволинейных трапеций, у которых криволинейная сторона представляет собой участок параб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419640" y="2997360"/>
            <a:ext cx="27050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Симпсо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для реализации метода прямоугольников, трапеции и Симпсона для вычисления определенного интеграла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ть в явном виде определенный интеграл, площадь которого необходимо определить. После этого задаются пределы интегрирования, и шаг интегрирования. Затем проводится рас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6005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чкин А.В. Математическая информатика М: Наука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. Базовый курс. Под. Ред. С.В. Симоновича –СпБ: Питер, 200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линская Г.П., Галиновский О.И. Программирование на языке Си. - Минск: Высшая школа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в А.Н. Введение в вычислительную линейную алгебру. - Новосибирск: Наука. Сибирское отделение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эвенпорт Дж. Компьютерная алгебра: Системы и алгоритмы алгебраических вычислений. - М.: Мир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сов А.А., Дубинский Ю.А. Вычислительные методы для инженеров. М: Высшая школа,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в А.Н. Введение в вычислительную линейную алгебру. Новосибирск: Наука Сиб. отделение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алгебраических уравнений существуют многочисленные методы, из которых  рассмотрим лишь т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оловинного д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Ньют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секу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у вычисления определенного интеграла можно решить численными метод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ямоуг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трапе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Симпс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я алгебраических уравнен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 половинного 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рименения метода половинного деления необходимо установить окрестность или отрезок [a, b], на котором расположен один из корней уравнения, (рисунок 1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4176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42960" y="2286000"/>
            <a:ext cx="8043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реализации  этого метода необходим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ть в явном виде уравнение f (х) , корни которого необходимо определить. (Е- погреш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начальный интервал [a, b], внутри которого лежит кор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ть точность нахождения корня уравнения f (х)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ть итерационную процед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0" t="0" r="13712" b="1328"/>
          <a:stretch/>
        </p:blipFill>
        <p:spPr>
          <a:xfrm>
            <a:off x="6929280" y="2214720"/>
            <a:ext cx="928800" cy="3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я алгебраических уравнений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 Нью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ложим, что у нас определено начальное приближение 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 одному из корней уравнения (1). Тогда в точке 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жно вычислить левую часть решаемого уравнения f (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3981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касательной, проходящей через точку имеет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метода Ньютона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дать в явном виде уравн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и которого необходимо определ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первую производную функц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 аналитическ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 начальное приближ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ₒ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ее быструю сходимость мет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дать точность нахождения корня уравн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ализовать итерационную процед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224160" y="2092320"/>
            <a:ext cx="24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я алгебраических уравнений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 секу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всегда бывает удобно находить аналитическое выражение для производной функции, в таком случае можно использовать метод секу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292248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метода секущих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дать в явном виде уравн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и которого необходимо определ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начальные приближ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быструю сходимость мет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дать точность нахождения корня уравн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ализовать итерационную процед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е интегрирование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ям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о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вается на прямоугольники и 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14800" y="3000240"/>
            <a:ext cx="2733480" cy="315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3357720" y="2286000"/>
            <a:ext cx="18097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7:48:38Z</dcterms:created>
  <dc:creator>Admin</dc:creator>
  <dc:description/>
  <dc:language>en-US</dc:language>
  <cp:lastModifiedBy>Пользователь</cp:lastModifiedBy>
  <dcterms:modified xsi:type="dcterms:W3CDTF">2015-03-10T09:47:14Z</dcterms:modified>
  <cp:revision>10</cp:revision>
  <dc:subject/>
  <dc:title>КРАЕВОЕ ГОСУДАРСТВЕННОЕ БЮДЖЕТНОЕ ПРОФЕССИОНАЛЬНОЕ ОБРАЗОВАТЕЛЬНОЕ УЧРЕЖДЕНИЕ «АЧИНСКИЙ  КОЛЛЕДЖ ОТРАСЛЕВЫХ ТЕХНОЛОГИЙ И БИЗНЕСА»</dc:title>
</cp:coreProperties>
</file>