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89E3-EE2D-486E-B6EC-D592D63D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B133-32D6-4B8D-8D1A-72311858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32CB-D78C-4F4B-8579-71C04904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5D14-5FCD-4D95-9E99-682A3A2F8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1410-AD8F-4A64-B57C-A55C4C6A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9FBB-FFA8-40A9-AB71-D965FBB9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EE6B-DB76-4324-A4BB-2607D8D9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0BC8-88BE-4206-AFA9-86B621A0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2C96-ED22-4547-BA89-4B6E0251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7976-8B89-41A2-AE66-D1215066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9955-C694-4C02-9594-827193E0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C243-8C1E-4637-B93E-D7D2FA30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D737-3590-4988-AFA8-01A62A955E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Экологическое воспитание детей 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дошкольного возраста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6232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опыта работы воспитате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ДОАУ «Детский сад № 20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лкиной Валентины Ивано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Нефтеюган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иродоохранительные а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447560" y="21337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комство с многообразием  органического мира, наблюдение за объектами и явлениями природы в разные времена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ятельность по сохранению объектов при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0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идактические иг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3712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действие на интеллект,  на формирование экологической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познавательных способностей, получение новых знаний, обобщение и закреп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ение детей применению имеющихся знаний в новых услов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вод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96956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ое – личная убеждённость педагога, умение заинтересовать, пробудить у детей и родителей желание любить, беречь и охранять прир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E:\ДОМ РАБОТА 2\ПО аттестации Белкина\ds01102012_2.jpg"/>
          <p:cNvPicPr/>
          <p:nvPr/>
        </p:nvPicPr>
        <p:blipFill>
          <a:blip r:embed="rId1"/>
          <a:stretch/>
        </p:blipFill>
        <p:spPr>
          <a:xfrm>
            <a:off x="1828800" y="334800"/>
            <a:ext cx="7192800" cy="5608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кологическое воспит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666880" y="233208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новление осознанно-правильного отношения непосредственно к самой природе во всём её многообразии, к людям, охраняющим, созидающим её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кологическое воспитание детей дошкольного возра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62320" y="198108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ние с  первых лет жизни гуманной, социально активной, творческой личности, способной понимать и любить  окружающий мир , природу и бережно относиться к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047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ть познавательный  интерес к миру при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авление  активной деятельности  на осознанное  сохранение при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ние экологического сознания, нравственного отношения к ми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экологических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инцип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438280" y="2332080"/>
            <a:ext cx="6096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цип регионального компонента (изучение природы родного кр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цип научности и доступности по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бота с родителям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98108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тые за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роприятия с участием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знакомление  родителей с результатами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стие родителей в природоохранительных акциях, походах, соревнова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звивающая экологическая сре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362320" y="190512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олки в групп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тительный мир  на участ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о-наглядные пособия и дидактические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лементы развивающей среды способству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52480" y="175248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вательному развитию ребё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о-эстетическому развит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здоровлению ребё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ю экологически грамотного 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зации различных видов деятель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бота с деть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13372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кур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ческая деятельность в прир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родоохранительные а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дактические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здники и развлечения по экологическому воспит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дим Шипунов</cp:lastModifiedBy>
  <dcterms:modified xsi:type="dcterms:W3CDTF">2015-03-10T14:58:29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