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B1C4-A7E9-43BC-8CFF-213CFCEDC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E5F4-C147-4351-B7C3-405DBFF9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C0CD-6241-400F-9C47-DE5330443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0181-B974-48D1-9031-773F424E4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66718-DA44-4E3D-AC84-2908EDA56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3CCB-EBD7-41C0-8E0C-9B2B9A47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DCBF9-4CB8-4FB8-9395-5A55953F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F1009-FECD-465D-8F1D-A59EF237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127C-E3B0-49A7-8274-3EBDFD06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9C86-51C8-4ABA-95E9-422DC6A2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CBBF-0B17-4E0A-BDD1-A8A0FACA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6B4D-B4C7-42ED-9813-840F5AE2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0FBC-5781-4349-9996-C2D8400C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069B-75ED-4992-A3A5-F30C1B25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2B2FE-23AF-47F9-ACC9-3E5DFC16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11DF3-391E-45A7-9C4A-6AA73DFAC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FFF5-7F86-488C-A1E1-0A2B80534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F80A-5997-49D9-B426-19A405FD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695C-A2FE-43BB-A7E7-E6C97E56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DCBA-DC48-499C-8905-96C6EA0E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4541-612E-4D5C-9332-D31A4406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D7C8-BD1C-40A3-B822-567BAE47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6648-E57B-4B41-B5B3-89D5C4A9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996A-CC67-4091-B830-FD1ED020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D6A5-E78C-4D9B-89D1-E5D5C47AD8E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943F-1946-41CF-8C58-D0637A15A70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М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411280" y="2320920"/>
            <a:ext cx="4500720" cy="4537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-468360" y="476280"/>
            <a:ext cx="913464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чему нужно есть много овощей и фруктов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Отгадайте загадки и определите ,что из них является фруктом или овощем?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етом в огороде,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вежие, зелены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 зимою – в бочк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репкие, соленые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сть в саду чуд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истья ярче изумруд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еребристые цве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, как солнышко, плод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3860640"/>
            <a:ext cx="626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Вопрос: 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Как отличить овощи и фрукты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71640" y="1916280"/>
            <a:ext cx="244800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Овощ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35640" y="1916280"/>
            <a:ext cx="244800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Фрукты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2781360"/>
            <a:ext cx="287964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слад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стут в огоро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ного витамин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62560" y="2924280"/>
            <a:ext cx="386712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ладкие, кисло – слад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стут в са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ного витамин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95640" y="263700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95640" y="364500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000" y="4797360"/>
            <a:ext cx="180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32720" y="256536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32720" y="371628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32720" y="465300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84232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Чем полезны овощи и фрукты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3360" y="1268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84000" y="1700280"/>
            <a:ext cx="12258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77336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24360" y="1700280"/>
            <a:ext cx="107964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40360" y="2637000"/>
            <a:ext cx="914400" cy="9144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08000" y="2421000"/>
            <a:ext cx="914400" cy="9144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88000" y="2421000"/>
            <a:ext cx="914400" cy="9144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43280" y="3716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3479760"/>
            <a:ext cx="2144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итамин ро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храняет зр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сть в молок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орков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еленом лу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07120" y="3716280"/>
            <a:ext cx="2936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щищает от грип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сть  в чеснок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пусте, луке, во всех овощах и фрукт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43480" y="3933720"/>
            <a:ext cx="1904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храняет зуб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сть в молок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ыб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ворог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907920"/>
            <a:ext cx="3771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братья - витами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"/>
              </a:rPr>
              <a:t>Запомни:</a:t>
            </a:r>
            <a:br>
              <a:rPr sz="5400"/>
            </a:b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вощи и фрукты очень полезны для организма человека, в них много витамин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шьте много овощей и фрук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ойте руки перед едо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щательно мойте овощи и фрукты перед ед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53272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ткройте корзину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Что видите в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Какие продук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Здоровью нужны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ни, друзь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Без чего прожить нельзя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076720" y="1700280"/>
            <a:ext cx="3745080" cy="28954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1403280" y="333360"/>
            <a:ext cx="65516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ключение: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5:15:11Z</dcterms:created>
  <dc:creator>2ST10</dc:creator>
  <dc:description/>
  <dc:language>en-US</dc:language>
  <cp:lastModifiedBy>Дом</cp:lastModifiedBy>
  <dcterms:modified xsi:type="dcterms:W3CDTF">2015-03-10T10:41:11Z</dcterms:modified>
  <cp:revision>5</cp:revision>
  <dc:subject/>
  <dc:title>М </dc:title>
</cp:coreProperties>
</file>