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17A-3D6E-454D-8B5C-3991E7D8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9C8-3268-4FD0-85A9-F7A7D093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90A-94B4-4B74-8C8D-B556F8AA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1FF-D8E0-4663-B30D-8229AB05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A32-4953-4B4A-B0E8-BE2482B5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326-BF6A-4949-B747-35753437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1FB-9B27-4EF3-8A3E-693021C7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229-9796-489A-9840-6F243117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29B-0768-4817-A578-BCEA5979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823-FEAF-4E98-932F-2265596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CF7-8A27-428D-8CED-07D9417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33D-32D8-4D4F-A898-6A1F566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EC2DD2-1094-4E85-A66C-6702B35C13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0" y="360360"/>
            <a:ext cx="10080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Lucida Sans Unicode"/>
              </a:rPr>
              <a:t>2012 год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Lucida Sans Unicode"/>
              </a:rPr>
              <a:t> — </a:t>
            </a:r>
            <a:r>
              <a:rPr b="1" lang="ru-RU" sz="4400" spc="-1" strike="noStrike">
                <a:solidFill>
                  <a:srgbClr val="280099"/>
                </a:solidFill>
                <a:latin typeface="Arial"/>
                <a:ea typeface="Lucida Sans Unicode"/>
              </a:rPr>
              <a:t>год российской истории. Выполнил – Михеев Б.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4140360" cy="28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060720" y="1760400"/>
            <a:ext cx="4140360" cy="2379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040360" y="4140360"/>
            <a:ext cx="442584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539640" y="414036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78920"/>
            <a:ext cx="8609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612 год 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51600" y="1979280"/>
            <a:ext cx="492912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80099"/>
                </a:solidFill>
                <a:latin typeface="Arial"/>
              </a:rPr>
              <a:t>400-летие освобождения России от польской интервенции (окончание Смуты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4859280" cy="59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178920"/>
            <a:ext cx="8609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762 год 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780000" y="1619280"/>
            <a:ext cx="5798880" cy="5580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979280"/>
            <a:ext cx="37800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80099"/>
                </a:solidFill>
                <a:latin typeface="Arial"/>
              </a:rPr>
              <a:t>250-летие восшествия на российский престол Екатерины 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86090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812 год 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00360" y="1979280"/>
            <a:ext cx="4500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80099"/>
                </a:solidFill>
                <a:latin typeface="Arial"/>
              </a:rPr>
              <a:t>200-летие победы России в Отечественной войне 1812 г.</a:t>
            </a:r>
            <a:r>
              <a:rPr b="0" lang="ru-RU" sz="4000" spc="-1" strike="noStrike">
                <a:solidFill>
                  <a:srgbClr val="28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03280" y="1260360"/>
            <a:ext cx="489564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86090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862 год 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00720" y="1440000"/>
            <a:ext cx="4727520" cy="5759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979280"/>
            <a:ext cx="450072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80099"/>
                </a:solidFill>
                <a:latin typeface="Arial"/>
              </a:rPr>
              <a:t>150-летие со дня рождения П.А.Столып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534960" y="155520"/>
            <a:ext cx="90709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  <a:ea typeface="Lucida Sans Unicode"/>
              </a:rPr>
              <a:t>Эти даты нужно знать каждому!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260360" y="360360"/>
            <a:ext cx="7740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600360" y="1800360"/>
            <a:ext cx="29210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519280" y="1800360"/>
            <a:ext cx="4500720" cy="540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3651120" y="2101680"/>
            <a:ext cx="2772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561000" y="2101680"/>
            <a:ext cx="2772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561000" y="4589640"/>
            <a:ext cx="277200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2525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сторию нашей страны необходимо знать для того, чтобы: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2340000"/>
            <a:ext cx="93963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Выполнять свой патриотический долг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Уважать историю и традици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Знать важнейшие события отечественной истории в их взаимосвязи с событиями мировой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Иметь целостное представление о месте и роли России во всемирно-историчеком проце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-4680"/>
            <a:ext cx="9215280" cy="1985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сторию нашей страны необходимо знать для того, чтобы: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Осмысливать исторически сложившиеся в России культурные, религиозные и этнонациональные трад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Определять собственную позицию по отношению к событиям прошлого и соврем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Уметь извлекать для себя уроки из истори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Иметь представление о роли личности в истори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19640" y="-360"/>
            <a:ext cx="4425840" cy="74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стория — учительница жизни (Цицер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7e0021"/>
                </a:solidFill>
                <a:latin typeface="Arial"/>
              </a:rPr>
              <a:t>История — сокровищница наших деяний, свидетельница прошлого, пример и поучение для настоящего, предостережение для будущего (Серванте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60360" y="539640"/>
            <a:ext cx="4680000" cy="63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360360"/>
            <a:ext cx="4319640" cy="8205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Россия – как из песни слов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Берёзок юная ли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Кругом леса, поля и ре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Раздолье, русская душ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Люблю тебя, моя Россия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За ясный свет твоих очей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За ум, за подвиги святые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За голос звонкий, как ручей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Люблю, всем сердцем понима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Степей таинственную груст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Люблю всё то, что называю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Одним широким словом – Рус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7e0021"/>
                </a:solidFill>
                <a:latin typeface="Arial"/>
              </a:rPr>
              <a:t>(С.Васильев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4680000" y="1619280"/>
            <a:ext cx="48988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079640" y="179280"/>
            <a:ext cx="7199280" cy="719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5151600" y="2101680"/>
            <a:ext cx="42004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15160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539280" cy="7199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741240" y="2101680"/>
            <a:ext cx="42004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151600" y="2101680"/>
            <a:ext cx="42004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15160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882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t">
            <a:norm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ЦЕНИТЕ И ЛЮБИТ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ИСТОРИЮ НАШЕЙ СТРАНЫ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41240" y="4589640"/>
            <a:ext cx="86090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9640" y="179280"/>
            <a:ext cx="9070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История — свидетель прошлого, свет истины, живая память, учитель жизни, вестник стар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ru-RU" sz="3200" spc="-1" strike="noStrike">
                <a:solidFill>
                  <a:srgbClr val="2300dc"/>
                </a:solidFill>
                <a:latin typeface="Arial"/>
                <a:ea typeface="Lucida Sans Unicode"/>
              </a:rPr>
              <a:t>(Цицер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41240" y="2101680"/>
            <a:ext cx="42004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219640" y="4468680"/>
            <a:ext cx="4140360" cy="273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80000" y="1940040"/>
            <a:ext cx="2519640" cy="2379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79280" y="1979640"/>
            <a:ext cx="48592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040" y="53604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51600" y="2101320"/>
            <a:ext cx="4200480" cy="2271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720360"/>
            <a:ext cx="442620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чему каждому российскому  гражданину так важно знать свою истор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 означает  история для вас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51600" y="4374720"/>
            <a:ext cx="442584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040360" y="720720"/>
            <a:ext cx="4680000" cy="34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4859280" y="4140360"/>
            <a:ext cx="4676760" cy="28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8609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и проведения года российской истории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619280"/>
            <a:ext cx="9180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23dc"/>
                </a:solidFill>
                <a:latin typeface="Arial"/>
              </a:rPr>
              <a:t>1)  </a:t>
            </a:r>
            <a:r>
              <a:rPr b="1" lang="en-US" sz="4400" spc="-1" strike="noStrike">
                <a:solidFill>
                  <a:srgbClr val="2323dc"/>
                </a:solidFill>
                <a:latin typeface="Arial"/>
              </a:rPr>
              <a:t>привлечение внимания общества к российской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23dc"/>
                </a:solidFill>
                <a:latin typeface="Arial"/>
              </a:rPr>
              <a:t>2)  привлечение внимания к роли России в мировом историческом проце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8609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очему 2012-й год объявлен годом российской истории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51600" y="1979280"/>
            <a:ext cx="44258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7e0021"/>
                </a:solidFill>
                <a:latin typeface="Arial"/>
              </a:rPr>
              <a:t>На 2012 год выпадает несколько важных исторических юбилеев в истории Росс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9640" y="1933560"/>
            <a:ext cx="44262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503280" y="-4680"/>
            <a:ext cx="9070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Lucida Sans Unicode"/>
              </a:rPr>
              <a:t>Рассмотрим важнейшие исторические юбилеи, отмечающиеся в 2012-м год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20720" y="1979640"/>
            <a:ext cx="2700360" cy="23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6480000" y="1800360"/>
            <a:ext cx="2921040" cy="25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3559320" y="1800360"/>
            <a:ext cx="2920680" cy="25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4"/>
          <a:stretch/>
        </p:blipFill>
        <p:spPr>
          <a:xfrm>
            <a:off x="6620040" y="4500720"/>
            <a:ext cx="292068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5"/>
          <a:stretch/>
        </p:blipFill>
        <p:spPr>
          <a:xfrm>
            <a:off x="3570120" y="4500720"/>
            <a:ext cx="2921040" cy="25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6"/>
          <a:stretch/>
        </p:blipFill>
        <p:spPr>
          <a:xfrm>
            <a:off x="720720" y="4375080"/>
            <a:ext cx="270036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0880" y="178920"/>
            <a:ext cx="8799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</a:rPr>
              <a:t>862 год 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79640"/>
            <a:ext cx="4140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76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4700b8"/>
                </a:solidFill>
                <a:latin typeface="Arial"/>
              </a:rPr>
              <a:t>1150-летие зарождения российской государствен-ности (призвание Рюрика на княжение на Русь)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59280" y="1768320"/>
            <a:ext cx="4718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4500720" y="1440000"/>
            <a:ext cx="521964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242 год 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979640"/>
            <a:ext cx="4319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80099"/>
                </a:solidFill>
                <a:latin typeface="Arial"/>
              </a:rPr>
              <a:t>770-летие победы над крестоносцами в битве на Чудском озере (Ледовом побоище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00720" y="1768320"/>
            <a:ext cx="5078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680000" y="1268280"/>
            <a:ext cx="5400720" cy="575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8:11:12Z</dcterms:created>
  <dc:creator>А.В.Николаева</dc:creator>
  <dc:description/>
  <dc:language>en-US</dc:language>
  <cp:lastModifiedBy>Tusya</cp:lastModifiedBy>
  <dcterms:modified xsi:type="dcterms:W3CDTF">2014-12-06T12:30:30Z</dcterms:modified>
  <cp:revision>8</cp:revision>
  <dc:subject/>
  <dc:title>Слайд 1</dc:title>
</cp:coreProperties>
</file>