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4B6-8B50-4B99-A191-5D058B1A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D5A-B5C0-45A1-9876-49C9D9E5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762-DF82-402F-8444-05C382F1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A69-4C0C-4D11-8D65-3B024AFE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BC34-7099-489A-9F40-76520FC2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25BD-6ED1-4E1B-9F91-11CFA19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77E-0A0A-421D-9BD0-6E78CCEC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4638-77AE-4C84-9106-64B1A89C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0828-7ED4-41E4-B646-BE9D3D9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AA87-AD6F-45C6-9455-6E64EB57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699E-FBA4-4852-8238-C423497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A3A-A211-416B-8E74-1C974F8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4733-5BE6-408B-96D2-6457384B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8BD-3FCC-4F76-8567-791F2D3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DF86-183E-41D9-9715-8FFB43F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069-ECC2-4C4C-9CE3-23C71810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F12A-C677-4421-BAA5-76285BC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BC30-7157-4FB4-8AC3-38D12174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DDEF-AFA7-454F-A99D-ABE6F955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AC1A-96A4-4FB3-924F-3A24CEE5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FA51-FA28-48AD-95F4-6BA6F97E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7DB9-160A-4003-8A66-4A4ED56A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719-E973-4E2B-B40E-1EF56B9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513C-ED51-494B-91D0-D1E843E3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B9A7-0DB8-4F8C-81AA-F4C191F5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9791-C202-4CB5-964A-7EBBB8D1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121D-C106-4F4C-A4CB-718344B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8EFC-D76A-4C96-9062-22BBF5D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21E6-3340-4628-82E2-2EB4F6B3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1B9A-DC4C-4200-AC9B-3C9BA017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3D18-8512-49F3-95F3-40C800BD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DF5E-3DC1-41E1-8210-0603A91F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2B87-3B70-4656-BDA5-AE953051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921-5B40-4893-B0DE-5A933133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C586-9D52-4B62-85C4-ECF6E828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0514-8946-40F1-ACDD-C8BC61E3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54B3-6169-43E8-9565-057D3D25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23F5-70A0-423D-9085-C239201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B0CB-37FD-4F8C-8C2B-4EED5B3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4811-F728-4B4E-8C0A-AB6434AF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6D5C1-D2B3-4A47-8417-A03F07A8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A7F9-B48A-4DE6-9F7E-8969BEE6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77F0-988A-4BB8-8365-C2D67640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C2BE-8912-4FBF-AF1D-F3AD7700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FF0-865C-44F0-B484-423CA6D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E240A-C36F-4632-820A-95A7CC08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EE6A-40F1-4206-BA72-873B02C1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550A-B1D7-4758-830A-FB4197DF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D92E-612B-433C-9AE3-505150B3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930B-70AC-4F20-8381-EEEF666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DCEB-F849-4EBE-A4B7-A1012B6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2A62-79A1-46C9-8DA2-B13DB04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F6C3A-51D6-4D91-8954-61F38B6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190E-102D-4F08-9F81-C6D60FEA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E233-1A6D-4644-819C-FCCB476B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B7A-41B0-4281-B9B0-E443FDA1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FE8A0-F79B-46C4-9FD5-F6791CBD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6FE-6D0E-4105-A037-D4FC37F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CCF-A7E0-41CB-ABFD-A7F1A9A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226-364D-40A1-9E23-A66486E6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A15C-A605-40B0-809B-FBDE377D56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7268-B1A9-45E5-B2AA-9FB5EBF0554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B4E3-E214-4D1A-8DFE-EC72F42578D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945-65F7-408C-A298-5F28E49917D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7746-75B5-4F51-91D3-005FB36C9F5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стория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«Сикстинская капелла» доисторической живопис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&amp;Rcy;&amp;acy;&amp;ncy;&amp;iecy;&amp;ncy;&amp;ycy;&amp;jcy; &amp;bcy;&amp;icy;&amp;zcy;&amp;ocy;&amp;ncy;. &amp;ZHcy;&amp;icy;&amp;vcy;&amp;ocy;&amp;pcy;&amp;icy;&amp;scy;&amp;ncy;&amp;ocy;&amp;iecy; &amp;icy;&amp;zcy;&amp;ocy;&amp;bcy;&amp;rcy;&amp;acy;&amp;zhcy;&amp;iecy;&amp;ncy;&amp;icy;&amp;iecy;&#13;&#10; &amp;vcy; &amp;Acy;&amp;lcy;&amp;softcy;&amp;tcy;&amp;acy;&amp;mcy;&amp;icy;&amp;rcy;&amp;scy;&amp;kcy;&amp;ocy;&amp;jcy; &amp;pcy;&amp;iecy;&amp;shchcy;&amp;iecy;&amp;rcy;&amp;iecy; &amp;vcy; &amp;Icy;&amp;scy;&amp;pcy;&amp;acy;&amp;ncy;&amp;icy;&amp;icy; "/>
          <p:cNvPicPr/>
          <p:nvPr/>
        </p:nvPicPr>
        <p:blipFill>
          <a:blip r:embed="rId1"/>
          <a:stretch/>
        </p:blipFill>
        <p:spPr>
          <a:xfrm>
            <a:off x="785880" y="714240"/>
            <a:ext cx="4360680" cy="3000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&amp;Pcy;&amp;acy;&amp;scy;&amp;ucy;&amp;shchcy;&amp;icy;&amp;jcy;&amp;scy;&amp;yacy; &amp;ocy;&amp;lcy;&amp;iecy;&amp;ncy;&amp;softcy;. &amp;ZHcy;&amp;icy;&amp;vcy;&amp;ocy;&amp;pcy;&amp;icy;&amp;scy;&amp;ncy;&amp;ocy;&amp;iecy; &amp;icy;&amp;zcy;&amp;ocy;&amp;bcy;&amp;rcy;&amp;acy;&amp;zhcy;&amp;iecy;&amp;ncy;&amp;icy;&amp;iecy; &amp;vcy; &amp;pcy;&amp;iecy;&amp;shchcy;&amp;iecy;&amp;rcy;&amp;iecy; &amp;Fcy;&amp;ocy;&amp;ncy;-&amp;dcy;&amp;iecy;-&amp;Gcy;&amp;ocy;&amp;mcy; &amp;vcy;&amp;ocy; &amp;Fcy;&amp;rcy;&amp;acy;&amp;ncy;&amp;tscy;&amp;icy;&amp;icy; "/>
          <p:cNvPicPr/>
          <p:nvPr/>
        </p:nvPicPr>
        <p:blipFill>
          <a:blip r:embed="rId2"/>
          <a:stretch/>
        </p:blipFill>
        <p:spPr>
          <a:xfrm>
            <a:off x="5000760" y="3357720"/>
            <a:ext cx="3214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500040" y="1000080"/>
            <a:ext cx="8001000" cy="3503880"/>
          </a:xfrm>
          <a:prstGeom prst="rec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ентябре 1940 г. близ местечка Монтиньяк, на юго-западе Франции, четыре школьника старших классов отправились в задуманную ими археологическую экспедицию. На месте уже давно вырванного с корнем дерева в земле зияла дыра, вызвавшая их любопытство. Ходили слухи, будто это вход в подземелье, ведущее в соседний средневековый замок. Внутри оказалась еще дыра меньших размеров. Один из ребят бросил в нее камень и по шуму падения заключил, что глубина порядочная. Он расширил отверстие, вполз внутрь, чуть не упал, зажег фонарик, ахнул и позвал других. Со стен пещеры, в которой они очутились, смотрели на них какие-то огромные звери, дышащие такой уверенной силой, подчас, казалось, готовой перейти в ярость, что им стало жутко. И в то же время сила этих звериных изображений была так величественна и убедительна, что им почудилось, будто они попали в какое-то волшебное царство. Придя в себя, они догадались, что это не подземелье, которым пользовались семь-восемь веков назад рыцари феодального замка, а пещера доисторического человека, жившего здесь много тысячелетий до нашей эры. Сообщили о своей находке учителю. Тот сначала отнесся недоверчиво к их рассказу, но когда вместе с ними сам проник в пещеру, замер от изумления и восхище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7:05:55Z</dcterms:created>
  <dc:creator>Ученик6</dc:creator>
  <dc:description/>
  <dc:language>en-US</dc:language>
  <cp:lastModifiedBy>Ученик6</cp:lastModifiedBy>
  <dcterms:modified xsi:type="dcterms:W3CDTF">2015-03-10T07:08:43Z</dcterms:modified>
  <cp:revision>1</cp:revision>
  <dc:subject/>
  <dc:title>История</dc:title>
</cp:coreProperties>
</file>