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31.png" ContentType="image/png"/>
  <Override PartName="/ppt/media/image35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.jpeg" ContentType="image/jpeg"/>
  <Override PartName="/ppt/media/image9.png" ContentType="image/png"/>
  <Override PartName="/ppt/media/image33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B7B4-EF6F-4F9D-A5DA-CAC8DC5B67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79E6-3B72-4F32-B7A4-4AF9E44A14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63B2-AA85-4415-BCB4-FEF9796868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F78-EA96-4626-8B75-C1EB3511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76B-F8F5-4EBB-BB83-D70BCC58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157-0759-4A81-8FA1-50CF59B4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0AC-87C0-42C4-ACEF-B279EDD4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D8D-FC56-4684-B144-ED9EBA90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45EC-0BCE-4C56-B4C6-FF646029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C3A-D654-412F-BF35-5F8A90CB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3056-02B3-4E95-8BDD-184FE02B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CAD-5728-46C5-8E87-7184F52D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DD6E-E14C-4598-998B-6EC25050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2B1-A7B8-4461-9E36-12CE4FC8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E4F-7C1F-47B0-89C8-760358A1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7F68-2AF6-4B9E-83AB-699114894F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1785600"/>
            <a:ext cx="8704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990000"/>
                </a:solidFill>
                <a:latin typeface="Mistral"/>
              </a:rPr>
              <a:t>70-летию</a:t>
            </a:r>
            <a:br>
              <a:rPr sz="8800"/>
            </a:br>
            <a:r>
              <a:rPr b="0" lang="ru-RU" sz="8800" spc="-1" strike="noStrike">
                <a:solidFill>
                  <a:srgbClr val="990000"/>
                </a:solidFill>
                <a:latin typeface="Mistral"/>
              </a:rPr>
              <a:t> Победы посвящается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shapka1"/>
          <p:cNvPicPr/>
          <p:nvPr/>
        </p:nvPicPr>
        <p:blipFill>
          <a:blip r:embed="rId1"/>
          <a:stretch/>
        </p:blipFill>
        <p:spPr>
          <a:xfrm>
            <a:off x="6566040" y="920880"/>
            <a:ext cx="2309760" cy="3297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79912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29 июня 1941 года (8-й день войны). Сведения с фронта подтверждают, что русские всюду сражаются до последнего человека... Упорное сопротивление русских заставляет вести бой по всем правилам наших боевых уставов, хотя на Западе мы могли позволить себе известные вольности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195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58760"/>
            <a:ext cx="8713800" cy="656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10 августа 1941 года (50-й день войн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..На центральном участке фронта создалась невыгодная для нас обстановка, а на северном фланге мы терпим большие потери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1942_17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-8568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11 августа 1941 года (51 – й день войн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..Общая обстановка всё очевиднее показывает, что колосс – Россия… был нами недооценён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4920" y="59328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От Бреста до Москвы 1000 километров, от Москвы до Берлина — 1600. Итого 2600 километ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если считать по прямой. Так мало, не правда ли? 2600 километров. Поездом — четверо суток, самолетом — четыре часа, а перебежками по-пластунски — четыре долгих 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Война – это 4 года,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1 418 бессонных дней и ночей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20 миллионов погибших русских людей, это значит  22 человека на каждые 2 метра земли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значит 13 человек в каждую минуту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425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Это бесстрашие защитников Бреста, это 900 дней блокадного Ленинграда, это клятва панфиловцев: «Ни шагу назад, за нами Москва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добытая огнем и кровью победа под Сталинградом, это подвиг героев Курской дуги, это штурм Берлина, это память сердца всего нар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локада Ленинг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1386000"/>
            <a:ext cx="7848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а, мы не скроем: в эти д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ы ели землю, клей, ремн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о, съев похлёбку из ремн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тавал к станку упрямый масте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бы точить орудий час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обходимые вой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2" descr="Мы помним - 27 января, День полного снятия блокады Ленинграда - Развлекательный портал &quot;Флаг в руки&quot; - Флаг в Руки"/>
          <p:cNvPicPr/>
          <p:nvPr/>
        </p:nvPicPr>
        <p:blipFill>
          <a:blip r:embed="rId1"/>
          <a:stretch/>
        </p:blipFill>
        <p:spPr>
          <a:xfrm>
            <a:off x="642960" y="428760"/>
            <a:ext cx="3714840" cy="2711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Героические страницы российской истории"/>
          <p:cNvPicPr/>
          <p:nvPr/>
        </p:nvPicPr>
        <p:blipFill>
          <a:blip r:embed="rId2"/>
          <a:stretch/>
        </p:blipFill>
        <p:spPr>
          <a:xfrm>
            <a:off x="4572000" y="357120"/>
            <a:ext cx="4000680" cy="2954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Блокадный Ленинград"/>
          <p:cNvPicPr/>
          <p:nvPr/>
        </p:nvPicPr>
        <p:blipFill>
          <a:blip r:embed="rId3"/>
          <a:stretch/>
        </p:blipFill>
        <p:spPr>
          <a:xfrm>
            <a:off x="1071720" y="2928960"/>
            <a:ext cx="2651040" cy="3701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Блокада Ленинграда в фотографиях"/>
          <p:cNvPicPr/>
          <p:nvPr/>
        </p:nvPicPr>
        <p:blipFill>
          <a:blip r:embed="rId4"/>
          <a:stretch/>
        </p:blipFill>
        <p:spPr>
          <a:xfrm>
            <a:off x="4214880" y="3357720"/>
            <a:ext cx="4303800" cy="313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593280"/>
            <a:ext cx="8459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ним мирным днём 1941 года была суббота. После обычной трудовой недели миллионы советских людей отправились отдыхать. Тишину наступившей ночи, по-летнему тёплой, благоухающей, во многих городах и сёлах нарушали счастливые голоса молодых людей, праздновавших своё вступление во взрослую жиз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3.wav" descr=""/>
          <p:cNvPicPr/>
          <p:nvPr/>
        </p:nvPicPr>
        <p:blipFill>
          <a:blip r:embed="rId1"/>
          <a:stretch/>
        </p:blipFill>
        <p:spPr>
          <a:xfrm>
            <a:off x="853272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611280" y="907920"/>
            <a:ext cx="81374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 войны в город по множеству железнодорожных линий и веток каждый день прибывала не одна тысяча вагонов со всякими грузами. Линии передач несли электрическую энергию со станций, расположенных на Волхове, Свири, в верховьях Невы. Теперь все эти пути были перехвачены врагом. Огромный поток грузов сразу исся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вольствие и боеприпасы стали доставлять по воздуху, но это была капля в мо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39640" y="333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Война, войн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323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3.wav" descr=""/>
          <p:cNvPicPr/>
          <p:nvPr/>
        </p:nvPicPr>
        <p:blipFill>
          <a:blip r:embed="rId1"/>
          <a:stretch/>
        </p:blipFill>
        <p:spPr>
          <a:xfrm>
            <a:off x="853272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179280" y="907920"/>
            <a:ext cx="85694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или создать новую линию снабжения через Ладожское озеро.Существовал и путь по воде – узкая полоса между вражескими армиями. Прежде этот путь мало использовался.  Ладожское озеро суровое и бурное, судов, пригодных для плаванья по нему было немного. Баржи водили по каналам, в обход озера, но теперь и каналы попали в руки врага. Оставалась Ладога.  Осенью 1941 года начались перевозки через озеро. Потом по нему пролегла знаменитая ледовая трасса – Дорога жизни, которая спасла Ленинград. Но в начале и перевозки по озеру давали ничтожно мало в сравнении с тем, сколько было ну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3238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lbertus Extra Bold"/>
              </a:rPr>
              <a:t>«Дорога жизн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0" y="1413000"/>
            <a:ext cx="4176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абжение города и войск удалось наладить по «Дороге жизни» (через Ладожское оз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Кольцо смерти и Дорога жизни &quot; Кумертауское Время"/>
          <p:cNvPicPr/>
          <p:nvPr/>
        </p:nvPicPr>
        <p:blipFill>
          <a:blip r:embed="rId1"/>
          <a:stretch/>
        </p:blipFill>
        <p:spPr>
          <a:xfrm>
            <a:off x="928800" y="1000080"/>
            <a:ext cx="3500280" cy="3121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Без заголовка 1423"/>
          <p:cNvPicPr/>
          <p:nvPr/>
        </p:nvPicPr>
        <p:blipFill>
          <a:blip r:embed="rId2"/>
          <a:stretch/>
        </p:blipFill>
        <p:spPr>
          <a:xfrm>
            <a:off x="357120" y="3571920"/>
            <a:ext cx="4579920" cy="293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468360" y="333360"/>
            <a:ext cx="7958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о было возить больше, много больше, возить быстрее, много быстре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3 декабря через озеро перевезли 700 тонн продуктов, 24-го – 800 тонн. Запасов в городе не оставалось. То, что привозили из-за Ладоги, сразу поступало на хлебозаводы.И все-таки вечером 24 декабря военный совет фронта решил увеличить поек всем ленинградцам: рабочим на 100 граммов в день, остальным - на 75 граммов. Многие женщины и дети плакали от радости. Еще 75 граммов хлеба, в общем - то крохотный кусочек, который легко сжать в кулаке. В блокадную пору он был бесценен. Он давал людям надежду на спасение от голодной смерти, на то, что их близкие и они сами будут ж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79200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ч   матерей  по  погибш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21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4"/>
          <p:cNvGraphicFramePr/>
          <p:nvPr/>
        </p:nvGraphicFramePr>
        <p:xfrm>
          <a:off x="8748720" y="5877000"/>
          <a:ext cx="3952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48720" y="5877000"/>
                    <a:ext cx="395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8000" y="54900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68360" y="2133720"/>
            <a:ext cx="802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ятого и шестого декабря 1941 года уже последовало мощное контрнаступление советских войск. Враг отошел от Москвы на 100 – 250 километ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спиной Моск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а ми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неё, в огне лихих год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али насмерть братья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ын башкира, русский , и татарин, и грузин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, Моск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 сердце всей Ро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очей твоих струиться св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ы мы, хоть нас свинцом коси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 тебя, Моск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м жизни н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Отморожение"/>
          <p:cNvPicPr/>
          <p:nvPr/>
        </p:nvPicPr>
        <p:blipFill>
          <a:blip r:embed="rId1"/>
          <a:stretch/>
        </p:blipFill>
        <p:spPr>
          <a:xfrm>
            <a:off x="714240" y="1357200"/>
            <a:ext cx="7620120" cy="473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, всё-таки наступил в войне переломный момент и началось освобождение оккупированных территорий. Очистив от фашистов территорию нашей страны, наши воины освободили от фашистского ига народы Европы.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тво в неоплаченном долгу перед теми миллионами людей, которые погибли, защищая родину от порабощения, неволи, фашизма, грозившего уничтожить все славянские наро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линградская би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979640" y="6237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линградская</a:t>
            </a:r>
            <a:r>
              <a:rPr b="1" lang="ru-RU" sz="2400" spc="-1" strike="noStrike">
                <a:solidFill>
                  <a:srgbClr val="05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но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09.avi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8360" y="1268280"/>
            <a:ext cx="792000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Новая папка (4)\2007_06_22_08_44_40_a1fd7e74437b5ad9dc504ed2628ffff5.jpg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5254560" y="476280"/>
            <a:ext cx="388944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Войн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2 июн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вно в 4 ча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иев бомбил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яв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ача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йн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урская би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10.avi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907920"/>
            <a:ext cx="7488360" cy="5618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а годы войны фашисты уничтожили 1710 советских городов и более 70 тысяч сел и деревен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Картинка 5 из 7138"/>
          <p:cNvPicPr/>
          <p:nvPr/>
        </p:nvPicPr>
        <p:blipFill>
          <a:blip r:embed="rId1"/>
          <a:stretch/>
        </p:blipFill>
        <p:spPr>
          <a:xfrm>
            <a:off x="2124000" y="0"/>
            <a:ext cx="4457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g42"/>
          <p:cNvPicPr/>
          <p:nvPr/>
        </p:nvPicPr>
        <p:blipFill>
          <a:blip r:embed="rId1"/>
          <a:stretch/>
        </p:blipFill>
        <p:spPr>
          <a:xfrm>
            <a:off x="0" y="0"/>
            <a:ext cx="494352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21413"/>
          <p:cNvPicPr/>
          <p:nvPr/>
        </p:nvPicPr>
        <p:blipFill>
          <a:blip r:embed="rId2"/>
          <a:stretch/>
        </p:blipFill>
        <p:spPr>
          <a:xfrm>
            <a:off x="1511280" y="333360"/>
            <a:ext cx="7632720" cy="5722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55"/>
          <p:cNvPicPr/>
          <p:nvPr/>
        </p:nvPicPr>
        <p:blipFill>
          <a:blip r:embed="rId3"/>
          <a:stretch/>
        </p:blipFill>
        <p:spPr>
          <a:xfrm>
            <a:off x="179280" y="378000"/>
            <a:ext cx="896472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i0008r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рубеже весны четвёр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граду за года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ыму и прахе распростёр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лин лежал у наших ног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умолкает гром оруд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шует пламя в дымной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говорят друг другу люди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справедливость на Земл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Берл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i0006rp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0012rp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i0006rp"/>
          <p:cNvPicPr/>
          <p:nvPr/>
        </p:nvPicPr>
        <p:blipFill>
          <a:blip r:embed="rId1"/>
          <a:stretch/>
        </p:blipFill>
        <p:spPr>
          <a:xfrm>
            <a:off x="0" y="0"/>
            <a:ext cx="9144000" cy="7095960"/>
          </a:xfrm>
          <a:prstGeom prst="rect">
            <a:avLst/>
          </a:prstGeom>
          <a:ln w="0">
            <a:noFill/>
          </a:ln>
        </p:spPr>
      </p:pic>
      <p:pic>
        <p:nvPicPr>
          <p:cNvPr id="123" name="levitan3.mp3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1000">
    <p:fade/>
  </p:transition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3072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УСТ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ОКОЛЕНИ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ЗНАЮ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81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1280" y="1268280"/>
            <a:ext cx="761976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Администратор\Рабочий стол\война\войнай\Rodina_mat-.jpg"/>
          <p:cNvPicPr/>
          <p:nvPr/>
        </p:nvPicPr>
        <p:blipFill>
          <a:blip r:embed="rId1"/>
          <a:stretch/>
        </p:blipFill>
        <p:spPr>
          <a:xfrm>
            <a:off x="248436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годы войны было сожжено и разрушено 6 млн. зданий. Остались без крова над головой почти 25 млн. человек. Страна потеряла 30% национального богат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сколько людей погибло в концлагеря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ий  лагерь  Саласпил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0658"/>
          <p:cNvPicPr/>
          <p:nvPr/>
        </p:nvPicPr>
        <p:blipFill>
          <a:blip r:embed="rId1"/>
          <a:srcRect l="0" t="15427" r="0" b="16253"/>
          <a:stretch/>
        </p:blipFill>
        <p:spPr>
          <a:xfrm>
            <a:off x="0" y="141300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9"/>
          <p:cNvSpPr/>
          <p:nvPr/>
        </p:nvSpPr>
        <p:spPr>
          <a:xfrm>
            <a:off x="-252360" y="549360"/>
            <a:ext cx="96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4 июня 1945 г.  в Москве состоялся Парад Побе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Картинка 3 из 21539"/>
          <p:cNvPicPr/>
          <p:nvPr/>
        </p:nvPicPr>
        <p:blipFill>
          <a:blip r:embed="rId1"/>
          <a:stretch/>
        </p:blipFill>
        <p:spPr>
          <a:xfrm>
            <a:off x="1403280" y="1197000"/>
            <a:ext cx="5616720" cy="536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Картинка 71 из 21539"/>
          <p:cNvPicPr/>
          <p:nvPr/>
        </p:nvPicPr>
        <p:blipFill>
          <a:blip r:embed="rId2"/>
          <a:stretch/>
        </p:blipFill>
        <p:spPr>
          <a:xfrm>
            <a:off x="755640" y="1125360"/>
            <a:ext cx="7885080" cy="547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Картинка 73 из 21539"/>
          <p:cNvPicPr/>
          <p:nvPr/>
        </p:nvPicPr>
        <p:blipFill>
          <a:blip r:embed="rId3"/>
          <a:stretch/>
        </p:blipFill>
        <p:spPr>
          <a:xfrm>
            <a:off x="684360" y="112536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p:transition spd="slow" advTm="236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мая мы отмечаем великий праздник – День Победы ,70 годовщину Победы советского народа в Великой вой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горя и страха принесла война, но несмотря на голод, холод, разруху, наш народ победил. Он победил страшного врага, который поработил много государств и заставил их жить в страхе, народ , который победил  - фашиз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levitan3.mp3" descr=""/>
          <p:cNvPicPr/>
          <p:nvPr/>
        </p:nvPicPr>
        <p:blipFill>
          <a:blip r:embed="rId1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43072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нь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ь Победы - праздник всей стра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ховой оркестр играет мар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ь Победы - праздник сед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их прадедов, дедов. Даже те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не видал войны,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её крылом задет был каж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дравляем с Днём Победы мы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день для всей России важ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20_bi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28760" y="1214280"/>
            <a:ext cx="403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вели чёрные крыль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истел ураган свинц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о парни границу закр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 собственные серд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Пам"/>
          <p:cNvPicPr/>
          <p:nvPr/>
        </p:nvPicPr>
        <p:blipFill>
          <a:blip r:embed="rId1"/>
          <a:stretch/>
        </p:blipFill>
        <p:spPr>
          <a:xfrm>
            <a:off x="4643280" y="0"/>
            <a:ext cx="3781440" cy="511344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57" name="Picture 6" descr="Каска"/>
          <p:cNvPicPr/>
          <p:nvPr/>
        </p:nvPicPr>
        <p:blipFill>
          <a:blip r:embed="rId2"/>
          <a:stretch/>
        </p:blipFill>
        <p:spPr>
          <a:xfrm>
            <a:off x="6407280" y="4781520"/>
            <a:ext cx="2736720" cy="207648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Брестская креп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брестская крепость"/>
          <p:cNvPicPr/>
          <p:nvPr/>
        </p:nvPicPr>
        <p:blipFill>
          <a:blip r:embed="rId1"/>
          <a:stretch/>
        </p:blipFill>
        <p:spPr>
          <a:xfrm>
            <a:off x="0" y="1125360"/>
            <a:ext cx="4633920" cy="5732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– Брест. Я стою обожженн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бьюсь за солдатскую ч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нету здесь, нету сраженн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десь только убитые 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 дневника начальника Генерального штаба сухопутных войск фашистской Германии генерал-полковника Гальд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4176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179280" y="4076640"/>
            <a:ext cx="856944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…24 июня 1941 года (3-й день войны). В общем-то, теперь стало ясно, что русские не думают об отступлении, а напротив, бросают все, что имеют в своём распоряжении, навстречу вклинившимся германским войскам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0:25:23Z</dcterms:created>
  <dc:creator>Alex</dc:creator>
  <dc:description/>
  <dc:language>en-US</dc:language>
  <cp:lastModifiedBy>Лаборант</cp:lastModifiedBy>
  <dcterms:modified xsi:type="dcterms:W3CDTF">2015-03-10T06:50:18Z</dcterms:modified>
  <cp:revision>36</cp:revision>
  <dc:subject/>
  <dc:title>65-летию Победы посвящается…</dc:title>
</cp:coreProperties>
</file>