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E2E-D22C-4615-9958-6760043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AA2-7D7E-48D7-A04A-035CB083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C35-0E1D-4EC6-BE8B-E1B4736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E93-5C66-49C4-831A-6D7223AF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2D9-99D6-4588-96A5-02A605C8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BDA-EB2A-4232-8163-3FACB1CD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1161-BB12-4375-BBD6-37F5E08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38F-80D4-4147-8835-2879806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B26-E225-4C0F-8291-F88073D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AB1-32FF-4E36-B8F9-46FF6591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5B0-0032-4312-90F5-8B656A6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884-01DF-4497-9505-38974DF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EFC-57B1-4012-BA7E-1CF72AC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DA3D-D384-4212-8D4E-99B3D15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DBD-E5A9-49B9-BD9F-70DA35B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CE43-736B-4EA2-869C-977895A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469-862E-4B24-9BDC-03ECF0FE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03F4-1F21-46A4-90D9-F98A104A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1322-6557-438A-AB38-8332D30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8A07-6822-409F-BE9F-A3B09AB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E947-9D1E-4B56-94D5-756E09E7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D5B8-CF69-438D-9E68-D364F84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1DA-F16E-4150-8D3E-09DD7A0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0A70-0BD2-4061-B581-F6582830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72E1-AF31-4432-9074-FCD66FC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1AEA-3328-45F1-B2BD-2E75F3C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E9F3-4929-47C5-B8AC-B339F388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66BA-E2D1-4708-914E-3A72D8F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E6B0-CC99-4A25-B52E-5B7AB9DD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CA36-2562-49E9-9A48-652BC3E7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5663-E614-43FE-A8F5-DED7DF02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50C5-9A33-462E-AA8E-D5D65867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5F02-1E56-45F3-8B52-562C0CE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97B-FB49-4C85-8E64-AB7E9E1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CF8E9-D1BC-45C1-926E-F342BEAC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7BF9-711E-4333-9372-DB7443A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8774-DEEF-43C3-8125-AAF2F3D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71A8-A5FB-4109-B4F9-9ED8E7C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7B6F-3644-433C-B39E-D216754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BF6D-1909-419C-B63F-1045F01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40FC-25E3-433B-ABC5-4391CC3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9454-8E03-4195-88B7-5D1D8517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68ED-2FE9-4367-A78D-0B3B623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2AA0-34D4-484B-AEB3-F385919A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13F-B911-4A05-B33B-AE79D99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45BB-74F1-4EE2-AD89-162B3F0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4042-9902-4C68-95E2-A934A49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5884-0780-4E90-92D7-FF881891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6E74-9F33-4A13-B999-0597165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97533-0C83-46EF-A970-BC3C4496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1787-466E-4C43-A341-C8E00A3D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236A-6126-4BA7-953C-A2FFDA7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2A53-6DF3-4AF8-BA33-F7B7086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0607-227A-4A73-B42C-79CED255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ED09-CF02-462B-B441-B775DFA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469-7B5E-4629-8B43-3696D5E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F3CEF-A4F2-4856-BDE3-0FBE7E17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7A6D-3BD0-4862-BBBA-F2C9F166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0012-E443-4FA4-9A31-8F2AE3D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011C-5CBF-46B3-969F-4B14E9C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DA0D-41B9-41A1-A5A7-89DD9868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2166-324C-4220-B523-AF4F3A5B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46603-2F46-4120-ABFB-793251BB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E4C2-110D-4260-BF5E-9451DFB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562F-DC09-468A-B5EA-316B451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812D7-2612-40C8-A3B9-6B30265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392-1213-4BF3-BE40-E64F9276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0FDF-23A6-4B6C-9B92-F8FEE6D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5752-7B72-40C9-A85E-36D11796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8A79-2826-4666-BB72-371C9FDC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8001-A853-43C4-9D18-7C397062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A4B5-AD92-4451-B625-8C8D275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9F1F-4F0F-4BBB-BD2B-986F5CF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AB7A-E10D-47D3-8C71-33F0A58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06BE-EE77-473B-A131-635BB353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8CE4-54F0-4EA3-A465-103B655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7DE3-00CA-4C92-A6B2-2477B1B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62-803C-46BA-BF84-CF729B4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2CB6-1592-412E-B714-D3B791B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F1D64-7B37-4957-A18A-99C9ABD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A099-39FD-400E-BA7A-C60D2FF4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88B2-A452-4B04-84E1-3BE7A0E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5E45-F7C4-4FC8-8C72-4330B52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9AD-C412-4D01-BD4D-13E9D6B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CC35-EC1E-4164-A6AB-96990ECE89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9040" y="1884240"/>
            <a:ext cx="164880" cy="285840"/>
            <a:chOff x="689040" y="1884240"/>
            <a:chExt cx="164880" cy="28584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689040" y="1884240"/>
              <a:ext cx="1648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9F32-D1D8-4F64-B8B4-E36989BE0F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1627200" y="3754440"/>
            <a:ext cx="165240" cy="287280"/>
            <a:chOff x="1627200" y="3754440"/>
            <a:chExt cx="165240" cy="28728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1627200" y="3754440"/>
              <a:ext cx="1652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0D0E-EB03-4E54-BB37-1CCA415DDA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7DC-8D34-4867-AA54-952F064DD3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762120" y="0"/>
            <a:ext cx="6095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772-FE4E-443B-9F63-CE712B8214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C700-C75A-44E1-993F-5356B1274D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463680" y="1328760"/>
            <a:ext cx="3651120" cy="6321240"/>
            <a:chOff x="463680" y="1328760"/>
            <a:chExt cx="3651120" cy="632124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63680" y="1328760"/>
              <a:ext cx="3651120" cy="63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832-3207-44CD-ACA5-AC924C59E3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9251_c4133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mousosh12.far.ru/images/MenuRis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mousosh12.far.ru/images/MenuRis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8972_c4107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1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00-323513.ru&amp;img_url=ooschool134.narod.ru/images/school1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lokirs.narod.ru/images/fon/79ce09b50a2b620d190479ba67404f31.gif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6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3-1593231.ru&amp;img_url=malokirs.narod.ru/images/fon/18832091_6546.gif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82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vcdvc.free.fr&amp;img_url=sch164.minsk.edu.by/sm.aspx?uid=101877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291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2-2550766.ru&amp;img_url=sch46.minsk.edu.by/sm.aspx?uid=11123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4600" y="479160"/>
            <a:ext cx="55548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и для родителей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Памятки для родителей"/>
          <p:cNvPicPr/>
          <p:nvPr/>
        </p:nvPicPr>
        <p:blipFill>
          <a:blip r:embed="rId1"/>
          <a:stretch/>
        </p:blipFill>
        <p:spPr>
          <a:xfrm>
            <a:off x="1643040" y="2857680"/>
            <a:ext cx="4286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14200"/>
            <a:ext cx="3486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му необходимо научить ребёнка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Рисунок 3" descr="http://im6-tub.yandex.net/i?id=147897405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4292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"/>
          <p:cNvSpPr/>
          <p:nvPr/>
        </p:nvSpPr>
        <p:spPr>
          <a:xfrm>
            <a:off x="785880" y="1407240"/>
            <a:ext cx="6072120" cy="77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Любить себ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Пока ребенок не будет ценить собственную жизнь, он не станет деятельным, а значит, не сможет реализовать себ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претировать поведе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попадает в различные жизненные ситуации, в которых он может просто растеряться. Если ребенок научился понимать и объяснять поведение людей, он не будет склонен огорчаться в подобных ситуация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ка надо учить </a:t>
            </a: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ъяснять собственное поведе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н сможет объяснить, как он вел себя на уроке, хорошо это или плохо, почему это с ним случилось и что при этом чувствует. Тогда он лучше сможет понять, чего от него хотят, что он делает не так и почему с ним это случ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щаться с помощью слов</a:t>
            </a:r>
            <a:r>
              <a:rPr b="0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, который может объяснить, что с ним происходит, словами, помогает другим лучше понять себя и этим снимает многие проблемы и неприятност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 различия между мыслями и действиям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не может чувствовать одно, думать о другом, а действовать в третьем. У него детская, чистая коммуникация. Если он о чем-то переживает, надо научить его говорить о своих чувствах, а не переводить их в постоянные мысли, которых он боится или стесняется. Рекомендуется помогать ребенку отреагировать свои негативные эмоции через рассказ, игру, драматизацию, рисунок, пантомиму: «Нарисуй, покажи, расскажи, проиграй, что тебя сейчас тревожит, а потом мы начнем с тобой делать уроки!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есоваться и задавать вопрос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се разговоры о подготовке детей к школе, интересе к учению, познавательных способностях окажутся излишними, если мы перестанем интересоваться и реагировать на замечательные вопросы, которые дети задают себе и окружающим: «Почему солнце не падает с неба?» и т.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, что на сложные вопросы нет простых ответов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олкнется в жизни с серьезными вопросами, социальными и научными проблемами. Не надо постоянно твердить ему: «Ты еще маленький», «Не твоего это ума дело», «Вырастешь - поймешь». Можно приоткрыть завесу и показать, что не на все вопросы есть однозначные ответы. Этим мы будем развивать стереоскопическое, глобальное, а не только черно-белое мышление ребен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Не бояться неудач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бы научиться чему-либо, ребенок не должен бояться ошибок и неудач. Детям надо помочь понять, что на ошибках можно учиться. Тем более нельзя за это унижать и наказывать детей. Ребенок, который боится ошибок и неудач, вырастет неуверенным в себе человеком, настоящим неудачни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оверять взрослы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ку необходимо доверять взрослым, но доверие разрушается, если родители в угоду ребенку постоянно играют с ним в разные игры и обманывают: «Съешь кашу, станешь большим», «Мама всегда говорит правду», «Папа самый сильный и смелый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умать самому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увство собственной уникальности и способности к выбору - жизненно важная часть человеческого существования. Этой способности легко научить, если просто поощрять ребенка в том, чтобы он высказывал свое суждение, не боясь, что его накажут или будут над ним смеятьс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2500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Памятка-совет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родителям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785880" y="1150200"/>
            <a:ext cx="607212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тра, когда Ваш ребенок проснется, скажите ему: «Доброе утро!» и …. не ждите ответа. Начните день бодро, а не с замечаний и сс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ы браните ребенка, не употребляйте слов «Ты всегда», «Ты вообще», «Вечно ты…». Ваш ребенок вообще и всегда хорош, он лишь сегодня сделал что-то не так. Об этом и скажите 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. Сначала помиритесь, а потом идите по своим дел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, когда ребенок возвращается из школы, его спрашивают: «Тебя вызывали? Какую отметку получил?» Лучше спросите его: «Что сегодня было интересного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, к тем четырем стенам, в которых живет семья. Возвращаясь домой, не забывайте сказать: «А все-таки, как хорошо у нас дома!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ам хочется сказать ребенку: «Не лги, не ври, не обманывай!», скажите лучше: «Не обманывай», А еще лучше улыбнитесь: «Кажется кто-то говорит неправду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!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, взрослые, ночью отдыхаем, а ребенок – работает, он растет. Когда он встанет, хорошо покормите его перед шко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ребенок выходит из дому, обязательно проводите его до дверей и скажите на дорогу: «Не торопись, будь осторожен». Это надо повторять столько раз, сколько ребенок выходит из д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сын или дочь возвращаются, встречайте их у дверей. Ребенок должен знать, что Вы рады его возвращению, даже если он провини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при каких обстоятельствах не заглядывайте в портфель и карман ребенка, даже если вам кажется, что Вы все должны знать о своих де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ы Вы не устали, постарайтесь поменьше жаловаться детям. Жалуясь, Вы учите их жаловаться, а не жалеть. Попытайтесь вызвать жалось у ребенка не к себе, а к другим людям, родным и незнаком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порах с сыном или дочерью хоть иногда уступайте, чтобы им не казалось, что они вечно неправы. Эти Вы научите уступать, признавать ошибки и пора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0"/>
            <a:ext cx="1219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2143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0 заповедей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785880" y="1606320"/>
            <a:ext cx="60721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это праздник, который всегда с В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дите, что Ваш ребенок будет таким, как Вы, или таким, так Вы хотите. Помогите ему стать не Вами, а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требуйте от ребенка платы за всё, что Вы для него сделали. Вы дали ему жизнь – как он может отблагодарить Вас? Он даст жизнь другому, тот третьему, и это необратимый закон благодар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вымещайте на ребенке свои обиды, чтобы в старости не есть горький хлеб. Ибо, «что посеешь, то и пожнё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относитесь к его проблемам свысока. Жизнь дана каждому по силам, и будьте уверены – ему она тяжела не меньше, чем Вам, а может быть, и больше, поскольку у него нет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уни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забывайте, что самые важные встречи человека – это его встречи с детьми. Обращайте больше внимания на них – мы никогда не можем знать, кого мы встречаем в ребё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казните себя, если не можете сделать что-то для своего ребёнка. Ругайте себя, если можете, но не делаете. Помните: для ребенка сделано недостаточно, если не сделано вс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бенок – это та драгоценная чаша, которую Жизнь дала Вам на хранение и развитие в нём творческого ог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йте любить чужого ребёнка. Никогда не делайте чужому то, что не хотели бы, чтобы сделали Ваш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Любите своего ребёнка любым – неталантливым, неудачливым, взрослым. Общаясь с ним, радуйтесь, потому что ребёнок – это праздник, который пока с В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69" name="i-main-pic" descr="Картинка 2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142920"/>
            <a:ext cx="990720" cy="1326960"/>
          </a:xfrm>
          <a:prstGeom prst="rect">
            <a:avLst/>
          </a:prstGeom>
          <a:ln w="0">
            <a:noFill/>
          </a:ln>
        </p:spPr>
      </p:pic>
      <p:pic>
        <p:nvPicPr>
          <p:cNvPr id="370" name="i-main-pic" descr="Картинка 38 из 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7786800"/>
            <a:ext cx="1523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56920" y="357120"/>
            <a:ext cx="28544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ила хорошего тона во время беседы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785880" y="4447800"/>
            <a:ext cx="60721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, эти правила этикета, с Вашей помощью, будут усвоены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ни знают, что во время беседы неприл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о человеке в его отсутств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ячивать своё «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птаться в комп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ывать разговор (если нужно что-то срочно спросить, то следует перед этим извинитьс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 с дальнего расстояния: через стол, через коридор, через улиц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еседы смотреть на потолок, в сторону, на ча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5" descr="Памятки для родителей"/>
          <p:cNvPicPr/>
          <p:nvPr/>
        </p:nvPicPr>
        <p:blipFill>
          <a:blip r:embed="rId3"/>
          <a:stretch/>
        </p:blipFill>
        <p:spPr>
          <a:xfrm>
            <a:off x="1643040" y="1214280"/>
            <a:ext cx="4286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2286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ребёнок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инился…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857160" y="2233080"/>
            <a:ext cx="6000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нимайтесь за воспитание в плохом настро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определите, что Вы хотите от ребёнка (и объясните ему это), а также узнайте, что он думает по этому пов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ывайте готов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ребенка словами типа: «А у тебя вообще голова на плечах есть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грожайте: «Если ты ещё раз сделаешь – ты у меня получи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могайте обещаний, для ребенка они ничего не знач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зу дайте оценку поступку, ошибке и сделайте паузу. Оценивайте поступок, а не личность: не – «Ты плохой», а – «Ты поступил плох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мечания прикоснитесь к ребенку и дайте почувствовать, что Вы ему сочувствуете, верите в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8" name="i-main-pic" descr="Картинка 3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42876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79" name="i-main-pic" descr="Картинка 28 из 389"/>
          <p:cNvPicPr/>
          <p:nvPr/>
        </p:nvPicPr>
        <p:blipFill>
          <a:blip r:embed="rId5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1720" y="714240"/>
            <a:ext cx="28540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казывая ребёнк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жалуйст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ните: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928800" y="2190240"/>
            <a:ext cx="6072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здо большей воспитательной силой обладает прощение проступка, а наказание освобождает от мук сов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 наказания в семье должен пользоваться один человек, наиболее уважаемый, любимый ребё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ть следует за проступок, а не потому, что у вас плохое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читать длинных нот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впоследствии напоминать о просту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угать ребёнка бабой Ягой, милиционером, вол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сегда наказывать ребёнка после проступка сразу. Иногда лучше сказать: «Хорошо, я подумаю до завтра, как с тобой поступи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о проступке следует вести только наед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61" descr="http://im7-tub.yandex.net/i?id=13909604-02"/>
          <p:cNvPicPr/>
          <p:nvPr/>
        </p:nvPicPr>
        <p:blipFill>
          <a:blip r:embed="rId1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83" name="i-main-pic" descr="Картинка 38 из 389"/>
          <p:cNvPicPr/>
          <p:nvPr/>
        </p:nvPicPr>
        <p:blipFill>
          <a:blip r:embed="rId2"/>
          <a:stretch/>
        </p:blipFill>
        <p:spPr>
          <a:xfrm>
            <a:off x="4071960" y="57168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84" name="i-main-pic" descr="Картинка 28 из 389"/>
          <p:cNvPicPr/>
          <p:nvPr/>
        </p:nvPicPr>
        <p:blipFill>
          <a:blip r:embed="rId3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785880" y="-48672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омашние задан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з пробл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i-main-pic" descr="Картинка 1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1285920"/>
            <a:ext cx="1785960" cy="15717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857160" y="2886480"/>
            <a:ext cx="6000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и в учебе зависят от многих важных моментов жизни ученика: полноценный сон, рациональное здоровое питание, позитивное отношение к окружающим людям, стремление к успеху, наличие жизненно важных ц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на выполнение домашних заданий не стоит тратить всю жизнь (есть ещё много чего интересного и увлекательного). Возьмите на заметку, что в начальных классах надо укладываться с домашней работой за 1 ч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е 45 минут не помешает отдохнуть: потанцевать, поваляться по полу, поупражняться с гантелями. Любящие родители могут поиграть с ребенком в игру "разожми кулачок", нарисовать в воздухе, следя глазами, (причем и одной и другой рукой) знак бесконечности, а ребенку назовите это "ленивой восьмеркой", а можно и цветы полить, и с собакой поигр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выполнения домашних заданий: с 15.00 до 18.00. Плотно пообедать надо не меньше, чем за час-полтора до этого, но и голодным садиться за уроки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же начать? Убрать всё лишнее со стола! Если человек входит в работу легко, но быстро устаёт - начинать лучше с самых трудных заданий, если врабатывание растягивается, долго раскачивается - начинать лучше со средних заданий, потом уже переходить к сложным. А если совсем никак - надо начать с самых простых, чтобы почувствовать успех от быстро и легко выполн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, дедушки и бабушки! Помните! Домашнее задание задают вашему ребёнку! Помощь необходима только в том случае, если у ребенка есть некоторые сложности в развитии познавательных навыков. В этом случае неплохо ещё и посоветоваться со специалистом, чтобы не навред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3857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592920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. Проснувшись, он должен увидеть вашу улыбку, услышать ласковый голос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гоняйте ребенка с утра, не дергайте по пустякам, не торопите, умение рассчитать время - ваша задач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те в школу ребенка без завтра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рощайтесь, предупреждая о чем-то. Пожелайте ребенку удачи, подбодрите его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ьте фразу «Что ты сегодня получил?». Встречайте ребенка спокойно, без вопросов, дайте ему расслабиться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чересчур возбужден, жаждет поделиться с вами - не отмахивайтесь, не откладывайте на потом, это не займет много времен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видите, что ребенок огорчен, но молчит, не допытывайтесь, он потом сам все расскажет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лушав замечания учителя, не торопитесь устраивать взбучку. Постарайтесь, чтобы ваш разговор проходил без ребенка. Выслушайте обе стороны - это поможет вам яснее понять ситуацию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школы не торопите ребенка садиться за уроки - необходимо 2-3 часа отдыха (1,5 часа сна)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иготовления уроков не сидите «над душой». Дайте возможность ребенку работать самому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 течение дня хотя бы полчаса, когда вы будете принадлежать только ребенку! Не отвлекайтесь на домашние дела, телевизор и т.д. В этот момент вам должны быть важны его дела и заботы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йте единую тактику общения всех членов семьи с ребенком. Свои разногласия решайте без ребен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в течение учебного года есть критические периоды, когда учиться сложнее, быстрее наступает утомление - это первые четыре недели, конец второй четверти, первая неделя после зимних каникул, середина третьей четверт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амочувствие - это показатели трудностей в учебе!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овсем «большие» дети очень любят сказку перед сном, песенку, ласковое поглаживание. Это успокаивает, помогает снять напряжение, спокойно уснуть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71424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5554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3160" y="150012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7"/>
          <p:cNvSpPr/>
          <p:nvPr/>
        </p:nvSpPr>
        <p:spPr>
          <a:xfrm>
            <a:off x="785880" y="2857680"/>
            <a:ext cx="60721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месте со школой можно добиться желаемых результатов в воспитании и обучении детей. Учитель – ваш первый союзник и друг вашей семьи. Советуйтесь с ним, поддерживайте его авторитет. Замечания о работе учителя высказывайте в школе, на собрании. Нельзя этого дела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осещайте все занятия и собрания для родителей. Если не сможете, сообщите об этом учителю лично или запиской через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интересуйтесь учебными успехами ребенка (спрашивайте: «Что ты сегодня узнал нового?» вместо традиционного «Какую сегодня получил оценку?»). Радуйтесь успехам, не раздражайтесь из-за каждой неудачи, постигшей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контролируйте выполнение домашнего задания и оказывайте, если сможете, разумную помощь в их выполнении. Помощь и контроль не должны быть муштрой, назойливым морализированием. Главное – возбуждать интерес к 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я домашнее задание, нацеливайте ребенка на то, чтобы он умел доказывать правильность выполнения задания, приводить свои примеры. Чаще спрашивайте: «Почему?» «Докажи», «А можно ли по-другому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уйте тому, чтобы ребенок участвовал во всех касающихся его мероприятиях, проводимых в классе,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слушать рассказы ребенка до конца. Поделиться своими переживаниями – естественная потребнос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оказывайте посильную помощь школе (класс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3139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ожем детям учиться!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857160" y="1684080"/>
            <a:ext cx="600084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; проснувшись, он должен увидеть вашу улыбку и услышать ласковый голос. Не подгоняйте с утра, не дергайте по пустякам, не укоряйте за ошибки и оплошности, даже если “вчера предупреждали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щайтесь, предупреждая и наставляя: “смотри, не балуйся”, “веди себя хорошо”, “чтобы сегодня не было замечаний о твоем поведении” и т.п. Пожелайте ему удачи, подбодрите, найдите несколько ласковых слов. У него впереди трудны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йте ребенка после школы спокойно, не обрушивайте на него тысячу вопросов, дайте расслабиться (вспомните, как вы сами чувствуете себя после тяжелого рабочего дня, многочасового общения с людьми). Если же ребенок чересчур возбужден, если жаждет поделиться чем-то, не отмахивайтесь, не откладывайте на потом, выслушайте, это не займет мно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те, что ребенок огорчен, но молчит, не допытывайтесь, пусть успокоится и расскажет 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домашних занятий с ребенком с 15 до 17 часов - первая смена, с 9 до 11 часов – вторая смена. Занятия вечерами бесполезны, т.к. ребенок уже устал от насыщенного учебного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ставляйте делать все задания в один присест, это должно занимать не больше 15-20 минут времени, и только после 20 минутного отдыха можно вернуться к зад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занятий с ребенком необходимы: спокойный тон, поддержка (“не волнуйся, все получится”, “давай разберемся вместе”, “я тебе помогу”), похвала (даже, если не очень получаетс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нии с ребенком старайтесь избегать условий: “Если ты сделаешь, то…”. Порой условия становятся невыполнимыми вне зависимости ребенка, и вы можете оказаться в очень слож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остояние. Чаще всего это объективные показатели утомления, трудности уче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йте ввиду, что все дети любят сказку перед сном, песенку, ласковые слова. Все это успокаивает их, помогает снять напряжение, спокойно уснуть. Старайтесь не вспоминать перед сном о неприятнос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http://im7-tub.yandex.net/i?id=183045314-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4880" y="500040"/>
            <a:ext cx="14288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2214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одителям о наказаниях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i-main-pic" descr="Картинка 31 из 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142920"/>
            <a:ext cx="1571400" cy="14302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785880" y="1500840"/>
            <a:ext cx="607212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ая ребенка, вы учите его бояться вас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я при детях худшие черты своего характера, вы показываете им плохой пример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е наказания требуют от родителей меньше всего ума и способностей, чем любые другие воспитательные меры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ки могут только утвердить, но не изменить поведение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шлепаете ребенка «под горячую руку», это означает, что вы хуже владеете собой, нежели требуете того от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исциплинарной техники - изменить желания ребенка, а не только его поведение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наказание не исправляет поведение, а лишь преображает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. У наказанного ребенка может возникнуть враждебное чувство к родителям. И едва в нем объединятся два чувства - любовь и ненависть, - как сразу возникнет конфлик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наказания побуждают ребенка оставаться инфантильным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может заставить ребенка привлекать внимание родителей любыми средствам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казывать ребенка до 2,5-3 ле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аменить наказ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амая большая добродетель, которая только может быть у родит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ясните ребенку, почему его поведение неправильно, но будьте предельно кратк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енку что-нибудь более привлекательное, чем то, что ему хоч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сына или дочь - подождите, пока поступок повторится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концов, они более эффективны, чем наказ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                                                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держать самоценность ребе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принимайте ребенка!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заинтересованно выслушивайте рассказы о его переживаниях и потребностя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бывайте с ребенком (играйте, читайте, гуляйте и т.п.)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мешивайтесь в те его занятия, с которыми он справляется сам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, когда он просит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каждый успе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есь своими чувствами, проявляя доверие к ребенку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 решайте конфликт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в повседневном общении приветливые фразы, ласковые слова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майте ребенка не менее четырех раз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85960" y="1213920"/>
            <a:ext cx="39974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привить интерес к чтению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Рисунок 3" descr="http://im7-tub.yandex.net/i?id=17222749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285840"/>
            <a:ext cx="1143000" cy="8906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785880" y="1981800"/>
            <a:ext cx="60721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видят, как вы сами читаете с удовольствием: цитируйте, смейтесь, заучивайте отрывки, делитесь прочитанным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череди читайте друг другу рассказы или смешные истории. Развлекайте себя сами вместо того, чтобы смотреть телевизор. Поощряйте дружбу ребенка с детьми, которые любят чит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ывайте, что вы цените чтение: покупайте книги, дарите их сами и получайте в качестве подар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сами выбирают себе книги и журналы (в библиотеке, книжном магазине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аще спрашивайте мнение детей о книгах, которые они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любых материалов периодической печати: даже гороскопов, комиксов, обзоров телесериалов - пусть дети больше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идном месте дома повесьте список, где будет отражен прогресс ребенка в чтении (сколько книг прочитано и за какой сро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ме должна быть детская библиотеч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е дома специальное место для чтения (укромный уголок с полкам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адывайте с детьми кроссворды и дарите их 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ирайте книги на темы, которые вдохновят детей еще что-то прочитать об этом (например, книги о динозаврах или космических путешествия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лучше читать короткие рассказы, а не большие произведения: тогда у них появляется ощущение законченности и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ите детям до или после просмотра фильма прочитать книгу, по которой поставлен филь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детей вслух, когда это только возможно, чтобы развить их навык и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6" descr="http://im7-tub.yandex.net/i?id=199399354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5500800"/>
            <a:ext cx="771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комендации родителям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их задани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Рисунок 3" descr="http://im6-tub.yandex.net/i?id=3936330-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785880" y="1110960"/>
            <a:ext cx="60721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важность имеет твердо установленное время начала занятий. Благодаря этому вырабатывается привычка, к назначенному часу появляется психологическая готовность и предрасположение к умственной работе, даже теряется интерес к игре, прогу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установке часа начала занятий необходимо определить разумное соотношение времени, отводимого на уроки, прогулки, домашние обязанности, чтобы одно не шло в ущерб друг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постоянное место для занятий, где все необходимые предм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ятся под рукой. Так вырабатывается привычка к внутренней мобилизации с момента начала занятий и до тех пор, пока не выработалось умение управлять своим поведением, рабочее место должно быть только местом для занятий (ни игр, ни картинок, ни игрушек, ни посторонних книг, ни цветных карандашей и фломастеров, если они не нужны для текущей рабо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нет возможности выделить постоянное отдельное место, то в определенный час должно быть безусловно выделено, освобождено место для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е правило - начинать работу немедленно. Чем дольше оттягивается начало работы, тем большее усилие потребуется, чтобы заставить себя приступить к ней. У человека, который систематически начинает работу без промедления, период «втягивания» в работу короткий, дело идет быстрее и эффективнее, а учеба становится источником не только напряженного труда, но и источником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наличие перерывов в работе. Нужны единство школьного и домашнего учебного режима, профилактика перегрузок. (Попросите ребёнка показать, какие физминутки он разучил в класс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должна идти в хорошем темпе – не более 1 часа во втором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ьзя, чтобы у школьника не было других обязанностей, кроме учёбы. Человек, который в течение дня должен сделать много дел, привыкает ценить время, планировать работу, приступать к ней без провол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ение ребенка к правильному режиму должно сочетаться с Вашей самодисциплиной, уважением к ребенку, доброжелательностью, заинтересованностью, разумной требова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Рисунок 6" descr="http://im3-tub.yandex.net/i?id=29300535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800100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14360" y="479160"/>
            <a:ext cx="44146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развивать читательский интерес у дете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Рисунок 3" descr="http://im7-tub.yandex.net/i?id=199399354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71840" cy="657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928800" y="1628280"/>
            <a:ext cx="550044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ивайте ребенку интерес к чтению с самого ранне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я книги, выбирайте книги яркие по оформлению и интересные по содерж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тически  читайте ребенку. Это сформирует у него привычку ежедневного общения с кни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суждайте прочитанную детскую книгу с членам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зывайте ребенку об авторе прочитанной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читаете ребенку книгу, старайтесь прервать чтение  на самом увлекательном эпиз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иная с ребенком содержание ранее прочитанного, намеренно его искажайте, чтобы проверить, как он запомнил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йте своему ребенку книги  своего детства, делитесь своими детскими впечатлениями от чтения той или иной книги, сопоставляйте ваши и его м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раивайте дома дискуссии по прочитанным книг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йте по возможности книги полюбившихся ребенку авторов, оформляйте его личную библиоте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йте бережное отношение к книге, демонстрируя книжные реликви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рите ребенку книги с дарственной надписью, теплыми пожеланиями. Спустя годы это станет счастливым напоминанием о родном доме, его традициях, дорогих и близких лю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5" descr="http://im5-tub.yandex.net/i?id=77395696-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0800" y="5429160"/>
            <a:ext cx="81900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http://im5-tub.yandex.net/i?id=77395696-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7720" y="8286840"/>
            <a:ext cx="819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52:38Z</dcterms:created>
  <dc:creator>User</dc:creator>
  <dc:description/>
  <dc:language>en-US</dc:language>
  <cp:lastModifiedBy>Admin</cp:lastModifiedBy>
  <dcterms:modified xsi:type="dcterms:W3CDTF">2015-03-09T10:33:18Z</dcterms:modified>
  <cp:revision>108</cp:revision>
  <dc:subject/>
  <dc:title>Слайд 1</dc:title>
</cp:coreProperties>
</file>