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9B59-E8AC-4180-AEA1-60DD89C6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2976-C181-4705-9CE9-3E056FAC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9CAF-2D51-4A71-BE61-85432C0A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FB2A-D25E-468F-A204-907FF85A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4B82-97DD-4DB8-8079-3B31CE66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1401-E175-49B0-B0FD-22C72FF6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A27B-18BD-46A8-ABA9-5B5927FF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EC10-F29F-4104-823E-9ECCD06E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DD7C-5C1A-4205-911B-8FDD076E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AD37-EEF7-44CA-A72B-38333428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DA4D-A793-4B8B-91B8-B39D44BC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BFBC-1FD8-4BA9-AB0C-EBAE2E76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B3FC-F2F6-4BA7-9408-65D3A1F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1637-B18E-4F7D-BC92-A4BDFF20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0740-BB08-4A79-8275-42828EEB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40D6-6D57-46EA-AB34-17F1B537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B8C7-013C-4036-8865-CB8C1EDE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43CD-A643-49A2-AA14-98CB2815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3340-E189-40AF-9C32-1C8B2D62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4FCD-F13B-4C38-951F-DED5701E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2E5F8-FAF0-48B6-BF73-3E7D55EA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1609-66E1-4591-8376-EF082B24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E6F1-863F-48DE-8DB1-225F6C01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AAC2-9372-4BC1-B501-8B6B2DE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B4F5-A438-41CC-A99F-4E8AAED53D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68ED-E203-4243-AFDC-3D2E5A0C41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Конкурс знатоков истор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ревней Гре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амятники архитекту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133524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4464000" cy="410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амятники архитекту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376360" cy="4105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857680" y="1268280"/>
            <a:ext cx="6286320" cy="5324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амятники архитекту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4896000" cy="3983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Боги Древней Гре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16360" cy="5389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то он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67344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то он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619520" cy="5445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то он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024360" cy="396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то он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762360" cy="5345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то он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2920680" cy="374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то он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3090600" cy="403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Цели конкурс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уализация знаний по истории Древней Гре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сить интерес к изучению исто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ить уровень знаний учащихся 5-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стники конкурса – учащиеся 5-х классов – команды по 5 учеников, а остальные болельщ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рограмма конкурс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ставление команд и жю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ми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Даты и собы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Объяснить понятия, терм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Найти и исправить ошибки в текс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курс для зр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курс худож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ники архитек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ги Древней Гре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курс капит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ведение итогов. Награждение побед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азмин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ты и собы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ая команда получает карточку с датами. За правильно подобранное событие команда получает 1 бал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ъяснить поня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анды получают карточки с понятиями. За правильный ответ 2 бал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йти и исправить ошибки в текс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тексте допущены исторические ошиб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бходимо их найти и исправить. За ошибку 1 бал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онкурс для зрител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греки называли свою стран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лл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го в Греции называли « отцом истории 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род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ем спорила Афина за покровительство над Афин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Посейдо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 такое демократ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ласть на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онкурс для зрител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г искусства у древних гре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олл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из троянцев вступил в поединок с Ахилло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к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звали персидского царя, вторгшегося в Эллад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сер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итва в которой победили 300 спартанце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рмопиль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онкурс для зрител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ра, где обитали греческие бог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лим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вание греческих кораб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и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ой, совершивший 12 подвиг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ак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ком городе был разбит Ксеркс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те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онкурс художни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команда изображает древнегреческую амфо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команда изображает греческий корабль - три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амятники архитекту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3886200" cy="3600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3960720" cy="360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45:01Z</dcterms:created>
  <dc:creator>Оксана</dc:creator>
  <dc:description/>
  <dc:language>en-US</dc:language>
  <cp:lastModifiedBy>Оксана</cp:lastModifiedBy>
  <dcterms:modified xsi:type="dcterms:W3CDTF">2011-03-18T06:30:14Z</dcterms:modified>
  <cp:revision>6</cp:revision>
  <dc:subject/>
  <dc:title>Конкурс знатоков истории</dc:title>
</cp:coreProperties>
</file>