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9E7-FE1F-456C-B1DE-D6AFECE8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54-39D4-445D-936E-BD37BE7B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3DB-DBCC-47BD-9CEE-B50AC69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D79-3B03-4759-A0EC-E4A5296E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D3E3-5DDC-479D-98AF-8FE0510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6CA6-32F1-4AEA-BE4E-314C47E7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AD19-7495-480F-A734-73955B15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BA2-E20C-4DAC-9EF8-D2C008D0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7948-B3E0-4CF8-A371-FA8B74E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5BA9-64FB-4799-B674-29A37A07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CD43-2086-439D-ACF1-5CDF2C3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18F-2DB4-4360-B474-DF8C4BF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2186-2205-44C6-BF80-107683C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9803-5EE6-4848-817A-1D12A67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FFCC-0349-4967-9B81-955B168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616-603C-47B6-8DAA-E9EEABE3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FD94-2A07-408F-88BB-4EEE7317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9559-642F-472F-B5C3-963D7EA9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A0D8-0310-43FF-B4E4-F4AC931B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A145-EBEF-42CB-B3D5-97E95C9C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C858F-0978-49D8-9411-C373407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3455-FC73-4033-AB7B-2B0727C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162-66D2-4C2E-9EC8-12BE44D6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07C4-691F-45BF-AB1D-6760859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53D7-1AC9-4109-B59B-8A9DDC4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7CC5-4236-4874-AD92-082F9D1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C563-649F-4045-8ED1-AA5A1DF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6A6D-BA9E-4EBD-B631-4D048C9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5FA1-EF21-44F7-9C8D-7357FAF6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F562-A0A2-4329-BBA6-4796FABC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E66F-E059-4111-8F71-00CDCA11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9433-BCAD-4977-B92C-474E2C6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65A1-2179-4466-B09D-D1CC216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20F-3308-497B-AAC0-EF400EB9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E29D-B4F3-41AD-8855-EB1E5B0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F2A5-D8B9-41E4-9188-2FEED85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4F71-B0D8-4B09-97C7-3469E6C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ABBE-AFA1-4006-9125-51F32CB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7EF3-9EF1-4D88-ADAE-46BF2AB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ADB0-D8CF-48D2-AB0F-38C1FA1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501A-1817-44E8-BE1E-2F06CFD6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E947-E337-4AD6-BB0E-A22AFF0F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27883-C05A-45C3-8EF8-57C453D5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2DB9-ADF8-4EA6-9A83-92EA28D2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4FC-5F5D-4188-86AE-2F40BE6B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3249-775C-4098-BE05-B50184D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7ED4-61D1-4823-A0D8-D3C00F1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3F9E-4C98-46F7-8800-1261C59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FF93-A4D1-415B-951C-7DB31E06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30ED-039A-4AA2-AC46-CCAAA976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6A02A-004A-42B8-A5C2-424950A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5A9E-774B-4E6D-8E72-AEB22EF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3FBE-7D8A-40CD-830A-ADF6AE7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629E-F0BC-4BFD-9B5B-BD9E82D6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CB9D-7BA5-48B5-8DEC-CFC6CF3E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31A-F9C7-4691-BB7E-C2EB9EC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0747-3FCE-4ED3-9BDF-EABB836E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60E4-2B7C-4AC9-B4C3-F75CA35E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7C8A-167E-4398-AAD2-12B7DE22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C9C9-972B-403A-90CF-FECB628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D45F-E4C7-45D4-A352-67D66FF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3E05-9025-4481-B7AE-6D23C52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D8C5-DC08-4B83-BA30-3D33FC3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4D08-064A-4F48-B0FC-C993798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3A32-9CD8-43AA-8921-845D541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72FDA-E8F4-42AB-BF76-7184B11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596-557A-4759-A9FC-2FE831B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49CB-AB59-4790-A6B2-B23FB94D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82E02-15CE-44EC-B197-E813BA16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0DBD-B10D-401E-881E-B9074DC0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5D11-EA59-49CA-9C44-D345EC93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9358-9FAA-4D3E-90A8-99A00A9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E2DB-72E4-42D7-9D50-1B71B4B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673E-E114-4F69-9C67-DF78A8B1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34D9-8CA2-46E7-AD3D-0AABF25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226B2-5357-497C-91B5-ADC66C68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AD10E-796E-43EC-8470-4658E5C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0CE-8A6F-4DE2-8F48-282BA2D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B99D-8E04-4D58-BD29-775AFB7A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F81D7-3968-49B4-9220-C709023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628E-0565-4232-8FF2-2D51D417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BB6B-981E-40F5-90C0-E7854DED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4420-0879-4A91-93A1-D6F40076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B98-7E79-4DE4-809F-A498E09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04C-D3EC-43FB-A6E1-E790109A43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395-5B2B-4842-8C1A-4FEB3E4488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33D-A6CB-483F-AA5F-CF0E340135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A70-C478-483C-86C6-C2C5043C5E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AE1-D94D-4EB8-8B95-5985EAC26F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1B77-C749-4055-9767-FD57559D1A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72F-6C85-463C-9F34-00AD011D3B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Критика </a:t>
            </a: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о 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роман</a:t>
            </a: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е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300" spc="-1" strike="noStrike" u="sng">
                <a:solidFill>
                  <a:srgbClr val="572314"/>
                </a:solidFill>
                <a:uFillTx/>
                <a:latin typeface="Corbel"/>
              </a:rPr>
              <a:t>«Тихий Дон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А. И. Солженицы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4" descr="80922414_4000491_SOLJ.jpg"/>
          <p:cNvPicPr/>
          <p:nvPr/>
        </p:nvPicPr>
        <p:blipFill>
          <a:blip r:embed="rId2"/>
          <a:stretch/>
        </p:blipFill>
        <p:spPr>
          <a:xfrm>
            <a:off x="324000" y="1557360"/>
            <a:ext cx="3468600" cy="4662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995280" y="1523520"/>
            <a:ext cx="49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. И. Солженицы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самого появления своего в 1928 году «Тихий Дон» протянул цепь загадок, не объясненных и по сей день. Перед читающей публикой проступил случай, небывалый в мировой литературе. 23-летний дебютант создал произведение на материале, далеко превосходящем свой жизненный опыт и свой уровень образованности (4-класс-ный). Юный продкомиссар, затем московский чернорабочий и делопроизводитель домоуправления на Красной Пресне, опубликовал труд, который мог быть подготовлен только долгим общением со многими слоями дореволюционного донского общества, более всего поражал именно вжитостью в быт и психологию тех слое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D*. Предисловие к книге «Стремя «Тихого Дона». С. 5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Уже с начальной публикации первого тома большинство критиков отметили высокий художественный уровень книги, способность к обобщению и тонкую наблюдательность автора. Роман получил блестящие отзывы от корифеев советской литературы Серафимовича и Горького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Было и противоположное мнение: что это не цельный роман, а набор эпизодов (Брехт и Грин)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Книгу высоко оценила как советская читающая общественность, так и зарубежная, эмигрантская читательская аудитория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Шолоховская_рукопись_—_черновик.jpg"/>
          <p:cNvPicPr/>
          <p:nvPr/>
        </p:nvPicPr>
        <p:blipFill>
          <a:blip r:embed="rId2"/>
          <a:stretch/>
        </p:blipFill>
        <p:spPr>
          <a:xfrm>
            <a:off x="179280" y="260280"/>
            <a:ext cx="4032360" cy="64087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5" descr="Обложка_Роман-газеты_1928_г.jpg"/>
          <p:cNvPicPr/>
          <p:nvPr/>
        </p:nvPicPr>
        <p:blipFill>
          <a:blip r:embed="rId3"/>
          <a:stretch/>
        </p:blipFill>
        <p:spPr>
          <a:xfrm>
            <a:off x="4622760" y="404640"/>
            <a:ext cx="4437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4" descr="i.jpg"/>
          <p:cNvPicPr/>
          <p:nvPr/>
        </p:nvPicPr>
        <p:blipFill>
          <a:blip r:embed="rId2"/>
          <a:stretch/>
        </p:blipFill>
        <p:spPr>
          <a:xfrm>
            <a:off x="395280" y="1281240"/>
            <a:ext cx="3529080" cy="4601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067280" y="188640"/>
            <a:ext cx="48672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. А. Шолохо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Я хотел бы, чтобы мои книги помогали людям стать лучше, стать чище душой, пробуждать любовь к человеку, стремление активно бороться за идеалы гуманизма и прогресса человечества. Если мне это удалось в какой-то мере, я счастлив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Из нобелевской речи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..Я часто слышу упрек в «жестоком» показе действительност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я думаю, что плох был бы тот писатель, который прикрашивал бы действительность в прямой ущерб правде и щадил бы чувствительность читателя из ложного желания приспособиться к нему. Книга моя не принадлежит к тому разряду книг, которые читают после обеда и единственная задача которых состоит в способствовании мирному пищеварению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Английским читателям.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Статья «Роман о революционной Росс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4" descr="157870.jpg"/>
          <p:cNvPicPr/>
          <p:nvPr/>
        </p:nvPicPr>
        <p:blipFill>
          <a:blip r:embed="rId2"/>
          <a:stretch/>
        </p:blipFill>
        <p:spPr>
          <a:xfrm>
            <a:off x="1187280" y="134136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276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rbel"/>
              </a:rPr>
              <a:t>Шолохов запечатлел в грандиозном эпосе как человеческую трагедию великий социальный переворот в жизни донского казачества со всеми сложными последствиями революции в этом необъятном крестьянском мире... Все движение эпохи проходит через душу Мелехова и над ним... Трагические утраты усиливают тяжесть ударов бури, проносящейся над Мелеховым, но жизнеутверждающая сила нового еще более возвышается вследствие контраста – внутреннего разлада отставшего одиночки (Мелехова). Герой – проиграл, но великая битва – выиграна! И поэтому трагедия теряет свой пессимистический акцент (</a:t>
            </a:r>
            <a:r>
              <a:rPr b="0" i="1" lang="en-US" sz="1500" spc="-1" strike="noStrike">
                <a:solidFill>
                  <a:srgbClr val="000000"/>
                </a:solidFill>
                <a:latin typeface="Corbel"/>
              </a:rPr>
              <a:t>К. Дитрих. Статья «Роман о революционной России»</a:t>
            </a:r>
            <a:r>
              <a:rPr b="0" lang="en-US" sz="1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5" descr="4234395.jpg"/>
          <p:cNvPicPr/>
          <p:nvPr/>
        </p:nvPicPr>
        <p:blipFill>
          <a:blip r:embed="rId3"/>
          <a:stretch/>
        </p:blipFill>
        <p:spPr>
          <a:xfrm>
            <a:off x="1187280" y="4143240"/>
            <a:ext cx="3672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Статья «О роли писателя в современном обществе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4" descr="Rolland.jpg"/>
          <p:cNvPicPr/>
          <p:nvPr/>
        </p:nvPicPr>
        <p:blipFill>
          <a:blip r:embed="rId2"/>
          <a:stretch/>
        </p:blipFill>
        <p:spPr>
          <a:xfrm>
            <a:off x="1508040" y="1523880"/>
            <a:ext cx="3511800" cy="4664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276880" y="15235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Роман Шолохова "Тихий Дон" продолжает, в основном, великую реалистическую традицию предшествующей эпохи, составляющей душу русского искусства, которую обессмертили произведения Толстого. Те же широкие полотна, где выступают целые пласты человечества в окружении природы, тот же объективный взгляд, широкий кругозор, который отражает, не искажая, то же стремление скрыть художника и раскрыть предмет его искусства – в то время как на Западе искусство слишком часто лишь румяна, маска на лице действительности... (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Р. Роллан. Статья «О роли писателя в современном обществе»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. Олдрид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4" descr="images.jpg"/>
          <p:cNvPicPr/>
          <p:nvPr/>
        </p:nvPicPr>
        <p:blipFill>
          <a:blip r:embed="rId2"/>
          <a:stretch/>
        </p:blipFill>
        <p:spPr>
          <a:xfrm>
            <a:off x="38160" y="1427040"/>
            <a:ext cx="3670200" cy="4665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780000" y="1523520"/>
            <a:ext cx="515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"Тихий Дон" Шолохова был для большинства людей моего поколения первым знакомством с новым родом литературы, с новым родом общества, и мы никогда не забудем этого знакомства. "Тихий Дон" вырос, как буйные травы, из событий 1917 года, и его самородный пыл и социалистическое понимание точно соответствовали тому волнующему моменту. Мы узнали из этой книги не только, что значит революция, но и то, что она сделала с жизнью людей, и как невероятное противоречие между старым и новым создало конфликт, который в действительности был настоящей проблемой в первые двадцать лет Советской влас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"Тихий Дон" остается таким же, каким он был! В России нет такой же другой книги, и ее можно перечитывать снова и снова и каждый раз открывать новые качества, пропущенные прежде. Это подлинное искусство, и оно будет служить новым поколениям так же, как оно служило тем из нас, кто был рожден с революцией и рос с ней.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Д. Олдридж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А. Н. Толсто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4" descr="101199962_61_tolstoy.jpg"/>
          <p:cNvPicPr/>
          <p:nvPr/>
        </p:nvPicPr>
        <p:blipFill>
          <a:blip r:embed="rId2"/>
          <a:stretch/>
        </p:blipFill>
        <p:spPr>
          <a:xfrm>
            <a:off x="1403280" y="1276200"/>
            <a:ext cx="3629160" cy="5032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А. Н. Толст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..В «Тихом Доне» он развернул эпическое, насыщенное запахами земли, живописное полотно из жизни донского казачества. Но это не ограничивает большую тему романа: «Тихий Дон» по языку, сердечности, человечности, пластичности, - произведение общерусское, национальное, народно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Слово о Шолохове. С. 11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ahoma"/>
              </a:rPr>
              <a:t>Ф. Бирю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Ф. Бирюков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Михаил Шолохов далек от идиллии. Допотопная старина, патриархальщина, дикие суеверия, бытовая отсталость, порой ужасная и отвратительная, тоже вошли в рома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05:55:11Z</dcterms:created>
  <dc:creator>digital</dc:creator>
  <dc:description/>
  <dc:language>en-US</dc:language>
  <cp:lastModifiedBy>user</cp:lastModifiedBy>
  <dcterms:modified xsi:type="dcterms:W3CDTF">2015-03-10T12:54:39Z</dcterms:modified>
  <cp:revision>7</cp:revision>
  <dc:subject/>
  <dc:title>Критика романна «Тихий Дон»</dc:title>
</cp:coreProperties>
</file>