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45B-9B1C-41FE-AE47-04AE6FC7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648-A6F7-4295-A11C-AF9CEF14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F0F-0B3C-4BFF-919D-CB3FC7A6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1AB-620F-474A-AC53-6FFFCFEA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741-7B73-4F6E-8D97-0CFF62F1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586-0C61-44B0-B295-2BC1D9E4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7B0-EEEC-46BE-AD88-6E948F0F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101-4933-439B-9ABC-6AF6B64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A7E-7CB0-4CFC-933C-8FD1C68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BFE-9469-4E0F-A55F-ADB263E8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FB2-818C-4D70-B847-2737396C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C77-F2C9-4CA8-8697-92CA7BC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C940-893E-4FB0-BEF2-96ABEF7D38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28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b8ffff"/>
                </a:solidFill>
                <a:latin typeface="Tahoma"/>
              </a:rPr>
              <a:t>Программа </a:t>
            </a:r>
            <a:br>
              <a:rPr sz="4800"/>
            </a:br>
            <a:r>
              <a:rPr b="1" lang="ru-RU" sz="4800" spc="-1" strike="noStrike">
                <a:solidFill>
                  <a:srgbClr val="b8ffff"/>
                </a:solidFill>
                <a:latin typeface="Tahoma"/>
              </a:rPr>
              <a:t>летнего лагеря с дневным пребыванием дет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MC900232063"/>
          <p:cNvPicPr/>
          <p:nvPr/>
        </p:nvPicPr>
        <p:blipFill>
          <a:blip r:embed="rId1"/>
          <a:stretch/>
        </p:blipFill>
        <p:spPr>
          <a:xfrm>
            <a:off x="214200" y="4429080"/>
            <a:ext cx="16560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7120" y="285840"/>
          <a:ext cx="8501040" cy="87768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8776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МОСКОВСКОЙ ОБЛ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енное бюджетное образовательное учреждение дополнительного образования детей Московской обл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Центр развития творчества детей и юношества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Прямоугольник 4"/>
          <p:cNvSpPr/>
          <p:nvPr/>
        </p:nvSpPr>
        <p:spPr>
          <a:xfrm>
            <a:off x="4187880" y="60008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014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4784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476280"/>
          <a:ext cx="8208720" cy="498456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Общее количество участнико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 де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География участн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реализации программы принимают участие воспитанники образовательных учреждений ________ райо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.Условия участия в програм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бровольное желание детей и родителей; по заявлениям родителей и.т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.Условия размещения участн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исание  корпусов, жилищных условий, условия питания, организация досуговой деятельности.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Краткое содержание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грамма лагеря  реализуется через игру…………, направления деятельности, блоки программ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История осуществления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грамма существует с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8"/>
          <p:cNvSpPr/>
          <p:nvPr/>
        </p:nvSpPr>
        <p:spPr>
          <a:xfrm>
            <a:off x="539640" y="1143000"/>
            <a:ext cx="842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уальность и значим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ресность програм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идеи и принципы программы (могут    быть выделены в отдельный блок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авление программ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тивно-правовые документы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зу формирования лагер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х партнер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ы и методы работы с деть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жидаемые результ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ffff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дель организации лагеря – основная идея (концепция) лагерной смены, использование нетрадиционных подходов и методов воспитания школьников (детское самоуправление, работа в отрядах, в группах, выборы совета лагеря и т.д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анном пункте необходимо кратко обрисовать структуру работы лагеря, т.е., что он из себя представля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71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ffff"/>
                </a:solidFill>
                <a:latin typeface="Arial"/>
                <a:ea typeface="Times New Roman"/>
              </a:rPr>
              <a:t>Модель организации лаге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856880"/>
            <a:ext cx="82296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браз предполагаемого результата, который лагерь реально может достичь к определённому моменту врем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дач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частная цель, точнее  мини-цель. Блок целей и задач должен быть конкретным, реальным и достижим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57160" y="2876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ffff"/>
                </a:solidFill>
                <a:latin typeface="Arial"/>
                <a:ea typeface="Times New Roman"/>
              </a:rPr>
              <a:t>Цели и задач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64396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локи программы, основные направления и т.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ы и методы, с помощью которых предполагается реализовать цели и задачи предстояще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программы строится поэтапно, в соответствии с направлениями воспитательной работы с детьми (художественно-эстетическое, патриотическое, спортивно-оздоровительное, трудовое, экологическое, познавательное, досуговое и т. д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хема построения: направление (название, чему способствует), задачи, формы работы, мероприя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00040" y="2635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ffff"/>
                </a:solidFill>
                <a:latin typeface="Arial"/>
                <a:ea typeface="Times New Roman"/>
              </a:rPr>
              <a:t>Содержание програм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64260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ffff"/>
                </a:solidFill>
                <a:latin typeface="Tahoma"/>
              </a:rPr>
              <a:t>План – сетка лагерной смены</a:t>
            </a:r>
            <a:r>
              <a:rPr b="0" lang="ru-RU" sz="2800" spc="-1" strike="noStrike">
                <a:solidFill>
                  <a:srgbClr val="b8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распределение  общелагерных мероприятий по дням в течение смены, представленных в виде таблицы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ffff"/>
                </a:solidFill>
                <a:latin typeface="Tahoma"/>
              </a:rPr>
              <a:t>Примерный режим дня</a:t>
            </a:r>
            <a:r>
              <a:rPr b="0" lang="ru-RU" sz="2800" spc="-1" strike="noStrike">
                <a:solidFill>
                  <a:srgbClr val="b8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ляется исходя из формы пребывания детей в лагере (дневная, круглосуточная) в соответствии с  необходимыми СанП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9" descr="MC900232063"/>
          <p:cNvPicPr/>
          <p:nvPr/>
        </p:nvPicPr>
        <p:blipFill>
          <a:blip r:embed="rId1"/>
          <a:stretch/>
        </p:blipFill>
        <p:spPr>
          <a:xfrm>
            <a:off x="7429680" y="4930920"/>
            <a:ext cx="1395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ffff"/>
                </a:solidFill>
                <a:latin typeface="Tahoma"/>
              </a:rPr>
              <a:t>Механизмы реализац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териально-технические услов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дровые услов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ические условия (использование форм и методов работы, отбор средств и приемов работы, соблюдение единых требований по работе с детьми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ческие условия (реализация программы лагеря в 3 этапа – подготовительный, основной, заключительный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ы (главный социальный эффект программы, прогноз результатов программы на разных уровнях: коллектива всего лагеря, коллективов отрядов, звеньев, личности ребен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ffff"/>
                </a:solidFill>
                <a:latin typeface="Tahoma"/>
              </a:rPr>
              <a:t>Результаты (итоги)</a:t>
            </a:r>
            <a:br>
              <a:rPr sz="24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й части программы раскрываются ожидаемые и предполагаемые результаты, итоги её выполнения. Как и задачи, результаты должны быть конкретными и реальн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ahoma"/>
              </a:rPr>
              <a:t>Главным результатом деятельности любого детского оздоровительного лагеря является развитие ребё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9" descr="MC900232063"/>
          <p:cNvPicPr/>
          <p:nvPr/>
        </p:nvPicPr>
        <p:blipFill>
          <a:blip r:embed="rId1"/>
          <a:stretch/>
        </p:blipFill>
        <p:spPr>
          <a:xfrm>
            <a:off x="7429680" y="4930920"/>
            <a:ext cx="1395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ассовый, общедоступный и добровольный характер участия детей в работе, имеющей образовательную или общественно полезную направле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широкий простор для детской инициативы и самостоятельност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витие интересов и способностей детей на основе свободного выбора ими видов и форм занят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отрудничество и сотворчество детей и взрослы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растной, индивидуальный и дифференцированный подход в развитии личности, ее творческой индивидуальност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оотношение обязательного и добровольного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готовка к профессиональному самоопределению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8ffff"/>
                </a:solidFill>
                <a:latin typeface="Tahoma"/>
              </a:rPr>
              <a:t>В основу деятельности детского лагеря положены принципы дополнительного образования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ffff"/>
                </a:solidFill>
                <a:latin typeface="Tahoma"/>
              </a:rPr>
              <a:t>Направления воспитательной </a:t>
            </a:r>
            <a:br>
              <a:rPr sz="2800"/>
            </a:br>
            <a:r>
              <a:rPr b="1" lang="ru-RU" sz="2800" spc="-1" strike="noStrike">
                <a:solidFill>
                  <a:srgbClr val="b8ffff"/>
                </a:solidFill>
                <a:latin typeface="Tahoma"/>
              </a:rPr>
              <a:t>работы с детьми: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560" y="19810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ртивно-оздоровитель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удожественно-творческо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во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остно-ориентационное (нравственное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вательно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уговое (свободное общени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13" descr="MC900232063"/>
          <p:cNvPicPr/>
          <p:nvPr/>
        </p:nvPicPr>
        <p:blipFill>
          <a:blip r:embed="rId1"/>
          <a:stretch/>
        </p:blipFill>
        <p:spPr>
          <a:xfrm>
            <a:off x="7286760" y="4714920"/>
            <a:ext cx="1395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429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рограмма должна показать, как с учетом конкретных условий в лагере создается нетрадиционная модель организации воспитания, оздоровления и развития детей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рограмма помогает всем участникам педагогического процесса (администрация, педагоги, сотрудники лагеря и дети) осознать цель их совместных действий, осознать, что ожидается от каждого, и скоординировать совместную деятельность (чтобы детям лучше отдыхалось, а педагогической команде лучше работалось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ffff"/>
                </a:solidFill>
                <a:latin typeface="Tahoma"/>
              </a:rPr>
              <a:t>Классификация программ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олжи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долгосрочные (свыше 5 лет), среднесрочные (от 1 года до 3 лет), краткосрочные (до 1 года), оперативные (несколько недел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плексные, или общ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ля так называемых неподготовленных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фильные (специализированные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 содержании программы акцент делается на ведущее направление деятельности (спортивное, военно-патриотическое, краеведческое, экономическое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р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заимствованны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адаптированные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ffff"/>
                </a:solidFill>
                <a:latin typeface="Tahoma"/>
              </a:rPr>
              <a:t>КАЧЕСТВА ПРОГРАММ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600" y="192852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ктуа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елост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алистич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ригиналь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тролируем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8ffff"/>
                </a:solidFill>
                <a:latin typeface="Tahoma"/>
              </a:rPr>
              <a:t>Структура программ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итульный лис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яснительная запис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дель организации лагер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и и задач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ое содержание программы и пути ее реализац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лан-сетка лагерной сме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имерный распорядок дня лагер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ханизмы реализации програм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6880" y="-36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b8ffff"/>
                </a:solidFill>
                <a:latin typeface="Tahoma"/>
              </a:rPr>
              <a:t>Титульный лис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ред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ное название учреждения отдыха и оздоро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тверждаю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ректо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_______________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____»________201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ского оздоровительного лагер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_____название программы________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ля детей от __ до ___ лет. Срок реализации___________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жность, Ф.И.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а принята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ческом совете № 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3"/>
          <p:cNvSpPr/>
          <p:nvPr/>
        </p:nvSpPr>
        <p:spPr>
          <a:xfrm>
            <a:off x="519120" y="2811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7620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836640"/>
          <a:ext cx="8280360" cy="567036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Полное название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грамма (оздоровительного) детск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геря с дневным пребыванием «Радуг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Автор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.И.О. - долж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Руководители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.И.О. - Директор лаге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Территория представлен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лаге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Название проводящей 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лаге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Полный адр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Теле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Форма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ородный детский оздоровительный лагерь (центр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Цель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ть условия для ……………………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Специализация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доровительный, досуговый и т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Сроки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смена или каникулярный период 2010-2013г.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Официальный язы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12"/>
          <p:cNvSpPr/>
          <p:nvPr/>
        </p:nvSpPr>
        <p:spPr>
          <a:xfrm>
            <a:off x="592200" y="260280"/>
            <a:ext cx="80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Информационная карта програм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38:44Z</dcterms:created>
  <dc:creator>333</dc:creator>
  <dc:description/>
  <dc:language>en-US</dc:language>
  <cp:lastModifiedBy>Елена</cp:lastModifiedBy>
  <dcterms:modified xsi:type="dcterms:W3CDTF">2014-04-29T06:55:04Z</dcterms:modified>
  <cp:revision>38</cp:revision>
  <dc:subject/>
  <dc:title>Слайд 1</dc:title>
</cp:coreProperties>
</file>