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CA7-5F79-46F1-AB25-4B847798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FAA-A0AE-448E-B944-2BEA337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EED-9239-4C13-8D85-23040E00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B21-B656-43C5-BE28-4A23BE9F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DD7-225D-41F1-AC29-4499CD99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CA-92D6-4DCC-BD3C-1CDB5C2A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31E-00E1-4021-A68F-3216C132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83A-BAE1-42F2-84CE-E5D2BFC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791-569E-4AAB-A35C-BF4C775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16A-5836-44F9-AE80-66D33C2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2E9-9BDD-4439-A3F3-2E9C5C6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321-8560-4D05-A4EC-337BC9F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8CA-9FE9-49BE-9BC6-E06D896C2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279440" y="1779480"/>
            <a:ext cx="6712200" cy="19274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1071720" y="3571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Monotype Corsiva"/>
              </a:rPr>
              <a:t>Муниципальное бюджетное общеобразовательное учреждение «Гимназия № 1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421488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Monotype Corsiva"/>
              </a:rPr>
              <a:t>Выполнил: Артеменко Витал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Monotype Corsiva"/>
              </a:rPr>
              <a:t>ученик 3 «А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Звуки ф, ф', буква Ф - Картинка 12269/5"/>
          <p:cNvPicPr/>
          <p:nvPr/>
        </p:nvPicPr>
        <p:blipFill>
          <a:blip r:embed="rId2"/>
          <a:stretch/>
        </p:blipFill>
        <p:spPr>
          <a:xfrm>
            <a:off x="1428840" y="3714840"/>
            <a:ext cx="17431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3040" y="4214520"/>
            <a:ext cx="57866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Жил-был мудрый филин.  Все звери леса приходили  к нему  за советом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    Однажды поссорились две белочки из-за грибов. Решили и они к филину за советом ид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Звуки ф, ф', буква Ф - Картинка 12269/5"/>
          <p:cNvPicPr/>
          <p:nvPr/>
        </p:nvPicPr>
        <p:blipFill>
          <a:blip r:embed="rId1"/>
          <a:stretch/>
        </p:blipFill>
        <p:spPr>
          <a:xfrm>
            <a:off x="-142920" y="4500720"/>
            <a:ext cx="1743120" cy="21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Скачивание изображения: лес, зайцы, домик 27215 / Разрешение: original / Раздел: Природа / HallPic.ru"/>
          <p:cNvPicPr/>
          <p:nvPr/>
        </p:nvPicPr>
        <p:blipFill>
          <a:blip r:embed="rId2"/>
          <a:stretch/>
        </p:blipFill>
        <p:spPr>
          <a:xfrm>
            <a:off x="1071720" y="214200"/>
            <a:ext cx="7362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0-tub-ru.yandex.net/i?id=8fc3dae220411d42cfe49dd41a050231-143-144&amp;n=21"/>
          <p:cNvPicPr/>
          <p:nvPr/>
        </p:nvPicPr>
        <p:blipFill>
          <a:blip r:embed="rId1"/>
          <a:stretch/>
        </p:blipFill>
        <p:spPr>
          <a:xfrm>
            <a:off x="1357200" y="21420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im3-tub-ru.yandex.net/i?id=3265987c6875b27c408936921d690b0a-104-144&amp;n=21"/>
          <p:cNvPicPr/>
          <p:nvPr/>
        </p:nvPicPr>
        <p:blipFill>
          <a:blip r:embed="rId2"/>
          <a:stretch/>
        </p:blipFill>
        <p:spPr>
          <a:xfrm>
            <a:off x="6513480" y="214200"/>
            <a:ext cx="16304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вуки ф, ф', буква Ф - Картинка 12269/5"/>
          <p:cNvPicPr/>
          <p:nvPr/>
        </p:nvPicPr>
        <p:blipFill>
          <a:blip r:embed="rId3"/>
          <a:stretch/>
        </p:blipFill>
        <p:spPr>
          <a:xfrm>
            <a:off x="3786120" y="285840"/>
            <a:ext cx="1743120" cy="21780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857240" y="3214800"/>
            <a:ext cx="5786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Рассказали белочки филину о причине своей ссоры: они хотели набрать одинаковое количество  грибов. А как это сделать, если считать никто из них не уме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Выслушал филин белочек и с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- Высыпайте свои лукошки с орехами в две кучки и будем с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1720" y="3429000"/>
            <a:ext cx="64008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Высыпали  белочки поочередно свои лукошки с грибами. Филин всё посчитал и с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10253f"/>
                </a:solidFill>
                <a:latin typeface="Monotype Corsiva"/>
              </a:rPr>
              <a:t>- У одной белочки 15 грибов, а у другой 14 грибов. Получается разница в 1 гриб. А, чтобы разрешить вашу ссору, второй белочке я дам гриб. И у вас будет одинаковое количество грибов. Но  вам необходимо самим научиться считать! Поэтому завтра я вас жду на первый урок по матема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Белка, Разные цветные картинки для ваших дете, распечатать бесплатно, без регистрации - BABY NEWS - Развивающий материал для дет"/>
          <p:cNvPicPr/>
          <p:nvPr/>
        </p:nvPicPr>
        <p:blipFill>
          <a:blip r:embed="rId1"/>
          <a:stretch/>
        </p:blipFill>
        <p:spPr>
          <a:xfrm>
            <a:off x="928800" y="357120"/>
            <a:ext cx="2097000" cy="257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im1-tub-ru.yandex.net/i?id=aa770e571eb73a437ca09a169430f6c9-94-144&amp;n=21"/>
          <p:cNvPicPr/>
          <p:nvPr/>
        </p:nvPicPr>
        <p:blipFill>
          <a:blip r:embed="rId2"/>
          <a:stretch/>
        </p:blipFill>
        <p:spPr>
          <a:xfrm>
            <a:off x="2928960" y="1857240"/>
            <a:ext cx="202248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im1-tub-ru.yandex.net/i?id=c56f17526a61e66d9ddc5761990ed5bc-141-144&amp;n=21"/>
          <p:cNvPicPr/>
          <p:nvPr/>
        </p:nvPicPr>
        <p:blipFill>
          <a:blip r:embed="rId3"/>
          <a:stretch/>
        </p:blipFill>
        <p:spPr>
          <a:xfrm>
            <a:off x="4429080" y="4287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Белки. Клипарт. Белки и бельчата - веселые детские картинки"/>
          <p:cNvPicPr/>
          <p:nvPr/>
        </p:nvPicPr>
        <p:blipFill>
          <a:blip r:embed="rId4"/>
          <a:stretch/>
        </p:blipFill>
        <p:spPr>
          <a:xfrm>
            <a:off x="5929200" y="285840"/>
            <a:ext cx="250056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Звуки ф, ф', буква Ф - Картинка 12269/5"/>
          <p:cNvPicPr/>
          <p:nvPr/>
        </p:nvPicPr>
        <p:blipFill>
          <a:blip r:embed="rId5"/>
          <a:stretch/>
        </p:blipFill>
        <p:spPr>
          <a:xfrm>
            <a:off x="7643880" y="4572000"/>
            <a:ext cx="167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Животные леса картинки - Мой домашний звер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Звуки ф, ф', буква Ф - Картинка 12269/5"/>
          <p:cNvPicPr/>
          <p:nvPr/>
        </p:nvPicPr>
        <p:blipFill>
          <a:blip r:embed="rId2"/>
          <a:stretch/>
        </p:blipFill>
        <p:spPr>
          <a:xfrm>
            <a:off x="1714680" y="142920"/>
            <a:ext cx="167148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2786040" y="6215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Всем 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08:50:25Z</dcterms:created>
  <dc:creator>User</dc:creator>
  <dc:description/>
  <dc:language>en-US</dc:language>
  <cp:lastModifiedBy>Виталик</cp:lastModifiedBy>
  <dcterms:modified xsi:type="dcterms:W3CDTF">2014-10-31T09:55:26Z</dcterms:modified>
  <cp:revision>9</cp:revision>
  <dc:subject/>
  <dc:title>Слайд 1</dc:title>
</cp:coreProperties>
</file>