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03F-E6EF-48B8-A42E-8482AACEAE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слайде работать по щел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241-86F7-494A-B5FA-CAD97D524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9AC-3C3D-4C7B-AB0F-9FD425627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CEA-2CFF-4102-BB1F-220024A3C6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920" y="439020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928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304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92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304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480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560" y="836280"/>
            <a:ext cx="856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928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0920" y="439020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928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304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0" y="198864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092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304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4800" y="4390200"/>
            <a:ext cx="2782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836280"/>
            <a:ext cx="856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9280" y="439020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988640"/>
            <a:ext cx="42170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4390200"/>
            <a:ext cx="8642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limp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Olimp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veryday.com.ua/olympic/s1916.htm" TargetMode="External"/><Relationship Id="rId2" Type="http://schemas.openxmlformats.org/officeDocument/2006/relationships/hyperlink" Target="http://www.everyday.com.ua/olympic/s1920.htm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ru.wikipedia.org/wiki/&#1057;&#1072;&#1085;&#1080;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ru.wikipedia.org/wiki/&#1042;&#1080;&#1076;_&#1089;&#1087;&#1086;&#1088;&#1090;&#1072;" TargetMode="External"/><Relationship Id="rId3" Type="http://schemas.openxmlformats.org/officeDocument/2006/relationships/hyperlink" Target="http://ru.wikipedia.org/wiki/&#1057;&#1085;&#1086;&#1091;&#1073;&#1086;&#1088;&#1076;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ru.wikipedia.org/wiki/&#1057;&#1087;&#1086;&#1088;&#1090;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ru.wikipedia.org/wiki/&#1051;&#1099;&#1078;&#1085;&#1099;&#1081;_&#1089;&#1087;&#1086;&#1088;&#1090;" TargetMode="External"/><Relationship Id="rId4" Type="http://schemas.openxmlformats.org/officeDocument/2006/relationships/hyperlink" Target="http://ru.wikipedia.org/wiki/&#1057;&#1085;&#1086;&#1091;&#1073;&#1086;&#1088;&#1076;&#1080;&#1085;&#1075;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Олимпийский фла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Это полотно белого цвета с изображенными на нем Олимпийскими кольцами. Официальный флаг Олимпийских Игр представляет собой изображение олимпийского логотипа на белом фоне. Белый цвет символизирует мир во время Игр. Флаг планировалось впервые использовать 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Играх 1916 года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, но они не состоялись из-за войны, поэтому впервые флаг появился 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Олимпийских играх 1920 года в Антверпене (Бельгия)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. Олимпийский флаг используется в церемониях открытия и закрытия каждой Олимпи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Ольга\Desktop\4.jpg"/>
          <p:cNvPicPr/>
          <p:nvPr/>
        </p:nvPicPr>
        <p:blipFill>
          <a:blip r:embed="rId3"/>
          <a:stretch/>
        </p:blipFill>
        <p:spPr>
          <a:xfrm>
            <a:off x="4716360" y="1844640"/>
            <a:ext cx="2664000" cy="167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Ольга\Desktop\255453033.jpg"/>
          <p:cNvPicPr/>
          <p:nvPr/>
        </p:nvPicPr>
        <p:blipFill>
          <a:blip r:embed="rId4"/>
          <a:stretch/>
        </p:blipFill>
        <p:spPr>
          <a:xfrm>
            <a:off x="4572000" y="3645000"/>
            <a:ext cx="4051440" cy="270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Ольга\Desktop\olimpiada600.jpg"/>
          <p:cNvPicPr/>
          <p:nvPr/>
        </p:nvPicPr>
        <p:blipFill>
          <a:blip r:embed="rId1"/>
          <a:stretch/>
        </p:blipFill>
        <p:spPr>
          <a:xfrm>
            <a:off x="4500720" y="1484280"/>
            <a:ext cx="4244760" cy="2809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Олимпийский ого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Times New Roman"/>
              </a:rPr>
              <a:t>Ритуал зажжения священного огня происходит от древних греков и был возобновлен Кубертеном в 1912 году. Факел зажигают в Олимпии направленным пучком солнечных лучей, образованных вогнутым зеркалом. Олимпийский огонь символизирует чистоту, попытку совершенствования и борьбу за победу, а также мир и дружбу. Эстафета по доставке факела в город-хозяин Игр впервые состоялась в 1936 году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Ольга\Desktop\i.jpg"/>
          <p:cNvPicPr/>
          <p:nvPr/>
        </p:nvPicPr>
        <p:blipFill>
          <a:blip r:embed="rId2"/>
          <a:stretch/>
        </p:blipFill>
        <p:spPr>
          <a:xfrm>
            <a:off x="5003640" y="4437000"/>
            <a:ext cx="3097440" cy="205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Олимпийская клятва</a:t>
            </a: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  <a:ea typeface="Times New Roman"/>
              </a:rPr>
              <a:t>Текст клятвы предложил Пьер де Кубертен,  французский инициатор современных олимпийских игр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  <a:ea typeface="Times New Roman"/>
              </a:rPr>
              <a:t>«От имени всех участников соревнований, я обещаю что мы будем участвовать в этих Олимпийских Играх, уважая и соблюдая правила, по которым они проводятся, в истинно спортивном духе, во славу спорта и чести наших коман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Ольга\Desktop\pierre_de_coubertin-280x300.jpg"/>
          <p:cNvPicPr/>
          <p:nvPr/>
        </p:nvPicPr>
        <p:blipFill>
          <a:blip r:embed="rId1"/>
          <a:stretch/>
        </p:blipFill>
        <p:spPr>
          <a:xfrm>
            <a:off x="5219640" y="1773360"/>
            <a:ext cx="3097440" cy="3317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106960" y="566100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ьер де Кубер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:\Users\Ольга\Desktop\3.jpg"/>
          <p:cNvPicPr/>
          <p:nvPr/>
        </p:nvPicPr>
        <p:blipFill>
          <a:blip r:embed="rId1"/>
          <a:stretch/>
        </p:blipFill>
        <p:spPr>
          <a:xfrm>
            <a:off x="5508720" y="4437000"/>
            <a:ext cx="1584360" cy="191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5157000" y="6093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Users\Ольга\Desktop\9.jpg"/>
          <p:cNvPicPr/>
          <p:nvPr/>
        </p:nvPicPr>
        <p:blipFill>
          <a:blip r:embed="rId2"/>
          <a:stretch/>
        </p:blipFill>
        <p:spPr>
          <a:xfrm>
            <a:off x="3708360" y="134136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Ольга\Desktop\6.jpg"/>
          <p:cNvPicPr/>
          <p:nvPr/>
        </p:nvPicPr>
        <p:blipFill>
          <a:blip r:embed="rId3"/>
          <a:stretch/>
        </p:blipFill>
        <p:spPr>
          <a:xfrm>
            <a:off x="6516720" y="1239840"/>
            <a:ext cx="1727280" cy="2400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Талисманы зимних Олимпийских игр 2014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Ольга\Desktop\0.jpg"/>
          <p:cNvPicPr/>
          <p:nvPr/>
        </p:nvPicPr>
        <p:blipFill>
          <a:blip r:embed="rId4"/>
          <a:stretch/>
        </p:blipFill>
        <p:spPr>
          <a:xfrm>
            <a:off x="539640" y="134136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Ольга\Desktop\8.jpg"/>
          <p:cNvPicPr/>
          <p:nvPr/>
        </p:nvPicPr>
        <p:blipFill>
          <a:blip r:embed="rId5"/>
          <a:stretch/>
        </p:blipFill>
        <p:spPr>
          <a:xfrm>
            <a:off x="2556000" y="4437000"/>
            <a:ext cx="1531800" cy="1914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-119880" y="39337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mbria"/>
              </a:rPr>
              <a:t>Белый 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3645720" y="386064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mbria"/>
              </a:rPr>
              <a:t>Леоп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6882120" y="386064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1070640" y="5805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mbria"/>
              </a:rPr>
              <a:t>Луч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Ольга\Desktop\3.jpg"/>
          <p:cNvPicPr/>
          <p:nvPr/>
        </p:nvPicPr>
        <p:blipFill>
          <a:blip r:embed="rId1"/>
          <a:stretch/>
        </p:blipFill>
        <p:spPr>
          <a:xfrm>
            <a:off x="4067280" y="4149720"/>
            <a:ext cx="2671560" cy="1871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Олимпийская медаль</a:t>
            </a:r>
            <a:r>
              <a:rPr b="0" lang="ru-RU" sz="4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557360"/>
            <a:ext cx="42451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Олимпийские медали: золотую, серебряную и бронзовую вручают трём спортсменам, показавшим наилучшие результаты в соревновании. В командных видах спорта медали равного достоинства получают все члены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Ольга\Desktop\5.jpg"/>
          <p:cNvPicPr/>
          <p:nvPr/>
        </p:nvPicPr>
        <p:blipFill>
          <a:blip r:embed="rId2"/>
          <a:stretch/>
        </p:blipFill>
        <p:spPr>
          <a:xfrm>
            <a:off x="4284720" y="1700280"/>
            <a:ext cx="220968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Ольга\Desktop\i.jpg"/>
          <p:cNvPicPr/>
          <p:nvPr/>
        </p:nvPicPr>
        <p:blipFill>
          <a:blip r:embed="rId3"/>
          <a:stretch/>
        </p:blipFill>
        <p:spPr>
          <a:xfrm>
            <a:off x="6804000" y="2852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C:\Users\Kirill\Downloads\1266795683_ustugov_580.jpg"/>
          <p:cNvPicPr/>
          <p:nvPr/>
        </p:nvPicPr>
        <p:blipFill>
          <a:blip r:embed="rId1"/>
          <a:stretch/>
        </p:blipFill>
        <p:spPr>
          <a:xfrm>
            <a:off x="7294680" y="4156200"/>
            <a:ext cx="1673280" cy="1195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2268360" y="1844640"/>
            <a:ext cx="3159360" cy="2837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Лыж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Конькобеж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Боб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Хоккей на ль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Биатл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Керл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799"/>
              </a:spcAft>
              <a:buClr>
                <a:srgbClr val="411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60f"/>
                </a:solidFill>
                <a:latin typeface="Arial"/>
              </a:rPr>
              <a:t>Сан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Kirill\Downloads\230px-Christel_Pascal_01.jpg"/>
          <p:cNvPicPr/>
          <p:nvPr/>
        </p:nvPicPr>
        <p:blipFill>
          <a:blip r:embed="rId2"/>
          <a:stretch/>
        </p:blipFill>
        <p:spPr>
          <a:xfrm>
            <a:off x="50760" y="5373720"/>
            <a:ext cx="1857240" cy="1347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Kirill\Downloads\180px-Curling_stones.jpg"/>
          <p:cNvPicPr/>
          <p:nvPr/>
        </p:nvPicPr>
        <p:blipFill>
          <a:blip r:embed="rId3"/>
          <a:stretch/>
        </p:blipFill>
        <p:spPr>
          <a:xfrm>
            <a:off x="7305840" y="2806560"/>
            <a:ext cx="1658880" cy="135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Kirill\Downloads\350px-MagnusKubenOlsson.jpg"/>
          <p:cNvPicPr/>
          <p:nvPr/>
        </p:nvPicPr>
        <p:blipFill>
          <a:blip r:embed="rId4"/>
          <a:stretch/>
        </p:blipFill>
        <p:spPr>
          <a:xfrm>
            <a:off x="7294680" y="5327640"/>
            <a:ext cx="1673280" cy="136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Kirill\Downloads\big_pic_280209.thumbnail.jpg"/>
          <p:cNvPicPr/>
          <p:nvPr/>
        </p:nvPicPr>
        <p:blipFill>
          <a:blip r:embed="rId5"/>
          <a:stretch/>
        </p:blipFill>
        <p:spPr>
          <a:xfrm>
            <a:off x="1914480" y="5373720"/>
            <a:ext cx="1649520" cy="134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Kirill\Downloads\250px-Brady_Canfield_skeleton_start.jpg"/>
          <p:cNvPicPr/>
          <p:nvPr/>
        </p:nvPicPr>
        <p:blipFill>
          <a:blip r:embed="rId6"/>
          <a:stretch/>
        </p:blipFill>
        <p:spPr>
          <a:xfrm>
            <a:off x="3589200" y="5373720"/>
            <a:ext cx="2019600" cy="13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C:\Users\Kirill\Downloads\250px-Yekaterina_Lavrentyeva_FIL_European_Luge_Natural_Track_Championships_2010.jpg"/>
          <p:cNvPicPr/>
          <p:nvPr/>
        </p:nvPicPr>
        <p:blipFill>
          <a:blip r:embed="rId7"/>
          <a:stretch/>
        </p:blipFill>
        <p:spPr>
          <a:xfrm>
            <a:off x="7236000" y="1557360"/>
            <a:ext cx="1661760" cy="126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85_4"/>
          <p:cNvPicPr/>
          <p:nvPr/>
        </p:nvPicPr>
        <p:blipFill>
          <a:blip r:embed="rId8"/>
          <a:stretch/>
        </p:blipFill>
        <p:spPr>
          <a:xfrm>
            <a:off x="5383080" y="5278320"/>
            <a:ext cx="1998720" cy="15130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0" y="112536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a2ab"/>
                </a:solidFill>
                <a:latin typeface="Calibri"/>
              </a:rPr>
              <a:t>Олимпи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008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Зимние виды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7288.jpg"/>
          <p:cNvPicPr/>
          <p:nvPr/>
        </p:nvPicPr>
        <p:blipFill>
          <a:blip r:embed="rId1"/>
          <a:stretch/>
        </p:blipFill>
        <p:spPr>
          <a:xfrm>
            <a:off x="4575240" y="0"/>
            <a:ext cx="4395600" cy="65977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720" y="1928880"/>
            <a:ext cx="444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Это биатл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Лыжная гонка со стрел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из вин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5_1234544442.jpg"/>
          <p:cNvPicPr/>
          <p:nvPr/>
        </p:nvPicPr>
        <p:blipFill>
          <a:blip r:embed="rId1"/>
          <a:stretch/>
        </p:blipFill>
        <p:spPr>
          <a:xfrm>
            <a:off x="1835280" y="2565360"/>
            <a:ext cx="5491080" cy="4024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901440" y="333360"/>
            <a:ext cx="7818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Это бобс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Скоростной спуск с гор по специ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ледовым трассам на управляемых санях – бо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sport_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395280" y="476280"/>
            <a:ext cx="532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Горнолыжный спорт</a:t>
            </a:r>
            <a:r>
              <a:rPr b="1" lang="ru-RU" sz="3200" spc="-1" strike="noStrike">
                <a:solidFill>
                  <a:srgbClr val="41160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Спуск с гор на специ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лыж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ecc06-13694.jpg"/>
          <p:cNvPicPr/>
          <p:nvPr/>
        </p:nvPicPr>
        <p:blipFill>
          <a:blip r:embed="rId1"/>
          <a:stretch/>
        </p:blipFill>
        <p:spPr>
          <a:xfrm>
            <a:off x="3881520" y="1268280"/>
            <a:ext cx="526248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214200" y="549360"/>
            <a:ext cx="371016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Это кёрл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Командная спор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 ледяной площа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Участники двух кома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поочерёдно пускают по ль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специальные гран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снаряды («камни» )в сторо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размеченной на льду миш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Праздник спорт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Зимние Олимпийские игры в Сочи 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1640" y="5157720"/>
            <a:ext cx="6597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Ященко С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daehlie_gal_l_06.jpg"/>
          <p:cNvPicPr/>
          <p:nvPr/>
        </p:nvPicPr>
        <p:blipFill>
          <a:blip r:embed="rId1"/>
          <a:stretch/>
        </p:blipFill>
        <p:spPr>
          <a:xfrm>
            <a:off x="1476360" y="189000"/>
            <a:ext cx="6192720" cy="4176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902160" y="4724280"/>
            <a:ext cx="720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Лыжные го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160f"/>
                </a:solidFill>
                <a:latin typeface="Arial"/>
              </a:rPr>
              <a:t>Гонки на лыжах на определён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160f"/>
                </a:solidFill>
                <a:latin typeface="Arial"/>
              </a:rPr>
              <a:t>дистан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lizh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3357000" y="1000080"/>
            <a:ext cx="50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280b"/>
                </a:solidFill>
                <a:latin typeface="Arial"/>
              </a:rPr>
              <a:t>Прыжки на лыжах с трамп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4318.jpg"/>
          <p:cNvPicPr/>
          <p:nvPr/>
        </p:nvPicPr>
        <p:blipFill>
          <a:blip r:embed="rId1"/>
          <a:stretch/>
        </p:blipFill>
        <p:spPr>
          <a:xfrm>
            <a:off x="5148360" y="404640"/>
            <a:ext cx="3357360" cy="3357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2988360" y="3645000"/>
            <a:ext cx="318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Санный спо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188000" y="407664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Это соревнования в скоростном спу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на одноместных или двухместных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анях</a:t>
            </a: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по заранее подготовленной тр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Спортсмены располагаются на санях на сп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ногами впер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Управление санями производится при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изменения положения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7" descr="22023.jpg"/>
          <p:cNvPicPr/>
          <p:nvPr/>
        </p:nvPicPr>
        <p:blipFill>
          <a:blip r:embed="rId3"/>
          <a:stretch/>
        </p:blipFill>
        <p:spPr>
          <a:xfrm>
            <a:off x="539640" y="2602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dcba926214db.jpg"/>
          <p:cNvPicPr/>
          <p:nvPr/>
        </p:nvPicPr>
        <p:blipFill>
          <a:blip r:embed="rId1"/>
          <a:stretch/>
        </p:blipFill>
        <p:spPr>
          <a:xfrm>
            <a:off x="1187280" y="0"/>
            <a:ext cx="6537600" cy="4357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133080" y="4508640"/>
            <a:ext cx="29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Сноуборд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468800" y="5084640"/>
            <a:ext cx="606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Экстремальн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 спорта</a:t>
            </a: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заключающийся в спу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с заснеженных склонов и 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на специальном снаряде —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ноуборде</a:t>
            </a:r>
            <a:r>
              <a:rPr b="1" lang="ru-RU" sz="2400" spc="-1" strike="noStrike">
                <a:solidFill>
                  <a:srgbClr val="41160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send_ph.jpg"/>
          <p:cNvPicPr/>
          <p:nvPr/>
        </p:nvPicPr>
        <p:blipFill>
          <a:blip r:embed="rId1"/>
          <a:stretch/>
        </p:blipFill>
        <p:spPr>
          <a:xfrm>
            <a:off x="1619280" y="333360"/>
            <a:ext cx="5811840" cy="3909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1761120" y="436572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280b"/>
                </a:solidFill>
                <a:latin typeface="Arial"/>
              </a:rPr>
              <a:t>Скоростной бег на конь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826920" y="472428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Вид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порта</a:t>
            </a: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, в котором необходим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как можно быстрее преодол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определённую дистанцию на лед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1160f"/>
                </a:solidFill>
                <a:latin typeface="Arial"/>
              </a:rPr>
              <a:t>стадионе по замкнутому к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0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imgp4513.jpg"/>
          <p:cNvPicPr/>
          <p:nvPr/>
        </p:nvPicPr>
        <p:blipFill>
          <a:blip r:embed="rId2"/>
          <a:stretch/>
        </p:blipFill>
        <p:spPr>
          <a:xfrm>
            <a:off x="0" y="1844640"/>
            <a:ext cx="4989600" cy="33256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2009-03-24T235127Z_01_LAS220_RTRIDSP_3_FIGURE-SKATING-WORLD.jpg"/>
          <p:cNvPicPr/>
          <p:nvPr/>
        </p:nvPicPr>
        <p:blipFill>
          <a:blip r:embed="rId3"/>
          <a:stretch/>
        </p:blipFill>
        <p:spPr>
          <a:xfrm>
            <a:off x="5867280" y="3524400"/>
            <a:ext cx="2502000" cy="3333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325440" y="5589720"/>
            <a:ext cx="43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Фигурное катание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800890.jpg"/>
          <p:cNvPicPr/>
          <p:nvPr/>
        </p:nvPicPr>
        <p:blipFill>
          <a:blip r:embed="rId1"/>
          <a:stretch/>
        </p:blipFill>
        <p:spPr>
          <a:xfrm>
            <a:off x="5508720" y="2133720"/>
            <a:ext cx="3484440" cy="3660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" descr="1607_free.jpg"/>
          <p:cNvPicPr/>
          <p:nvPr/>
        </p:nvPicPr>
        <p:blipFill>
          <a:blip r:embed="rId2"/>
          <a:stretch/>
        </p:blipFill>
        <p:spPr>
          <a:xfrm>
            <a:off x="571680" y="142920"/>
            <a:ext cx="4876560" cy="3254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1979640" y="371628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Фристай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42960" y="4500720"/>
            <a:ext cx="48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Вид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ыжного спорта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ноубординга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В состав фристайла вх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лыжная акробатика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ски-кросс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могул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Arial"/>
              </a:rPr>
              <a:t>ньюскул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 скии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fin01828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971640" y="5516640"/>
            <a:ext cx="23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Хокк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ilo-of-croton1"/>
          <p:cNvPicPr/>
          <p:nvPr/>
        </p:nvPicPr>
        <p:blipFill>
          <a:blip r:embed="rId1"/>
          <a:stretch/>
        </p:blipFill>
        <p:spPr>
          <a:xfrm>
            <a:off x="684360" y="704880"/>
            <a:ext cx="8034120" cy="5648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Users\Ольга\Desktop\6.jpg"/>
          <p:cNvPicPr/>
          <p:nvPr/>
        </p:nvPicPr>
        <p:blipFill>
          <a:blip r:embed="rId1"/>
          <a:stretch/>
        </p:blipFill>
        <p:spPr>
          <a:xfrm>
            <a:off x="4427640" y="1125360"/>
            <a:ext cx="3889440" cy="2159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Гим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Гимн Олимпийских игр исполняется при поднятии Олимпийского флага во время открытия очередных игр, а также по их завершению и в некоторых других случа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Ольга\Desktop\i.jpg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Ольга\Desktop\6.jpg"/>
          <p:cNvPicPr/>
          <p:nvPr/>
        </p:nvPicPr>
        <p:blipFill>
          <a:blip r:embed="rId3"/>
          <a:stretch/>
        </p:blipFill>
        <p:spPr>
          <a:xfrm>
            <a:off x="4500720" y="3500280"/>
            <a:ext cx="399564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Что такое Олимпи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честный спортивны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ней участвовать - это награ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Победить же может лю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123\Desktop\1251644298_1.jpg"/>
          <p:cNvPicPr/>
          <p:nvPr/>
        </p:nvPicPr>
        <p:blipFill>
          <a:blip r:embed="rId1"/>
          <a:stretch/>
        </p:blipFill>
        <p:spPr>
          <a:xfrm>
            <a:off x="3924360" y="981000"/>
            <a:ext cx="3740040" cy="210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123\Desktop\soch1.jpg"/>
          <p:cNvPicPr/>
          <p:nvPr/>
        </p:nvPicPr>
        <p:blipFill>
          <a:blip r:embed="rId2"/>
          <a:stretch/>
        </p:blipFill>
        <p:spPr>
          <a:xfrm>
            <a:off x="4572000" y="3429000"/>
            <a:ext cx="428616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СПИСОК   САЙ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250920" y="1859040"/>
            <a:ext cx="785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rum.netwolfs.org/showthread.php?t=565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mp-cdt.naro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ksalava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russiansanfra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kerblue.typepa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ewacropo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amswetha.wordpre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sportbo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c.academic.ru/dic.nsf/ruwiki/10150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457880" y="74880"/>
            <a:ext cx="2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Олимпийские зимние игры в С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XXII Олимпийские зимние игры пройдут в Сочи с 7 по 23 февраля 2014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Вслед за ними – с 7 по 16 марта – состоятся XI Паралимпийские зимние иг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Словар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АРАЛИМПИЙСКИЕ ИГРЫ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Paralympic Games), спортивные соревнования в различных видах программы среди инвалидов. Аналог Олимпийских Игр. Проводятся раз в 4 года при поддержке и непосредственном участии МОК: в том же месте, – но в чуть более поздние сроки, – что и Олимпийские иг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нности Олимпийск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988640"/>
            <a:ext cx="86421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овершенств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5076720" y="1413000"/>
            <a:ext cx="3311640" cy="5364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Олимпийский логоти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Это 5 переплетенных между собой колец.  Они  символизируют 5 континентов Земли и встречу спортсменов все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Европа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голубой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 цвет, Азия –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жёлтый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, Африка –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ёрный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,  Австралия –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зелёный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, Америка –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Олимпийский дев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mbria"/>
              </a:rPr>
              <a:t>Быстрее, выше, сильне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988640"/>
            <a:ext cx="42447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  <a:ea typeface="Times New Roman"/>
              </a:rPr>
              <a:t>«Быстрее, выше, сильнее», что является переводом латинского выражения «Citius, Altius, Fortius». Лозунг был предложен Пьером де Кубертеном при создании Международного олимпийского комитета в 1894 году и представлен на VIII летних Олимпийских играх в Париже в 1924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Олимпийская эмблема Сочи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773360"/>
            <a:ext cx="42447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Эмблема «Сочи 2014» состоит из зеркально отражающихся элементов «SOCHI» и «2014». Они воплощают идею «Россия – страна контрастов». А «.ru» подчеркивает, что Игры 2014 года – это Игры вс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Ольга\Desktop\спорт\i.jpg"/>
          <p:cNvPicPr/>
          <p:nvPr/>
        </p:nvPicPr>
        <p:blipFill>
          <a:blip r:embed="rId1"/>
          <a:stretch/>
        </p:blipFill>
        <p:spPr>
          <a:xfrm>
            <a:off x="5364000" y="1557360"/>
            <a:ext cx="311652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Ольга\Desktop\спорт\sochi_2014.jpg"/>
          <p:cNvPicPr/>
          <p:nvPr/>
        </p:nvPicPr>
        <p:blipFill>
          <a:blip r:embed="rId2"/>
          <a:stretch/>
        </p:blipFill>
        <p:spPr>
          <a:xfrm>
            <a:off x="5508720" y="3860640"/>
            <a:ext cx="29509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18:15:13Z</dcterms:created>
  <dc:creator>Джуманиязова</dc:creator>
  <dc:description/>
  <dc:language>en-US</dc:language>
  <cp:lastModifiedBy>User</cp:lastModifiedBy>
  <dcterms:modified xsi:type="dcterms:W3CDTF">2014-02-13T10:36:46Z</dcterms:modified>
  <cp:revision>43</cp:revision>
  <dc:subject/>
  <dc:title>Слайд 1</dc:title>
</cp:coreProperties>
</file>