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047-4553-423B-A094-F01444E3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0CF-6C9F-44C0-ABFB-DDAC289C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322-2746-4181-8D69-2FE76727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F87-B4E2-472C-BEAA-8C3597D1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0C4-72ED-4558-A0C5-5AE664D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82A-8914-4168-A471-57D0E349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F5F-5716-4349-B29D-D115732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147-52FC-4E8B-BF69-09A3BCA0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E56-2076-4065-A37F-41E7F03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34C-6EEC-456E-BE92-CB6B5DD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D38-873C-4927-8530-AE61EA62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A87-261F-4483-A3D6-F876E59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6A1-4E5E-467D-BD86-1957F6715B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8.gif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Урок  наш должен бы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нтерес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знаватель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звиваю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лодотвор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iCAXGDHCL"/>
          <p:cNvPicPr/>
          <p:nvPr/>
        </p:nvPicPr>
        <p:blipFill>
          <a:blip r:embed="rId1"/>
          <a:stretch/>
        </p:blipFill>
        <p:spPr>
          <a:xfrm>
            <a:off x="714240" y="1857240"/>
            <a:ext cx="185760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KSICAYI2DE2CAEYPGPECAR7OGA2CAETFUMPCAIS9IDDCABL3FB8CAW47565CAW6HE6RCANXZI28CA7UUBV7CAP710BNCA6Z3WWZCAMJI1PECAPRWJEYCABJ2G5YCAU8447JCATRF5YECATL5RQKCALORXNR"/>
          <p:cNvPicPr/>
          <p:nvPr/>
        </p:nvPicPr>
        <p:blipFill>
          <a:blip r:embed="rId2"/>
          <a:stretch/>
        </p:blipFill>
        <p:spPr>
          <a:xfrm>
            <a:off x="6429240" y="3357720"/>
            <a:ext cx="185760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Соли – это сложные вещества, образованные атомами металлов и кислотными остатка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3"/>
          <p:cNvSpPr txBox="1"/>
          <p:nvPr/>
        </p:nvSpPr>
        <p:spPr>
          <a:xfrm>
            <a:off x="1187280" y="1125360"/>
            <a:ext cx="6769440" cy="144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66" name="WordArt 4" descr=""/>
          <p:cNvPicPr/>
          <p:nvPr/>
        </p:nvPicPr>
        <p:blipFill>
          <a:blip r:embed="rId1"/>
          <a:stretch/>
        </p:blipFill>
        <p:spPr>
          <a:xfrm>
            <a:off x="1000080" y="573120"/>
            <a:ext cx="6716880" cy="78588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611280" y="126828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соли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611280" y="2349360"/>
            <a:ext cx="7704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кие бывают оксиды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69" name="Picture 10" descr="">
            <a:hlinkClick r:id="rId2" action="ppaction://hlinksldjump"/>
          </p:cNvPr>
          <p:cNvPicPr/>
          <p:nvPr/>
        </p:nvPicPr>
        <p:blipFill>
          <a:blip r:embed="rId3"/>
          <a:srcRect l="24780" t="10388" r="12220" b="10388"/>
          <a:stretch/>
        </p:blipFill>
        <p:spPr>
          <a:xfrm>
            <a:off x="3419640" y="5084640"/>
            <a:ext cx="2571480" cy="14828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7"/>
          <p:cNvSpPr/>
          <p:nvPr/>
        </p:nvSpPr>
        <p:spPr>
          <a:xfrm>
            <a:off x="1500120" y="5716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яем то,  что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дохнём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mhtml:file://D:\Мои%20документы\этика\гифы\АНИМИРОВАННЫЕ%20ГИФЫ%20---%20человеческие%20дети3.mht!http://www.gifpark.ru/Gifs/PEOPLE/CHILDREN/KIDS01.gif"/>
          <p:cNvPicPr/>
          <p:nvPr/>
        </p:nvPicPr>
        <p:blipFill>
          <a:blip r:embed="rId1"/>
          <a:stretch/>
        </p:blipFill>
        <p:spPr>
          <a:xfrm>
            <a:off x="5286240" y="1500120"/>
            <a:ext cx="2357640" cy="2428920"/>
          </a:xfrm>
          <a:prstGeom prst="rect">
            <a:avLst/>
          </a:prstGeom>
          <a:ln w="0">
            <a:noFill/>
          </a:ln>
        </p:spPr>
      </p:pic>
      <p:grpSp>
        <p:nvGrpSpPr>
          <p:cNvPr id="73" name="Группа 13"/>
          <p:cNvGrpSpPr/>
          <p:nvPr/>
        </p:nvGrpSpPr>
        <p:grpSpPr>
          <a:xfrm>
            <a:off x="214200" y="3929040"/>
            <a:ext cx="8587080" cy="2586240"/>
            <a:chOff x="214200" y="3929040"/>
            <a:chExt cx="8587080" cy="2586240"/>
          </a:xfrm>
        </p:grpSpPr>
        <p:pic>
          <p:nvPicPr>
            <p:cNvPr id="74" name="Picture 12" descr="f76"/>
            <p:cNvPicPr/>
            <p:nvPr/>
          </p:nvPicPr>
          <p:blipFill>
            <a:blip r:embed="rId2"/>
            <a:stretch/>
          </p:blipFill>
          <p:spPr>
            <a:xfrm>
              <a:off x="214200" y="4357440"/>
              <a:ext cx="1301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5" descr="f76"/>
            <p:cNvPicPr/>
            <p:nvPr/>
          </p:nvPicPr>
          <p:blipFill>
            <a:blip r:embed="rId3"/>
            <a:stretch/>
          </p:blipFill>
          <p:spPr>
            <a:xfrm>
              <a:off x="6715440" y="4786200"/>
              <a:ext cx="9428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5" descr="f76"/>
            <p:cNvPicPr/>
            <p:nvPr/>
          </p:nvPicPr>
          <p:blipFill>
            <a:blip r:embed="rId4"/>
            <a:stretch/>
          </p:blipFill>
          <p:spPr>
            <a:xfrm>
              <a:off x="7858440" y="3929040"/>
              <a:ext cx="9428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5" descr="f76"/>
            <p:cNvPicPr/>
            <p:nvPr/>
          </p:nvPicPr>
          <p:blipFill>
            <a:blip r:embed="rId5"/>
            <a:stretch/>
          </p:blipFill>
          <p:spPr>
            <a:xfrm>
              <a:off x="4572000" y="4214520"/>
              <a:ext cx="1214280" cy="172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19" descr="butterfly61"/>
          <p:cNvPicPr/>
          <p:nvPr/>
        </p:nvPicPr>
        <p:blipFill>
          <a:blip r:embed="rId6"/>
          <a:stretch/>
        </p:blipFill>
        <p:spPr>
          <a:xfrm rot="20134800">
            <a:off x="204480" y="1525680"/>
            <a:ext cx="107928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butterfly47"/>
          <p:cNvPicPr/>
          <p:nvPr/>
        </p:nvPicPr>
        <p:blipFill>
          <a:blip r:embed="rId7"/>
          <a:stretch/>
        </p:blipFill>
        <p:spPr>
          <a:xfrm rot="1572000">
            <a:off x="7667280" y="210960"/>
            <a:ext cx="1254240" cy="129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f76"/>
          <p:cNvPicPr/>
          <p:nvPr/>
        </p:nvPicPr>
        <p:blipFill>
          <a:blip r:embed="rId8"/>
          <a:stretch/>
        </p:blipFill>
        <p:spPr>
          <a:xfrm>
            <a:off x="2428920" y="4500720"/>
            <a:ext cx="1285920" cy="1928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img22"/>
          <p:cNvPicPr/>
          <p:nvPr/>
        </p:nvPicPr>
        <p:blipFill>
          <a:blip r:embed="rId9"/>
          <a:stretch/>
        </p:blipFill>
        <p:spPr>
          <a:xfrm>
            <a:off x="1857240" y="178596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000160" y="1571400"/>
            <a:ext cx="6686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ff"/>
                </a:solidFill>
                <a:latin typeface="Bookman Old Style"/>
              </a:rPr>
              <a:t>Мне не очень интересно на уроке, я не очень разобрался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8000"/>
                </a:solidFill>
                <a:latin typeface="Bookman Old Style"/>
              </a:rPr>
              <a:t>Я испытывал трудности и сомнения, мне не очень понравиля на уро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Bookman Old Style"/>
              </a:rPr>
              <a:t>Мне на уроке было легко, интересно и во всем разобралась (ся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>
            <a:hlinkClick r:id="rId1" action="ppaction://hlinksldjump"/>
          </p:cNvPr>
          <p:cNvPicPr/>
          <p:nvPr/>
        </p:nvPicPr>
        <p:blipFill>
          <a:blip r:embed="rId2"/>
          <a:srcRect l="24780" t="10388" r="12220" b="10388"/>
          <a:stretch/>
        </p:blipFill>
        <p:spPr>
          <a:xfrm>
            <a:off x="428760" y="0"/>
            <a:ext cx="2052360" cy="1643040"/>
          </a:xfrm>
          <a:prstGeom prst="rect">
            <a:avLst/>
          </a:prstGeom>
          <a:ln w="0">
            <a:noFill/>
          </a:ln>
        </p:spPr>
      </p:pic>
      <p:sp>
        <p:nvSpPr>
          <p:cNvPr id="85" name="Капля 4"/>
          <p:cNvSpPr/>
          <p:nvPr/>
        </p:nvSpPr>
        <p:spPr>
          <a:xfrm>
            <a:off x="1143000" y="2000160"/>
            <a:ext cx="571680" cy="500040"/>
          </a:xfrm>
          <a:custGeom>
            <a:avLst/>
            <a:gdLst/>
            <a:ahLst/>
            <a:rect l="l" t="t" r="r" b="b"/>
            <a:pathLst>
              <a:path w="571500" h="500063">
                <a:moveTo>
                  <a:pt x="0" y="250032"/>
                </a:moveTo>
                <a:cubicBezTo>
                  <a:pt x="0" y="111943"/>
                  <a:pt x="127935" y="0"/>
                  <a:pt x="285750" y="0"/>
                </a:cubicBezTo>
                <a:cubicBezTo>
                  <a:pt x="447853" y="0"/>
                  <a:pt x="609956" y="-58497"/>
                  <a:pt x="772059" y="-175490"/>
                </a:cubicBezTo>
                <a:cubicBezTo>
                  <a:pt x="638353" y="-33649"/>
                  <a:pt x="571500" y="108191"/>
                  <a:pt x="571500" y="250032"/>
                </a:cubicBezTo>
                <a:cubicBezTo>
                  <a:pt x="571500" y="388121"/>
                  <a:pt x="443565" y="500064"/>
                  <a:pt x="285750" y="500064"/>
                </a:cubicBezTo>
                <a:cubicBezTo>
                  <a:pt x="127935" y="500064"/>
                  <a:pt x="0" y="388121"/>
                  <a:pt x="0" y="25003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Капля 5"/>
          <p:cNvSpPr/>
          <p:nvPr/>
        </p:nvSpPr>
        <p:spPr>
          <a:xfrm>
            <a:off x="1116000" y="3573360"/>
            <a:ext cx="642960" cy="500040"/>
          </a:xfrm>
          <a:custGeom>
            <a:avLst/>
            <a:gdLst/>
            <a:ahLst/>
            <a:rect l="l" t="t" r="r" b="b"/>
            <a:pathLst>
              <a:path w="642937" h="500062">
                <a:moveTo>
                  <a:pt x="0" y="250031"/>
                </a:moveTo>
                <a:cubicBezTo>
                  <a:pt x="0" y="111943"/>
                  <a:pt x="143927" y="0"/>
                  <a:pt x="321469" y="0"/>
                </a:cubicBezTo>
                <a:cubicBezTo>
                  <a:pt x="489585" y="0"/>
                  <a:pt x="657701" y="-47413"/>
                  <a:pt x="825817" y="-142240"/>
                </a:cubicBezTo>
                <a:cubicBezTo>
                  <a:pt x="703897" y="-11483"/>
                  <a:pt x="642937" y="119274"/>
                  <a:pt x="642937" y="250031"/>
                </a:cubicBezTo>
                <a:cubicBezTo>
                  <a:pt x="642937" y="388119"/>
                  <a:pt x="499010" y="500062"/>
                  <a:pt x="321468" y="500062"/>
                </a:cubicBezTo>
                <a:cubicBezTo>
                  <a:pt x="143926" y="500062"/>
                  <a:pt x="-1" y="388119"/>
                  <a:pt x="-1" y="250031"/>
                </a:cubicBezTo>
                <a:lnTo>
                  <a:pt x="0" y="250031"/>
                </a:lnTo>
                <a:close/>
              </a:path>
            </a:pathLst>
          </a:custGeom>
          <a:solidFill>
            <a:srgbClr val="0099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Капля 6"/>
          <p:cNvSpPr/>
          <p:nvPr/>
        </p:nvSpPr>
        <p:spPr>
          <a:xfrm>
            <a:off x="1116000" y="5229360"/>
            <a:ext cx="642960" cy="500040"/>
          </a:xfrm>
          <a:custGeom>
            <a:avLst/>
            <a:gdLst/>
            <a:ahLst/>
            <a:rect l="l" t="t" r="r" b="b"/>
            <a:pathLst>
              <a:path w="642937" h="500063">
                <a:moveTo>
                  <a:pt x="0" y="250032"/>
                </a:moveTo>
                <a:cubicBezTo>
                  <a:pt x="0" y="111943"/>
                  <a:pt x="143927" y="0"/>
                  <a:pt x="321469" y="0"/>
                </a:cubicBezTo>
                <a:cubicBezTo>
                  <a:pt x="510267" y="0"/>
                  <a:pt x="699065" y="-63500"/>
                  <a:pt x="887864" y="-190499"/>
                </a:cubicBezTo>
                <a:cubicBezTo>
                  <a:pt x="724579" y="-43656"/>
                  <a:pt x="642937" y="103188"/>
                  <a:pt x="642937" y="250032"/>
                </a:cubicBezTo>
                <a:cubicBezTo>
                  <a:pt x="642937" y="388121"/>
                  <a:pt x="499010" y="500064"/>
                  <a:pt x="321468" y="500064"/>
                </a:cubicBezTo>
                <a:cubicBezTo>
                  <a:pt x="143926" y="500064"/>
                  <a:pt x="-1" y="388121"/>
                  <a:pt x="-1" y="250032"/>
                </a:cubicBezTo>
                <a:lnTo>
                  <a:pt x="0" y="25003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Мы должны быть: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Ум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ним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Ак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раси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вор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оспита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сциплинирова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AMERI006"/>
          <p:cNvPicPr/>
          <p:nvPr/>
        </p:nvPicPr>
        <p:blipFill>
          <a:blip r:embed="rId1"/>
          <a:stretch/>
        </p:blipFill>
        <p:spPr>
          <a:xfrm flipH="1">
            <a:off x="856800" y="1714680"/>
            <a:ext cx="1893960" cy="208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AMERI007"/>
          <p:cNvPicPr/>
          <p:nvPr/>
        </p:nvPicPr>
        <p:blipFill>
          <a:blip r:embed="rId2"/>
          <a:stretch/>
        </p:blipFill>
        <p:spPr>
          <a:xfrm>
            <a:off x="6357960" y="32148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й наст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Настроенье как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: Хорош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Все такого мне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: Все без исключе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Может, вы уже уст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: Мы с собой таких не бра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Может, ляжем, отдохн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: Лучше мы урок начне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сл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4          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                      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Br                            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ислородсодержащие кислоты: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tt-RU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tt-RU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 baseline="-25000">
                <a:solidFill>
                  <a:srgbClr val="000000"/>
                </a:solidFill>
                <a:latin typeface="Arial"/>
              </a:rPr>
              <a:t>Бескилородные кислоты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B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00000"/>
                </a:solidFill>
                <a:latin typeface="Arial"/>
              </a:rPr>
              <a:t>Химический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диктант.</a:t>
            </a:r>
            <a:br>
              <a:rPr sz="36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группируйте перечисленные вещества в 4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Na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O                LiCl          KO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SO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4            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HCl            P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O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5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Fe(OH)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3                        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Na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CO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3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                             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Ca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3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(PO)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 2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Тема урока: Соли: классификация, номенклатура, способы пол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</a:rPr>
              <a:t>Цели: </a:t>
            </a:r>
            <a:r>
              <a:rPr b="0" lang="ru-RU" sz="3200" spc="-1" strike="noStrike">
                <a:solidFill>
                  <a:srgbClr val="cc3399"/>
                </a:solidFill>
                <a:latin typeface="Calibri"/>
              </a:rPr>
              <a:t>Изучить класс сложных веществ – соли и их состав; знакомится  с классификацией солей по их растворимости в воде, их номенклатурой. Характеризовать солей, как один из классов неорганических веществ. Научиться составлять формулы солей и называть и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ы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Na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CO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3 </a:t>
            </a: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карбонат натрия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Ca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3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(PO)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 2</a:t>
            </a: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-ортофосфат каль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LiCl</a:t>
            </a: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- </a:t>
            </a: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хлорид ли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alibri"/>
              </a:rPr>
              <a:t>Cu(NO</a:t>
            </a:r>
            <a:r>
              <a:rPr b="0" lang="en-US" sz="4800" spc="-1" strike="noStrike" baseline="-25000">
                <a:solidFill>
                  <a:srgbClr val="cc3399"/>
                </a:solidFill>
                <a:latin typeface="Calibri"/>
              </a:rPr>
              <a:t>3</a:t>
            </a:r>
            <a:r>
              <a:rPr b="0" lang="en-US" sz="4800" spc="-1" strike="noStrike">
                <a:solidFill>
                  <a:srgbClr val="cc3399"/>
                </a:solidFill>
                <a:latin typeface="Calibri"/>
              </a:rPr>
              <a:t>-</a:t>
            </a:r>
            <a:r>
              <a:rPr b="0" lang="tt-RU" sz="4400" spc="-1" strike="noStrike">
                <a:solidFill>
                  <a:srgbClr val="cc3399"/>
                </a:solidFill>
                <a:latin typeface="Calibri"/>
              </a:rPr>
              <a:t>нитрат м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K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SO</a:t>
            </a:r>
            <a:r>
              <a:rPr b="0" lang="en-US" sz="5400" spc="-1" strike="noStrike" baseline="-25000">
                <a:solidFill>
                  <a:srgbClr val="cc3399"/>
                </a:solidFill>
                <a:latin typeface="Calibri"/>
              </a:rPr>
              <a:t>4</a:t>
            </a:r>
            <a:r>
              <a:rPr b="0" lang="en-US" sz="5400" spc="-1" strike="noStrike">
                <a:solidFill>
                  <a:srgbClr val="cc3399"/>
                </a:solidFill>
                <a:latin typeface="Calibri"/>
              </a:rPr>
              <a:t>- </a:t>
            </a:r>
            <a:r>
              <a:rPr b="0" lang="tt-RU" sz="4400" spc="-1" strike="noStrike">
                <a:solidFill>
                  <a:srgbClr val="cc3399"/>
                </a:solidFill>
                <a:latin typeface="Calibri"/>
              </a:rPr>
              <a:t>сульфат к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09:12Z</dcterms:created>
  <dc:creator>Намчак-оол</dc:creator>
  <dc:description/>
  <dc:language>en-US</dc:language>
  <cp:lastModifiedBy>информатика</cp:lastModifiedBy>
  <dcterms:modified xsi:type="dcterms:W3CDTF">2015-03-10T19:09:37Z</dcterms:modified>
  <cp:revision>81</cp:revision>
  <dc:subject/>
  <dc:title>Слайд 1</dc:title>
</cp:coreProperties>
</file>