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E9C-ADD7-4181-A6B4-15FB5A0B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07D-186D-451F-9331-8D1A33C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66C-26E1-494C-AC1D-87E37267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907-B645-4C0C-BDCD-8E8AE388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BAD5-2FBF-4C93-8842-A1486AEA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F12-BE44-4423-9BE5-C9FF801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EE05-FA74-4A64-A9DA-81BE3182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FBB9-6F72-4B3F-9C00-FD791D2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6B72-E364-45C1-A6F7-6B1AD48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434D-559E-46F6-A829-35D4681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FA9D-99EF-42AC-A87B-F821FC4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072-9F0A-492C-8A4F-B2BD25D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5692-CC5F-4AD8-8C6A-BC14A8F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9E1A-61B3-49BA-BC98-448A006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470-79C1-4664-8E08-F8FF7F3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DB3-3C99-4797-AF3A-1894BF07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51A4-45DE-4987-8E80-CC1E449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B1C-1FA9-40D7-B7EB-E9CA5FE3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06A-260A-479A-8F1B-18CCF15F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CB1-0047-43DC-886D-FCB8976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B16-B65A-4CBF-BC12-DB7720C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663-6382-4D08-A6D7-FD60BBB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242-A598-45AC-89E1-842F874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61A-9977-4A99-9181-AD40DF0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EDE-D206-412A-8606-080D94CB21F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7FEC-0009-4D24-B132-8F79FCCE5C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утешествие в Средневековь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икторина по истории Средних веков для 6-х класс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872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 ту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«Кроссворды»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Желаем удачи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3635280" y="2637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537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6 ту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Пир на весь мир!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едставьте, что вы живёте в средневековую эпох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бы вы накрыли праздничный стол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Это вам сейчас предстоит сделать, дорисовав рисуно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7 ту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Даты и события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8 ту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Домашнее задание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иготовить макет средневекового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мка 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едставить ег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06920" y="2744640"/>
            <a:ext cx="4537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ключительный ту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дведение итог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аграждение коман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о новых встреч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1993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Театральные подмостки!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835280" y="253692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 ту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Конкурс капитанов!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68360" y="1701720"/>
            <a:ext cx="39927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Блиц – тур!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стязание средневековых рыцар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родный герой средневековой Чех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трезок времени, равный 100 годам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здатели славянской азбу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очевые араб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Хозяйство, где ничего не продаётся и не покупаетс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се работы на феода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«Блиц – тур!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Церковный суд в средневековь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вященный город христиа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вященный город мусульма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Человек, дающий деньги под процент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бор в пользу государст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овая религиозная философия, возникшая в средние век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ладения римского пап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ту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«Загадка из средних веков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ой кипел… Она скакала на коне, на вороном – гордо поднято забрало, с орифламмой и копьём, и везде, где чуть опасно, уж, звенит, на страх врагам, этот звонкий, этот ясный женский голос по ряда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Жанна Д Ар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529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тур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«Загадка из средних веков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«О, доблестные воины, потомки непобедимых предков! Забудьте все ваши ссоры и обиды! Отправляйтесь в путь ко Святому Гробу Господню, вырвите священную землю из лап гнусных завоевателей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апа Урбан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032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05:31:01Z</dcterms:created>
  <dc:creator>Оксана</dc:creator>
  <dc:description/>
  <dc:language>en-US</dc:language>
  <cp:lastModifiedBy>Оксана</cp:lastModifiedBy>
  <dcterms:modified xsi:type="dcterms:W3CDTF">2014-01-19T09:22:16Z</dcterms:modified>
  <cp:revision>8</cp:revision>
  <dc:subject/>
  <dc:title>Путешествие в Средневековье</dc:title>
</cp:coreProperties>
</file>