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9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11D-D63B-4476-B620-5EF6F4F1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7F6-70E8-4B2F-A25B-09209AF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BA3-AE91-4BD5-B65F-D537A90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08C-4323-4912-B7B9-20679A3B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3AA-EB17-46D3-87EA-5147E8B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C07-85BF-40A2-9841-393D0977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8285-69B1-475D-B1C6-71A7471D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9395-8681-457F-ADA7-80B82CA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2A3-03C5-4209-948A-8E12A8C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5CE0-9CB9-4716-A7BA-3A30C25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4144-FE60-4772-A670-3CDABA3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D69-CBB0-43BC-9416-5A684A5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38AC-CDB5-4906-AA53-91172AD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9F25-E96A-47A2-8FB3-33B684F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488-ADD1-4A55-B3B3-D35C155C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C36-11D1-4F76-AF2C-B4B2005F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E695-A0F1-475A-9C6A-B90BC31E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6FA2-E849-4360-885C-FBB7D8F1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7173-8051-41A2-B958-53E793A8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FB45-8D91-4F12-821A-4EFF3E14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E3EA-8FF5-4A8D-A133-DF8AB76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5B99-E388-41FD-AFC3-F438569D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3ED-8ED6-4F28-8587-7ED51741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6200-7C1F-4A0F-AD84-5ABC4CD8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7EA2-26EC-4E7A-A1FA-6B8546F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9A73-F058-4832-A7EE-BF69798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0C41-6F82-4469-AC58-C6624E3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ADF1-97A3-45A9-919F-B10F1A5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2999-42B8-47D4-8614-E125F0ED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AEDE-2C59-4E4D-8652-149706ED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F37-CA14-4E4F-81DD-A964DAC3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BBE-B303-4987-B950-0BCCF7B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3CD-C6FA-40DE-81F7-6A6165DB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995-CE07-406D-9824-19E37D8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867-83F3-46D9-BF30-382EA192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079-633D-4B3B-B0AB-248EDA9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6AF9-A761-43CA-8EDC-A16DB4B850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6C81-0127-4905-A06F-1293C83559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EB6-7788-4C71-9A1A-46EC9BAAC0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55752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539640" y="692280"/>
            <a:ext cx="7993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оссии первая любов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3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6048720" cy="3641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98100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Свидетельство, выданное недорослю Пушкину при определении его в Лицей". 1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b93"/>
            </a:gs>
            <a:gs pos="100000">
              <a:srgbClr val="d5d5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602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 октября 1811 года. Торжество открытия Царскосельского лицея. В Актовом зале собралась царская семья с государем, высокопоставленные чиновники и гости, преподаватели и гувернеры, тридцать воспитанников и среди них Пушкин. Были прочитаны манифест об учреждении Лицея и Устав, в котором было записано, что в этом учебном заведении телесные наказания запре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498312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2319480"/>
                <a:tab algn="l" pos="2498760"/>
                <a:tab algn="l" pos="402912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20000" cy="302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d5d5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27280" y="476280"/>
            <a:ext cx="61927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списание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 ч.            подъем, молитва в зал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-9 ч.         класс (учебные заня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ч.            чай с белой бул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10 ч.     первая прогу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-12 ч.   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-13 ч.    вторая прогул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 ч.         обед из трех блю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-15 ч.    чистописание или  рис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-17 ч.    класс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7 ч.         Ч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18 ч.     третья прогу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-20 ч.    повторение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.30 ч.    ужин из двух блю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22 ч.    отдых, развлечения ("мячик и беготня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 ч.          вечерняя молитва,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0360" y="3141720"/>
          <a:ext cx="1319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141720"/>
                    <a:ext cx="1319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d5d5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60360" y="3141720"/>
          <a:ext cx="13190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141720"/>
                    <a:ext cx="1319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79640" y="361800"/>
            <a:ext cx="691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Эк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8 января 1815 года переводные экзамены на старший 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8 января 1815 года присутствовал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</a:rPr>
              <a:t>Г.Р. Держави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15 мая 1817 года выпускные эк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атин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кон Бож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оссийская слове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мецкая слове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ранцузская слове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остранная география и 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сеобщая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литэкономия и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стественное, частное и публич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головное и гражданск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ечественная география и 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истая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ладная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ртификация и артилл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6551640" cy="4464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322440" y="5734080"/>
            <a:ext cx="519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.Е. Репин. Пушкин на лицейском ак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олст, масло. 1911. (ВМП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b93"/>
            </a:gs>
            <a:gs pos="100000">
              <a:srgbClr val="ffc5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24000" y="1268280"/>
          <a:ext cx="22572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22572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916360" y="226800"/>
            <a:ext cx="5976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питанник Императорского Царскосельского Лицея Александр Пушкин в течение шестилетнего курса обучался в сем заведении и оказал успех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Законе Божием и священной истории, в логике и нравственной философии, в праве естественном, частном и публичном, в российском гражданском и уголовном праве ХОРОШ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латинской словесности, в государственной экономии и финансах ВЕСЬМА ХОРОШ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оссийской и французской словесности, также в фехтовании ПРЕВОСХОД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рх того занимался историей, географией, статистикой, математикой и немецким язы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 уверение чего и дано ему от Конференции Императорского Царскосельского Лицея сие свидетельство с приложением печ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арское Село июня 9 дня 1817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76500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ные вехи биографии А. С. Пушк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арскосельский лицей (1811 – 181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вый петербургский период (1817 – 18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Южная ссылка (1820 – 18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ихайловская ссылка (1824 – 1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торой петербургский период (с 1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динская осень (18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нитьба (18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уэль и смерть (27 – 29 января 18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076720" y="46800"/>
            <a:ext cx="38163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ушкин А. С.  проявил себя едва ли не во всех литературных жанрах своего времени и был родоначальником многих из них в отечественной слове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иапазон его лирики простирается от эпиграмм до баллад и стансов. Центральное произведение – «роман в стихах» «Евгений Онегин» (1823 – 183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141280" cy="32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26290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2143080" cy="273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297a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15920"/>
            <a:ext cx="2829240" cy="4897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2314440" cy="287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3958920" cy="336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208764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a7a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003640" y="54936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реди жанров пушкинской поэзии и прозы – поэма («Руслан и Людмила», «Кавказский пленник», Бахчисарайский фонтан», «Братья-разбойники», «Цыганы», «Граф Нулин», «Медный всадник»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320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b81ff"/>
                </a:solidFill>
                <a:latin typeface="Century Gothic"/>
              </a:rPr>
              <a:t>6 июня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ab81ff"/>
                </a:solidFill>
                <a:latin typeface="Century Gothic"/>
              </a:rPr>
              <a:t>Пушкинский день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134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Отмечается ежегодно в соответствии с Указом Президент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от 20 мая 1999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в день рождения великого поэ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А. С. Пушкина (1799 – 18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743280" cy="5183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4965480" cy="22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5c5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73440" cy="3951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384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435640" y="692280"/>
            <a:ext cx="345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рагедия («Борис Годунов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икл «Маленькие трагедии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весть и роман («Арап Петра Великого», «Повести Белкина», «Пиковая дама», «Дубровский», «Капитанская дочка»), историческая проза («История Пугачева»), сказ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340000" y="189000"/>
            <a:ext cx="2828880" cy="3887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9200" y="3141720"/>
            <a:ext cx="2764080" cy="352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9142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97a2"/>
            </a:gs>
            <a:gs pos="100000">
              <a:srgbClr val="ffff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92280" cy="4681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5400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96b9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24000" cy="453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248000" cy="218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95640" y="332100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" descr=""/>
          <p:cNvPicPr/>
          <p:nvPr/>
        </p:nvPicPr>
        <p:blipFill>
          <a:blip r:embed="rId2"/>
          <a:srcRect l="51729" t="1963" r="1519" b="35203"/>
          <a:stretch/>
        </p:blipFill>
        <p:spPr>
          <a:xfrm>
            <a:off x="250920" y="260280"/>
            <a:ext cx="4537080" cy="5256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8920" y="333000"/>
            <a:ext cx="4033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 на Мойке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этом доме расположенном на набережной реки Мойки, Пушкин жил с осени 1836, и здесь он скончался 29 января 1837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1925 в нем открыт музей-квартира Пушкина. В 1937 были восстановлены семь комнат пушкинской квартиры (на основании плана, нарисованного В. А. Жуковским, и других документов), а также парадная лестница, уничтоженная при перестройке дома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1951 во дворе дома установлен памятник Пушкину (скульптор Н. В. Дыдыкин). В 1980-е в ходе капитальной реконструкции были построены новые экспозиционные залы лекторий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6021360"/>
          <a:ext cx="3744720" cy="36504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м А. С. Пушкина на Мой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3635280" y="4688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b9c0"/>
            </a:gs>
            <a:gs pos="100000">
              <a:srgbClr val="ffff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" descr=""/>
          <p:cNvPicPr/>
          <p:nvPr/>
        </p:nvPicPr>
        <p:blipFill>
          <a:blip r:embed="rId1"/>
          <a:srcRect l="4675" t="1218" r="2309" b="11639"/>
          <a:stretch/>
        </p:blipFill>
        <p:spPr>
          <a:xfrm>
            <a:off x="755640" y="333360"/>
            <a:ext cx="280836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6" name=""/>
          <p:cNvSpPr/>
          <p:nvPr/>
        </p:nvSpPr>
        <p:spPr>
          <a:xfrm>
            <a:off x="4427640" y="4724280"/>
            <a:ext cx="396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амятник А. С. Пушкину на Страстной (Пушкинской) площади в Москв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 в 1880 г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кульптор А. М. Опекуш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">
                                      <p:cBhvr>
                                        <p:cTn id="4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777080" cy="4994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b81ff"/>
                </a:solidFill>
                <a:latin typeface="Comic Sans MS"/>
              </a:rPr>
              <a:t>Родословная А.С. Пушкина в портре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40360" y="549360"/>
            <a:ext cx="475272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рб рода Пушкины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изв. художник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пия из "Общего гербовника дворянских родов Российской империи"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умага, акварель, золото.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1871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b9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68000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404640"/>
            <a:ext cx="4248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пись о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.С. Пушк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рагмент из метрической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еркви Богоявления в Елохове, 1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bc7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786040" cy="34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4869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. де Местр(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шкин-ребе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тал. пласт., масло. 1801-1802. (Г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33360"/>
            <a:ext cx="5113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ские годы Пушкина протекли в Москве и подмосковном селе Захарове. Будущий поэт рос в обедневшей дворянской семье. Его отец Сергей Львович воспитание детей препоручил жене Надежде Осиповне из рода Ганнибалов. Красавица-"креолка" была поглощена светскими обязанностями, а воспитанием Александра, Льва и Ольги занимались бабушка Мария Алексеевна Ганнибал, крепостная няня Арина Родионовна и многочисленные гувернеры и учителя, преимущественно иностранц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бушка была "ума светлого и по своему времени образованною". Мальчик заслушивался ее рассказами о Пушкиных и Ганнибалах, чьи имена нашли свое место на страницах русской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1280" y="765000"/>
            <a:ext cx="4897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рина Родионовна была, по словам Ольги Сергеевны, "настоящей представительницей русских нянь; мастерски говорила сказки, знала народные поверья и сыпала пословицами, поговорками. Александр Сергеевич любил ее с детства". Благотворное влияние оказал на впечатлительного мальчика и крепостной Пушкиных, его дядька Никита Тимофеевич Козлов. Они совершали вместе прогулки по Москве и ее окрестностям, посещали достопримечательности древней столицы, народные гyля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600360" cy="4319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89000"/>
            <a:ext cx="8642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оме родителей Пушкина собирались просвещенные литераторы тогдашней Москвы: Н.М. Карамзин, И.И. Дмитриев, В.А. Жуковский, К.Н. Батюшков, Василий Львович Пушкин. Будущий поэт, по словам его первого биографа П.В. Анненкова, "внимательно прислушивался к их суждениям и разговорам, знал корифеев нашей словесности не по одним произведениям, но и по живому слову...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ногие часы он проводил в библиотеках отца, дяди и знакомого семьи сенатора Д.П. Бутурлина - владельца уникального книжного собрания. Иногда отец сам читал детям Мольера  по-французски. Все это действовало на живое воображение девятилетнего мальчика и пробудило в нем "дух подражания и авторства". Он писал басни и переделывал сюжеты Мольера и Вольтера в комедии "Похититель" и в шутливой поэме "Толиада". Это были первые литературные опыты будущего великого поэт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.А. Черейский. "Современники Пушк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c5"/>
            </a:gs>
            <a:gs pos="100000">
              <a:srgbClr val="caa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808000" cy="3384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4508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C. Г. Чириков(?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шкин в ю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умага, акварель, пас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15. (В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96192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ушкин гордился своей родословной, своими предками, их добрым именем и славными делами, - гордился те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торговал мой д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ин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ваксил царских Сап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пел с придво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ьяч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нязья не прыгал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 хох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5:49Z</dcterms:created>
  <dc:creator>user11</dc:creator>
  <dc:description/>
  <dc:language>en-US</dc:language>
  <cp:lastModifiedBy>Дом</cp:lastModifiedBy>
  <dcterms:modified xsi:type="dcterms:W3CDTF">2015-03-07T16:23:04Z</dcterms:modified>
  <cp:revision>65</cp:revision>
  <dc:subject/>
  <dc:title>Слайд 1</dc:title>
</cp:coreProperties>
</file>