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945-3BEF-4A0A-985C-7C9AC48E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DD6-61D5-4390-9F6D-0AE66F3B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0E447-25CA-46D5-9A0D-1FCD940A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7D656-EB74-463F-9777-29C38059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9DC88-7EF1-4711-A7BC-6BACE42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CFF3-2B74-4BBF-9358-075C6C1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3B77-250E-484E-B7E2-E33A3FB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50FFA-B26B-440C-888B-2A96172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20F6E-1D96-4AA9-B109-C5B15D9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924F0-5C56-4F0F-804C-2D36BD00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FCF93-9B98-499D-942F-4FE0D22D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53BE-CE34-45EA-8B97-2FD4D3D4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C5A-640C-4772-AA7D-EEEDD000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A2B1F-AFBC-4EB3-8318-F159BF0B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74E6C-0AB3-47DD-85A7-3CCB804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68CE6-1D43-4B06-B6F3-18969FD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66E3B-0414-446D-BF78-B4B58273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42EC3-99BA-4117-A26C-D56C4FE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96784-D6F7-4608-A56C-5334E69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B5FCB-805F-40D1-BAA9-FD51460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79D55-429D-4522-ACE3-1DE7B6C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2C2F6-4BB1-42C6-96E9-7067BEB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C6E3-B5E3-4BAE-8F8F-FBCB11D3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7C4-C962-4A64-B925-B5449F8E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E1559-616A-4D27-AD72-3CB8CBA9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48AE-47B5-4414-A241-E287D95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A9013-DCAD-4A7A-8EFE-922A4B80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9BCC0-C286-4C9B-AD53-8CCCEFC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14C3A-0D3B-4C9B-AAAC-DB43C7F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6994-85A9-4F63-A4C9-590B9A9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74875-E027-401C-BBE0-28EE9CED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259C5-785C-4718-AAE7-F6C3F9D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BCE9-AA32-4370-866A-FECC7FD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B8A0C-5EDB-449D-AAB2-6D4E834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FDE-BDB5-4138-9A51-D2B9DD5B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5E24-7629-4B5F-9D28-B667B75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4F3AC-5E27-4B09-8FB8-816EDDD8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D69D9-2C2B-4AF3-931C-ED416946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D0255-936C-4409-98CA-4F27E949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A004-B1A8-47A7-9834-A246BFD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83A78-A2D3-4B2D-97B8-D37C21E2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78077-4FCB-48CE-B1B3-7C423AE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0452C-E1D7-48C0-9430-1EE06F2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BEB2E-B920-4418-A562-F97C478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49497-3978-458C-A9A7-2AA1063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BEA-0E53-4AD1-B861-5B3098AA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16E0A-BBDE-4FA1-9E68-1C51AEA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48ED-CADF-47A2-9825-61FEE0D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68F32-BA84-477B-8E5B-C59B63D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2859-3EA2-4145-993F-25FC0EEE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78CA1-E480-4222-8176-70E7734C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03870-FEFD-46F2-9F81-C882C6E1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CCFA0-3DD8-41B5-9D7F-C35B15B4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CA3EE-78C6-4746-8892-C06BEB7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A76C9-09B4-4663-8D3A-7D948D3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5B7AE-C09B-4262-A24D-789E4C49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9C74-224A-474A-BDD3-BB9E3EAA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7C1CF-0D70-40CD-9372-91C2EC4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E4D5C-453F-4F3D-BEEB-CAA333E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4A7C7-2CB7-48F8-AC7B-E78E38B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9BDDB-D450-4B83-AB92-78A5F59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F172D-60EC-4191-9CFF-A4956508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81922-E21F-46C9-A1C6-74AFBCF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1146B-6B55-403A-9558-76995514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9C893-918D-47A8-9870-AEC1C0F4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2AFAF-47F4-4851-B4E2-20BA009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A9F64-62BE-4B7E-9669-ABADE68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5A5-B9BC-4963-A5EA-2662C10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D7809-4095-430C-A4F6-D48D831D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03DE-9D7B-4A5C-8310-A1C58D2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A386A-0D42-475B-9117-7876B1B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B9C65-4A8E-4F08-9DA4-E715001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A346E-6B79-454E-B6C5-AD49AD1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DF560-AE47-404B-B5E3-9F5059A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D108E-8A79-41EE-B735-FAC5916D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FF5D7-4B47-449F-B94A-DF0E4C10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C9F7B-C697-4794-9D31-9F4BBED6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97BF-FDBA-4714-93BF-7D403AD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7D82-61F5-4D0A-B95E-0C5D5D1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2888-D97E-4949-B1BC-FEC8F14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712-4D97-410B-AB90-A000DA2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09A-24A1-4261-95EF-E5392F89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9866-A085-4C10-A4D2-89B02B3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381-D466-4063-BFF4-3D3F126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B39F-653A-4A5D-A1BF-B93F9231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1C54-F907-4FCB-AD28-2204C8F1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406E-8D84-43A2-A61F-34E2809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6BA2-ED38-4E6C-88AE-404D4874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C9C2-14FC-4837-8D1B-94BC91A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6225-B706-4216-8402-4010C4E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149D-552A-4181-BC94-12EE0195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26A-FE70-4294-BA7D-D0CD0A25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3B8D-7240-4571-B5C6-D412E28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18BA-E790-41CD-A8C1-28002F9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607F-6295-47AC-BFB3-B3C2DD8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E122-D178-4A69-86B9-573727F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72F4-5594-495D-B381-9712D2F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0DC6-79C2-4835-B406-927A0548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34D5-471B-4E1F-90AD-814C01A8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3230-A745-4732-95E1-E7C384E0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631E-A774-4CBC-90E3-A2818D0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2196-4584-419A-BE66-694FF2E9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13C-F490-414E-8A70-505C45CE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0D3A-3E9E-494B-A8C9-8FA4C69C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31C1-8E1C-416A-85E9-1239CBCB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2054-22A6-4A06-A34E-374F2366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68B8-CD54-4162-B542-4F33FC1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05B4-F19E-47C2-B670-3C2415D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BF2D-E64C-4AFC-90C0-55C095F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3842-0DF3-48E7-9319-4B711DB9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25CB-9AD3-4424-A861-DD199B7A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552F-E2D8-456D-A81D-B846D901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32964-2D28-46FA-BDA5-B10132CB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CB3-2E03-4746-939E-2A1F5D89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C12B-B045-4333-B3F8-A64FA44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4A80-3BDB-44D0-9D2B-A7944ABE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81CB-B25D-49F9-9689-FF7ACDAD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1CCF-4083-4D4C-A3EE-EDCD63A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125D-B449-4C82-843E-EAE9E24F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6351-F37B-4D65-A3B8-7E1592F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3A98-189B-42E0-A29D-EA5ACBB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E974-9797-4377-9591-0E1909DE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A351-8750-4CE0-AEF8-6DBD8B3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4E69-D457-4559-9EE4-1007DD7B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6EC-664D-4B27-AB21-5E508F8A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5360-3188-45BC-893C-3CA0145F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5BBD6-EDC8-45F1-970D-05844DA8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E983-2D23-4D54-AA83-479FFCF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D46B-5192-4036-8499-C4AB5D2D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22AA-6949-4F9C-B29C-66B6D72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498D4-6A17-4630-A724-E0EE9B42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ECB0-A02D-4549-AD16-17C36EF8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D04AD-260E-47DE-BDF6-BF4CC97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E1C0-8F96-4B7A-A574-6369C2E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B131-007E-4E65-B46B-7300CA9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814-75DF-4FC9-A953-66C4A7F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BE52-83AF-4195-BFF2-EF142AD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5EB9D-4F1D-4CA8-930B-4A20E60D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0204-400F-460F-96BB-A169D9AD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03FC-EA3B-486B-81D2-1FF8487C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8C0F-8811-4396-84F2-F942380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42B1D-6759-460E-9878-801108A1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A6F8-06BE-4176-ADB7-003FF6C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64DB-15C9-4A3A-92FF-C3EBE1E7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E368-6F1E-418E-BC73-C311918C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FD879-2D6D-49B9-8E06-2010680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7E4-301E-417E-A248-3A8AD19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F7C8-33E0-4EC6-B4E0-8AB2234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9B2E-EDC0-430D-B47B-1101812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600C-CF6B-4849-8173-93FA79F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F53F-9D3F-4304-9CD6-90B175B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59EB-9AEA-42AC-867C-EE940E4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74A7-B8BD-4C8C-BA51-198B4E1A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89AC-B169-475A-8494-79A4E5EB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07256-EC11-4179-AB92-95A5327D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8D75-641E-446A-A571-E65C6D9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B79E-A709-4E35-81DA-5D11FDA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A2F-6F04-4AB5-807D-51D66E23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982B0-0500-4ED1-B035-0844243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D71B-18AB-4101-B761-63FD542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2C03-D093-4992-80E8-7E64283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D6B1-6873-4CE8-849C-ED1AC99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CB18A-5F82-4840-8C1C-AD82EF9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A9120-5467-4B41-A529-12D15350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DA16E-3CC4-4A86-AC38-1BC6D3A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36C2-0E3F-4128-92C7-5207E5CC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E6FDF-445E-4024-A7B7-69CB104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E63C-7E35-42FD-94E0-CB69D8F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0BB-1A31-4D52-B77D-B0AFE21D3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76B-BC09-4F9A-94E8-FF6472986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155-BAFE-4BE1-AD91-21884A448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BCD2-5659-4BA3-B848-C778CD19AE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A22-2121-4BC1-82F2-5A6D4EC309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E9E-2F89-438D-9C74-C31A9127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DAD-B029-4637-BA5E-3E5C6758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C0BC-1860-4576-A4E3-4F6943E5B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C75-11D4-499B-8A06-DB94D078B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E204-006F-4ABF-A722-52C2419F2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A5E9-1ECF-49F7-84F7-6B1103B2E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877-F728-471E-855D-D06DAFAD8D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F8D0-853B-4D6C-89BC-4A2C5D9E5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FDC-9962-4983-9E4C-27892978F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5/88/471/88471783_large_4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86_large_43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5/88/471/88471787_large_44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g0.liveinternet.ru/images/attach/c/5/88/471/88471788_large_45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g1.liveinternet.ru/images/attach/c/5/88/471/88471789_large_46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92_large_49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5/88/471/88471793_large_50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g0.liveinternet.ru/images/attach/c/5/88/471/88471794_large_51.JPG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g1.liveinternet.ru/images/attach/c/5/88/471/88471795_large_52georgina.JPG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66_large_2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5/88/471/88471767_large_27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68_large_28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70_large_29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5/88/471/88471773_large_32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76_large_3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5/88/471/88471777_large_35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0.liveinternet.ru/images/attach/c/5/88/471/88471778_large_36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g1.liveinternet.ru/images/attach/c/5/88/471/88471779_large_37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g1.liveinternet.ru/images/attach/c/5/88/471/88471781_large_39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img0.liveinternet.ru/images/attach/c/5/88/471/88471782_large_40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9144000" cy="21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lexandra Zeferino One"/>
              </a:rPr>
              <a:t>Цветы из бумаги</a:t>
            </a:r>
            <a:br>
              <a:rPr sz="8800"/>
            </a:br>
            <a:r>
              <a:rPr b="0" lang="ru-RU" sz="8800" spc="-1" strike="noStrike">
                <a:solidFill>
                  <a:srgbClr val="ff0000"/>
                </a:solidFill>
                <a:latin typeface="Alexandra Zeferino One"/>
              </a:rPr>
              <a:t>по шаблон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643120" y="47149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_AlternaTitulB&amp;W"/>
              </a:rPr>
              <a:t>При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_AlternaTitulB&amp;W"/>
              </a:rPr>
              <a:t>Воспитатель Суворова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41 (500x294, 129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765000"/>
            <a:ext cx="7921440" cy="4658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43 (400x300, 20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44 (400x300, 21Kb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4762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45 (400x300, 20Kb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46 (500x459, 170Kb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3573360"/>
            <a:ext cx="3168720" cy="2908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49 (400x166, 31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341360"/>
            <a:ext cx="8064360" cy="3346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50 (320x320, 26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62064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51 (320x320, 61Kb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69228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52георгина (400x166, 31Kb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933720"/>
            <a:ext cx="5543640" cy="23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53 (508x700, 191Kb)"/>
          <p:cNvPicPr/>
          <p:nvPr/>
        </p:nvPicPr>
        <p:blipFill>
          <a:blip r:embed="rId2"/>
          <a:stretch/>
        </p:blipFill>
        <p:spPr>
          <a:xfrm>
            <a:off x="539640" y="476280"/>
            <a:ext cx="4056120" cy="5589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54 (508x700, 168Kb)"/>
          <p:cNvPicPr/>
          <p:nvPr/>
        </p:nvPicPr>
        <p:blipFill>
          <a:blip r:embed="rId3"/>
          <a:stretch/>
        </p:blipFill>
        <p:spPr>
          <a:xfrm>
            <a:off x="4572000" y="1486080"/>
            <a:ext cx="38988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4565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5143680" y="1285920"/>
            <a:ext cx="3214440" cy="4146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500040" y="285840"/>
            <a:ext cx="8072640" cy="6235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714240" y="285840"/>
            <a:ext cx="8001000" cy="6253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428760" y="285840"/>
            <a:ext cx="8215200" cy="6221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26 (640x480, 132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74760"/>
            <a:ext cx="810432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&amp;tcy;&amp;iecy;&amp;kcy;&amp;scy;&amp;tcy; &amp;pcy;&amp;rcy;&amp;icy; &amp;ncy;&amp;acy;&amp;vcy;&amp;iecy;&amp;dcy;&amp;iecy;&amp;ncy;&amp;icy;&amp;icy;"/>
          <p:cNvPicPr/>
          <p:nvPr/>
        </p:nvPicPr>
        <p:blipFill>
          <a:blip r:embed="rId2"/>
          <a:stretch/>
        </p:blipFill>
        <p:spPr>
          <a:xfrm>
            <a:off x="571680" y="357120"/>
            <a:ext cx="80010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karat773.ru/post22698727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lshoyvopros.ru/questions/864036-kak-sdelat-cvetok-gardenija-iz-gofrirovannoj-buma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demade.ru/tsvetochnyie-sharyi-iz-gofrirovanoy-bumag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interestinglady.com/crepe-paper-flow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27 (700x531, 229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4640"/>
            <a:ext cx="7705440" cy="5845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28 (700x517, 147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7991280" cy="5902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29 (700x525, 146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32 (700x525, 214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54936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34 (700x525, 175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35 (700x525, 208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693520" y="1600200"/>
            <a:ext cx="6326280" cy="4525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36 (400x300, 29Kb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549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37 (400x300, 33Kb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54936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39 (400x300, 30Kb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40 (400x300, 21Kb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3573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5:07:25Z</dcterms:created>
  <dc:creator>Детский сад №6</dc:creator>
  <dc:description/>
  <dc:language>en-US</dc:language>
  <cp:lastModifiedBy>User</cp:lastModifiedBy>
  <dcterms:modified xsi:type="dcterms:W3CDTF">2015-03-09T21:01:07Z</dcterms:modified>
  <cp:revision>14</cp:revision>
  <dc:subject/>
  <dc:title>Слайд 1</dc:title>
</cp:coreProperties>
</file>