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7F6-5881-4027-995B-2040A012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262-9690-4F81-8E40-EFC4326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102-BEFF-4FD5-B4E2-6EF70BA8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5A2-F4B2-451A-BA82-CB5FBF93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429-1E66-4F5F-A255-D823A5E9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9BD-A0A1-4CFF-A9A7-0E171E99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3EB-8C1F-4A56-8F7D-225DD83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AE3C-2437-42E0-9311-5CB2F4C6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672-E32D-43B1-96A0-C91A66D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56D-C59C-4D23-AF23-CEBF701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C9D-CBD9-4653-9D73-B7CA9B6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CCE-EB70-4256-A702-CECFBA0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CF8-E81D-44A5-A65B-EDA65BC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6FAC-34E8-450B-AEE5-F194B53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F6E-ABE2-4458-8916-C53EE13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8C25-8044-40DC-8DD4-BC3A81B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4324-8F39-49D1-A237-2EC3AFDE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3286-BD7A-4CE2-B2A1-4A7BD61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87DD-D448-4201-9008-B60CAD4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C314-A4CF-4508-BAC2-473CB7E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5C55-94E4-417B-B41F-70CA19A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EAD0-BB03-4917-9447-E28919C5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E0E-CF7C-4B27-8474-3DE2F90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E5F9-0FE5-4412-9646-3BD0014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B8F9-50C2-4FE3-BCE1-7287908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5841-C525-4E40-98AE-CDA14C2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4EB8-3EFE-4D04-B9CB-0457312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10E3-32E4-4046-BD5C-EAC50E9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6CFB-47DA-421D-ADF4-20322289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D0D6-DCEB-453C-876B-DE09297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2626-E9BC-4B01-9615-99BFEF0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E47F-6CF8-432A-96F8-520C7520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B9A9-1BE3-4A9C-B7ED-1633E32A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122-9EC9-4FDE-9717-44800BF7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60EC-8E6C-4410-B1B3-BFB7C27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D2A3-A0A2-4ACC-A415-0EF9955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5BF3-8AB3-4970-A575-5E878132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E695-C809-4E27-AFB8-7A88FC9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F81A-56F7-443E-89EC-F4807D64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57F5-6511-46C5-A6AD-15D34FC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E26D-81A3-493A-A4B9-D859BA0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08E8-86C6-4512-ABD3-8C6F1619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7A38-6285-43ED-AE87-4C650D43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B6B0-DDAB-4A52-B66D-BFD295CD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D23-AB5C-4BFE-AB24-3D53DEF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1BE3-3E4C-43E1-B9E7-A4E74F8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80AD5-917C-4AA0-A1A9-0EF2664A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483C-CA2B-4AE4-8333-7420F882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7B38-F79E-4684-B1B4-76BDB398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1750-887E-4C83-96A6-FD99AE22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B45E-447D-427D-987D-9AFCD8D4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1B08-9D44-49AE-A124-40CB0CD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DCE3-FBFE-40C0-BF3C-7EDA58A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C7BA-2B7F-4A65-AFB3-566F64A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5883-414B-44A7-82C9-2041C07E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7E5-1791-46FB-A21F-8BD0C1F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4C45-8DB2-410E-B57B-750BAC43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926-4E8A-4DE4-9E0C-30CC0C7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3F1-8BA2-42F6-B3EA-7E2E9EC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965-BE8E-4069-AE8C-620FCDD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90F-8842-497A-9FFF-930DBBF2EEB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7A3-F62B-4DCE-887B-397D72EECB7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071-451A-4013-9BA0-7D32047FB2B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359-3C5B-44C7-B523-1CF752602B3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E291-2A08-4D79-89F4-129E5B03801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Схема 1" descr=""/>
          <p:cNvPicPr/>
          <p:nvPr/>
        </p:nvPicPr>
        <p:blipFill>
          <a:blip r:embed="rId1"/>
          <a:stretch/>
        </p:blipFill>
        <p:spPr>
          <a:xfrm>
            <a:off x="1079640" y="669960"/>
            <a:ext cx="7149960" cy="4876920"/>
          </a:xfrm>
          <a:prstGeom prst="rect">
            <a:avLst/>
          </a:prstGeom>
          <a:ln w="0">
            <a:noFill/>
          </a:ln>
        </p:spPr>
      </p:pic>
    </p:spTree>
  </p:cSld>
  <p:transition advTm="66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хема 2" descr=""/>
          <p:cNvPicPr/>
          <p:nvPr/>
        </p:nvPicPr>
        <p:blipFill>
          <a:blip r:embed="rId1"/>
          <a:stretch/>
        </p:blipFill>
        <p:spPr>
          <a:xfrm>
            <a:off x="189000" y="189000"/>
            <a:ext cx="8881920" cy="6175440"/>
          </a:xfrm>
          <a:prstGeom prst="rect">
            <a:avLst/>
          </a:prstGeom>
          <a:ln w="0">
            <a:noFill/>
          </a:ln>
        </p:spPr>
      </p:pic>
    </p:spTree>
  </p:cSld>
  <p:transition advTm="14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2" descr=""/>
          <p:cNvPicPr/>
          <p:nvPr/>
        </p:nvPicPr>
        <p:blipFill>
          <a:blip r:embed="rId1"/>
          <a:stretch/>
        </p:blipFill>
        <p:spPr>
          <a:xfrm>
            <a:off x="822240" y="1908000"/>
            <a:ext cx="7486560" cy="335304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6c36"/>
          </a:solidFill>
          <a:ln w="39960">
            <a:solidFill>
              <a:srgbClr val="a34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바탕"/>
                <a:ea typeface="바탕"/>
              </a:rPr>
              <a:t>«... ДИТЯ ТРЕБУЕТ ДЕЯТЕЛЬНОСТИ БЕСПРЕСТАННО И УТОМЛЯЕТСЯ НЕ ДЕЯТЕЛЬНОСТЬЮ, А ЕЁ ОДНООБРАЗИЕМ И ОДНОСТОРОННОСТЬ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  <a:ea typeface="Aharoni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755640"/>
            <a:ext cx="8004240" cy="52801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хема 6" descr=""/>
          <p:cNvPicPr/>
          <p:nvPr/>
        </p:nvPicPr>
        <p:blipFill>
          <a:blip r:embed="rId1"/>
          <a:stretch/>
        </p:blipFill>
        <p:spPr>
          <a:xfrm>
            <a:off x="414360" y="420840"/>
            <a:ext cx="8418600" cy="6016320"/>
          </a:xfrm>
          <a:prstGeom prst="rect">
            <a:avLst/>
          </a:prstGeom>
          <a:ln w="0">
            <a:noFill/>
          </a:ln>
        </p:spPr>
      </p:pic>
    </p:spTree>
  </p:cSld>
  <p:transition advTm="120000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хема 2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8442000" cy="1298880"/>
          </a:xfrm>
          <a:prstGeom prst="rect">
            <a:avLst/>
          </a:prstGeom>
          <a:ln w="0">
            <a:noFill/>
          </a:ln>
        </p:spPr>
      </p:pic>
      <p:pic>
        <p:nvPicPr>
          <p:cNvPr id="225" name="Схема 3" descr=""/>
          <p:cNvPicPr/>
          <p:nvPr/>
        </p:nvPicPr>
        <p:blipFill>
          <a:blip r:embed="rId2"/>
          <a:stretch/>
        </p:blipFill>
        <p:spPr>
          <a:xfrm>
            <a:off x="1511280" y="1390680"/>
            <a:ext cx="7004160" cy="4076640"/>
          </a:xfrm>
          <a:prstGeom prst="rect">
            <a:avLst/>
          </a:prstGeom>
          <a:ln w="0">
            <a:noFill/>
          </a:ln>
        </p:spPr>
      </p:pic>
    </p:spTree>
  </p:cSld>
  <p:transition advTm="65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Схема 1" descr=""/>
          <p:cNvPicPr/>
          <p:nvPr/>
        </p:nvPicPr>
        <p:blipFill>
          <a:blip r:embed="rId1"/>
          <a:stretch/>
        </p:blipFill>
        <p:spPr>
          <a:xfrm>
            <a:off x="353880" y="158760"/>
            <a:ext cx="8436240" cy="1249200"/>
          </a:xfrm>
          <a:prstGeom prst="rect">
            <a:avLst/>
          </a:prstGeom>
          <a:ln w="0">
            <a:noFill/>
          </a:ln>
        </p:spPr>
      </p:pic>
      <p:pic>
        <p:nvPicPr>
          <p:cNvPr id="227" name="Схема 2" descr=""/>
          <p:cNvPicPr/>
          <p:nvPr/>
        </p:nvPicPr>
        <p:blipFill>
          <a:blip r:embed="rId2"/>
          <a:stretch/>
        </p:blipFill>
        <p:spPr>
          <a:xfrm>
            <a:off x="792000" y="1352520"/>
            <a:ext cx="7413840" cy="4951440"/>
          </a:xfrm>
          <a:prstGeom prst="rect">
            <a:avLst/>
          </a:prstGeom>
          <a:ln w="0">
            <a:noFill/>
          </a:ln>
        </p:spPr>
      </p:pic>
    </p:spTree>
  </p:cSld>
  <p:transition advTm="61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хема 1" descr=""/>
          <p:cNvPicPr/>
          <p:nvPr/>
        </p:nvPicPr>
        <p:blipFill>
          <a:blip r:embed="rId1"/>
          <a:stretch/>
        </p:blipFill>
        <p:spPr>
          <a:xfrm>
            <a:off x="781200" y="334800"/>
            <a:ext cx="7369200" cy="725760"/>
          </a:xfrm>
          <a:prstGeom prst="rect">
            <a:avLst/>
          </a:prstGeom>
          <a:ln w="0">
            <a:noFill/>
          </a:ln>
        </p:spPr>
      </p:pic>
      <p:pic>
        <p:nvPicPr>
          <p:cNvPr id="229" name="Схема 3" descr=""/>
          <p:cNvPicPr/>
          <p:nvPr/>
        </p:nvPicPr>
        <p:blipFill>
          <a:blip r:embed="rId2"/>
          <a:stretch/>
        </p:blipFill>
        <p:spPr>
          <a:xfrm>
            <a:off x="566640" y="963720"/>
            <a:ext cx="8223480" cy="5546520"/>
          </a:xfrm>
          <a:prstGeom prst="rect">
            <a:avLst/>
          </a:prstGeom>
          <a:ln w="0">
            <a:noFill/>
          </a:ln>
        </p:spPr>
      </p:pic>
    </p:spTree>
  </p:cSld>
  <p:transition advTm="60000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хема 1" descr=""/>
          <p:cNvPicPr/>
          <p:nvPr/>
        </p:nvPicPr>
        <p:blipFill>
          <a:blip r:embed="rId1"/>
          <a:stretch/>
        </p:blipFill>
        <p:spPr>
          <a:xfrm>
            <a:off x="566640" y="384120"/>
            <a:ext cx="7944120" cy="6053040"/>
          </a:xfrm>
          <a:prstGeom prst="rect">
            <a:avLst/>
          </a:prstGeom>
          <a:ln w="0">
            <a:noFill/>
          </a:ln>
        </p:spPr>
      </p:pic>
    </p:spTree>
  </p:cSld>
  <p:transition advTm="60000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хема 1" descr=""/>
          <p:cNvPicPr/>
          <p:nvPr/>
        </p:nvPicPr>
        <p:blipFill>
          <a:blip r:embed="rId1"/>
          <a:stretch/>
        </p:blipFill>
        <p:spPr>
          <a:xfrm>
            <a:off x="493560" y="244440"/>
            <a:ext cx="8229600" cy="6485040"/>
          </a:xfrm>
          <a:prstGeom prst="rect">
            <a:avLst/>
          </a:prstGeom>
          <a:ln w="0">
            <a:noFill/>
          </a:ln>
        </p:spPr>
      </p:pic>
    </p:spTree>
  </p:cSld>
  <p:transition advTm="60000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0:17:28Z</dcterms:created>
  <dc:creator>Емельянова</dc:creator>
  <dc:description/>
  <dc:language>en-US</dc:language>
  <cp:lastModifiedBy>Школа51</cp:lastModifiedBy>
  <dcterms:modified xsi:type="dcterms:W3CDTF">2015-03-10T09:39:35Z</dcterms:modified>
  <cp:revision>92</cp:revision>
  <dc:subject/>
  <dc:title>Методическая разработка</dc:title>
</cp:coreProperties>
</file>