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30F9-30FB-4FB6-9BA0-DA4641E7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3825-880E-4DB2-9022-0881F007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93EC-70B8-4A33-9BCC-549B7980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592F-7A5C-4053-858A-0F552BA5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6888-DE16-4043-BC29-D1A9E9A3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6303-18F1-48B9-9F67-C74370AC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4D9C-B23F-47E8-AF49-B6176F46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99EA-DC66-4F93-8586-8711BF76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F929-ABDF-42A4-994F-4DFD4317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AB2B-B679-4BD5-A819-9DB65793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A75F-71BC-486D-BF8B-8A9E31D5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9064-81F6-4AB6-B77D-F058BFB4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920C-53A3-4BE2-A882-CB10CD9224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60498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cc"/>
                </a:solidFill>
                <a:latin typeface="Arial"/>
              </a:rPr>
              <a:t>Урок литературы </a:t>
            </a:r>
            <a:br>
              <a:rPr sz="3200"/>
            </a:br>
            <a:r>
              <a:rPr b="1" lang="ru-RU" sz="3200" spc="-1" strike="noStrike">
                <a:solidFill>
                  <a:srgbClr val="33cccc"/>
                </a:solidFill>
                <a:latin typeface="Arial"/>
              </a:rPr>
              <a:t>по роману </a:t>
            </a:r>
            <a:br>
              <a:rPr sz="3200"/>
            </a:br>
            <a:r>
              <a:rPr b="1" lang="ru-RU" sz="3200" spc="-1" strike="noStrike">
                <a:solidFill>
                  <a:srgbClr val="33cccc"/>
                </a:solidFill>
                <a:latin typeface="Arial"/>
              </a:rPr>
              <a:t>Чингиза Айтматова </a:t>
            </a:r>
            <a:br>
              <a:rPr sz="3200"/>
            </a:br>
            <a:r>
              <a:rPr b="1" lang="ru-RU" sz="3200" spc="-1" strike="noStrike">
                <a:solidFill>
                  <a:srgbClr val="33cccc"/>
                </a:solidFill>
                <a:latin typeface="Arial"/>
              </a:rPr>
              <a:t>"Плаха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6659640" y="3284640"/>
            <a:ext cx="2160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Сюжет и структура ром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ман разделён на три части, первые две из которых описывают жизнь Авдия Каллистратова, рано потерявшего мать и воспитанного своим отцом — дьяконом. Поступив в семинарию и столкнувшись с непониманием многими священниками вопроса о развитии идеи Бога и церкви, он задаётся вопросом, на который ответ так и не наход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вая оценку этому поступку, Ч. Айтматов пишет о том, что сами мысли и есть форма развития, единственный путь к существованию таких иде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ухода из семинарии Авдий устраивается работать в издательство и для написания статьи едет в Моюнкумскую пустыню, чтобы описать развитую там наркоторговлю. Уже в пути он знакомится со своими «попутчиками» — Петрухой и Ленькой. Долго разговаривая с ними, Авдий Каллистратов приходит к выводу, что не эти люди виноваты в том, что нарушают правила, а систе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33cccc"/>
                </a:solidFill>
                <a:latin typeface="Arial"/>
              </a:rPr>
              <a:t>«И чем больше вникал он в эти печальные истории, тем больше убеждался, что все это напоминало некое подводное течение при обманчивом спокойствии поверхности житейского моря и что, помимо частных и личных причин, порождающих склонность к пороку, существуют общественные причины, допускающие возможность возникновения этого рода болезней молодежи. Причины эти на первый взгляд было трудно уловить — они напоминали сообщающиеся кровеносные сосуды, которые разносят болезнь по всему организму. Сколько ни вдавайся в эти причины на личном уровне, толку от этого мало, если не вовсе никакого.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быв на поле для сбора конопли, Авдий встречается с волчицей Акбарой, образ которой является связующей нитью всего романа. Несмотря на возможность убить человека, Акбара не делает этого. После встречи с Гришаном, в вагоне поезда, Авдий призывает всех покаяться и выбросить мешки с наркотиками, но его избивают и выкидывают из поезда. Случайно встретив бывших «товарищей» арестованных за провоз наркотиков, он пытается помочь им, но они не признают его за своего. Затем Авдий возвращается в Москву и только по приглашению Инги Фёдоровны снова возвращается в Моюнкумскую пустынь, где принимает предложение Обер-Кандалова «поохотитьс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ние часы Авдия мучительны — не стерпев убийства множества животных «для плана», он пытается помешать бойне, и пьяные наниматели распинают его на саксауле. Последними словами Авдия, обращёнными к Акбаре, будут: «Ты пришла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тья часть описывает жизнь Бостона, живущего в трудный период перехода социалистической собственности в частную. Повествование начинается с того, как местный пьяница крадёт детёнышей волчицы Акбары и, несмотря на все уговоры, продаёт их за выпивку. В этом повествовании рассказывается о несправедливости, которая царила в то время в этих местах. Тяжёлые отношения складываются у Бостона с местным парторгом. Трагически оканчивается судьба Бостона — он случайно убивает собственного сы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056360" cy="57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6012000" y="2708280"/>
            <a:ext cx="2381040" cy="29718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лки для тюрков – тотемные животные. И сами имена их: Акбара – “великая”, Ташчайнар – “переламывающий камни” – означают силу, уничтожающую все перед собо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482436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61214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836720" cy="244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2"/>
          <a:stretch/>
        </p:blipFill>
        <p:spPr>
          <a:xfrm>
            <a:off x="0" y="3213000"/>
            <a:ext cx="3405240" cy="345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3348000" y="189000"/>
            <a:ext cx="2595600" cy="244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4"/>
          <a:stretch/>
        </p:blipFill>
        <p:spPr>
          <a:xfrm>
            <a:off x="3635280" y="37162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5"/>
          <a:stretch/>
        </p:blipFill>
        <p:spPr>
          <a:xfrm>
            <a:off x="6443640" y="260280"/>
            <a:ext cx="1944720" cy="252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6"/>
          <a:stretch/>
        </p:blipFill>
        <p:spPr>
          <a:xfrm>
            <a:off x="6877080" y="3500280"/>
            <a:ext cx="19429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облема с наркотиками в стране – это настоящая катастроф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332000" y="1600200"/>
            <a:ext cx="6264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3814920" cy="53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ла́ха» — роман киргизского cоветского писателя Чингиза Айтматова, изданный впервые в 1986 году в журнале Новый мир. Роман рассказывает о судьбах двух людей — Авдия Каллистратова и Бостона Уркунчиева, судьбы которых связаны с образом волчицы Акбары, связующей нитью кни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932360" y="692280"/>
            <a:ext cx="4032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3516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 Н. Г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Что ест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ина?» Христос и Пилат, 1890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ст, масло. 233×171 с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ая Третьяковская галерея,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3780000" y="333360"/>
            <a:ext cx="49068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тина написана на известный евангельский сюжет. Он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ажает эпизод суда прокуратора Иудеи Понтия Пилата над Иисусом Христом, обвинявшемся в покушении на захват власти в Иудее. Название картины («Что есть истина?») представляет собой цитату из Евангелия от Иоанна (Ин. 18:38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Пилат опять вошел в преторию, и призвал Иисуса, и сказал Ему: Ты Царь Иудейский? […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исус отвечал: Царство Мое не от мира сего; если бы от мира сего было Царство Мое, то служители Мои подвизались бы за Меня, чтобы Я не был предан Иудеям; но ныне Царство Мое не отсю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лат сказал Ему: итак Ты Царь? Иисус отвечал: ты говоришь, что Я Царь. Я на то родился и на то пришел в мир, чтобы свидетельствовать о истине; всякий, кто от истины, слушает гласа Мо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лат сказал Ему: что есть истина? И, сказав это, опять вышел к Иудеям и сказал им: я никакой вины не нахожу в Н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вангелие от Иоанна. 18: 33, 36—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46716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ы добра и зла, свободы и несвободы человеческого духа, 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же отношение его с обществом актуальны для любой эпохи и даже связаны друг с другом неразрывно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тью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4716360" y="692280"/>
            <a:ext cx="397044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27280" y="404640"/>
            <a:ext cx="425916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нги́з Тореку́лович Айтма́тов (кирг. Чыңгыз Төрөкулович Айтматов; 12 декабря 1928, село Шекер, Киргизия — 10 июня 2008, Нюрнберг, Германия) — киргизский писатель, писавший на киргизском и русском языках, народный писатель Киргизской СССР (1974), Герой Социалистического Труда (1978).[1] Член КПСС с 1959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457200" y="836640"/>
            <a:ext cx="389880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шк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4427640" y="1628640"/>
            <a:ext cx="4038480" cy="446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37450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3683160" cy="583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лас - это малень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вестный город, расположенный в долине с одноименным названием. Таласская долина отрезана цепью гор от всех остальных областей Кыргызстана, и самый удобный маршрут проходит через Казахстан, но при этом необходимо получить визу. Однако возможно достичь долины через перевал Тео -Ашуу, свернув на север с главной дороги Бишкек- Ош, после пересечения Суусамырской долины. Талас известен как Земля Манаса, считается, что именно здес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аласе находиться место рождения легендарного геро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284720" y="549360"/>
            <a:ext cx="440208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4868640"/>
            <a:ext cx="29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стрече с читателями в Санкт-Петербурге (2007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3851280" y="404640"/>
            <a:ext cx="483552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Геро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первой и второй час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труха — один из двух «подельников» Авдия, участвовавших всборе наркот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нька — второй, и самый молодой из наркоперевозч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ишан — главарь банды, прототип «антихриста» у Ч. Айтмат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р-Кандалов —руководитель охоты на сайгаков,главарь людей, которые распнут Авд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га Фёдоровна — единственная любовь Авд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Arial"/>
              </a:rPr>
              <a:t>Третьей ча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стон Уркунчиев — передовик производства, рассматриваемый многими соседями как кулак,считавшийся  «человеком принципиальным, неподкупны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чкорбаев — партор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1:39:16Z</dcterms:created>
  <dc:creator>Customer</dc:creator>
  <dc:description/>
  <dc:language>en-US</dc:language>
  <cp:lastModifiedBy>123</cp:lastModifiedBy>
  <dcterms:modified xsi:type="dcterms:W3CDTF">2014-12-01T23:46:43Z</dcterms:modified>
  <cp:revision>5</cp:revision>
  <dc:subject/>
  <dc:title>«Пла́ха» — роман киргизского cоветского писателя Чингиза Айтматова, изданный впервые в 1986 году в журнале Новый мир. Роман рассказывает о судьбах двух людей — Авдия Каллистратова и Бостона Уркунчиева, судьбы которых связаны с образом волчицы Акбары, связующей нитью книги.</dc:title>
</cp:coreProperties>
</file>