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B52-B10F-490A-8BF5-A872E1D1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C73-EF31-4817-AF3B-25062432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00E-9B2E-4617-922E-F359DB39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FCD-D6D2-4155-A6A2-460B3875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5507-C225-472A-8A48-1A318C6A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6E35-B76E-4E33-A53E-5D4D1470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D9C0-3ED4-47C7-8F51-B7357198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CA65-9320-41F7-9050-164844A4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4514-AFB8-476B-A49D-67A8221E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89C9-DE89-446A-B106-6CADE01C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2DDA-C967-4A1D-A89B-A8AEF5A5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6ED-710E-47E7-A6B6-3868D2CC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5AB8-339A-4953-AB00-5910B685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6D0B-A882-4EED-91CE-3AC8DAB0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B40C-2AAF-4D7B-9395-2EE65092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DC5C-5E89-4492-B523-3BBC3286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B90C-C936-4A21-9E4F-F8258F3E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5F59C-79BA-48F9-A514-0D635510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F2154-F66A-4A87-AA68-9599CCB5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56416-2298-4D55-90C7-00473E66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2353F-B922-47F8-BCB8-88F56C35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C3C27-0152-45DF-B17F-B9C5AD32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A00-46A9-4738-8C63-C68029EB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CF5F3-C943-4C0F-8577-2F92B98A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3A846-CE70-443C-8F12-DD75E50B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ECA4F-8DD4-4569-A3EE-A7977610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A553B-7E6C-4F70-9D5E-94CB5622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A9C2B-782E-490B-9A28-4F293B01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EA180-C861-40E8-85E3-CCFA7AFD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86B8C-1F59-4E00-8275-D899E8FD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EDC-C99F-4CF5-93D9-48909BA2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FFE-F322-410A-A595-A20728C5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662-B8CB-44D2-A1EF-48A0DB46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F0D-EE99-4F61-AE8A-F1522CE8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EDD-2C82-4A7E-B83E-E546FE45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069-6F68-4D8C-80FB-45586238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06EF-867A-4026-B29D-8982E284F7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F301-4080-45C2-B2C0-F414903102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CCDC-EBFF-4160-BF2F-2DB279A14E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305920" cy="2746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Прогулка по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Санкт- Петербургу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6328080" y="5638680"/>
            <a:ext cx="168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иненко О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22201029"/>
          <p:cNvPicPr/>
          <p:nvPr/>
        </p:nvPicPr>
        <p:blipFill>
          <a:blip r:embed="rId1"/>
          <a:stretch/>
        </p:blipFill>
        <p:spPr>
          <a:xfrm>
            <a:off x="228600" y="166680"/>
            <a:ext cx="86104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0_66bc9_aed90d11_XL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DSC08208"/>
          <p:cNvPicPr/>
          <p:nvPr/>
        </p:nvPicPr>
        <p:blipFill>
          <a:blip r:embed="rId1"/>
          <a:stretch/>
        </p:blipFill>
        <p:spPr>
          <a:xfrm>
            <a:off x="609480" y="343080"/>
            <a:ext cx="8077320" cy="60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o_Васильевский остров"/>
          <p:cNvPicPr/>
          <p:nvPr/>
        </p:nvPicPr>
        <p:blipFill>
          <a:blip r:embed="rId1"/>
          <a:stretch/>
        </p:blipFill>
        <p:spPr>
          <a:xfrm>
            <a:off x="380880" y="685800"/>
            <a:ext cx="822960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0b288a58d838e206e858864c90f16634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64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60302878_zo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18233922_Pantserkruiser_Aurora"/>
          <p:cNvPicPr/>
          <p:nvPr/>
        </p:nvPicPr>
        <p:blipFill>
          <a:blip r:embed="rId1"/>
          <a:stretch/>
        </p:blipFill>
        <p:spPr>
          <a:xfrm>
            <a:off x="457200" y="473040"/>
            <a:ext cx="84582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sankt-peterburg-letnii-sad-alleya-0000952723-preview"/>
          <p:cNvPicPr/>
          <p:nvPr/>
        </p:nvPicPr>
        <p:blipFill>
          <a:blip r:embed="rId1"/>
          <a:srcRect l="0" t="0" r="0" b="12816"/>
          <a:stretch/>
        </p:blipFill>
        <p:spPr>
          <a:xfrm>
            <a:off x="304920" y="457200"/>
            <a:ext cx="85341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big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0_bfecd_ccda7852_XL"/>
          <p:cNvPicPr/>
          <p:nvPr/>
        </p:nvPicPr>
        <p:blipFill>
          <a:blip r:embed="rId1"/>
          <a:stretch/>
        </p:blipFill>
        <p:spPr>
          <a:xfrm>
            <a:off x="127080" y="101520"/>
            <a:ext cx="888984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gerb_peterburg"/>
          <p:cNvPicPr/>
          <p:nvPr/>
        </p:nvPicPr>
        <p:blipFill>
          <a:blip r:embed="rId1"/>
          <a:srcRect l="0" t="9097" r="0" b="0"/>
          <a:stretch/>
        </p:blipFill>
        <p:spPr>
          <a:xfrm>
            <a:off x="1600200" y="0"/>
            <a:ext cx="57150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06:14:46Z</dcterms:created>
  <dc:creator>Оленька</dc:creator>
  <dc:description/>
  <dc:language>en-US</dc:language>
  <cp:lastModifiedBy>Рома</cp:lastModifiedBy>
  <dcterms:modified xsi:type="dcterms:W3CDTF">2013-10-06T12:20:0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