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ABEB-BEE1-4317-9ADF-E099CD2A00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F07B-6091-40B1-85A7-C2978A46A0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33CA-03E2-472C-AF01-3E5C8958B4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8712-C646-4174-8B77-996B48D12C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8411-B772-4522-A6F7-DC697E352F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1BD2-2F6C-42A4-B890-B440388D44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1D9E-B797-41B8-BECF-A39810D52A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C6DD-AA77-4A09-81E7-4DE4D6B9D8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38E0-EEE7-442A-8E9F-F6F1A041BA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7DBC-FED7-4D62-A7CE-59FCFE3FCB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FAC7-A905-4CF5-9127-71407D8D37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E136-2A98-4664-8F0D-485C1992B8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B57-B3E6-419B-8424-5ECE1714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69F-A453-4833-83FF-2C5300F7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9EDB-3217-4930-BBCA-CD815C17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2FF8-9B50-473F-A916-03E5CA76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BF7E-D601-482F-9C8A-CE117B2E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1E7D-CDD4-44E9-84B9-57CDC2EC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1D76-7963-4D4F-983A-CAC144FB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FD5-7E56-4A50-9E6C-E59841DC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07C-6885-4535-A522-AF72E1F4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18D-602B-4C90-A9A1-976B116A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F7A-A9B0-4112-8A46-3F0016D8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D514-20A7-4302-9793-0954578B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544E-C7C4-4CBB-BB5B-652A47E3BD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F:\грибоедов\autor_img.jpg"/>
          <p:cNvPicPr/>
          <p:nvPr/>
        </p:nvPicPr>
        <p:blipFill>
          <a:blip r:embed="rId1"/>
          <a:stretch/>
        </p:blipFill>
        <p:spPr>
          <a:xfrm>
            <a:off x="171360" y="182520"/>
            <a:ext cx="2316240" cy="330984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1" descr=""/>
          <p:cNvPicPr/>
          <p:nvPr/>
        </p:nvPicPr>
        <p:blipFill>
          <a:blip r:embed="rId2"/>
          <a:stretch/>
        </p:blipFill>
        <p:spPr>
          <a:xfrm>
            <a:off x="1616040" y="1060560"/>
            <a:ext cx="6997680" cy="44989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http://www.ocito.kaluga.ru/res/lessons/images/liter/2/urok2/slide9.jpg"/>
          <p:cNvPicPr/>
          <p:nvPr/>
        </p:nvPicPr>
        <p:blipFill>
          <a:blip r:embed="rId1"/>
          <a:srcRect l="19170" t="17946" r="18529" b="24363"/>
          <a:stretch/>
        </p:blipFill>
        <p:spPr>
          <a:xfrm>
            <a:off x="1417680" y="1463760"/>
            <a:ext cx="6451560" cy="43225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463680" y="939960"/>
            <a:ext cx="83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 и п л о м а т и ч е с к а я    с л у ж б 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1214280" y="5786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лючение Туркманчайского ми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удожник В. Маш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http://www.ocito.kaluga.ru/res/lessons/images/liter/2/urok2/slide11.jpg"/>
          <p:cNvPicPr/>
          <p:nvPr/>
        </p:nvPicPr>
        <p:blipFill>
          <a:blip r:embed="rId1"/>
          <a:srcRect l="6473" t="11537" r="60084" b="23079"/>
          <a:stretch/>
        </p:blipFill>
        <p:spPr>
          <a:xfrm>
            <a:off x="928800" y="843120"/>
            <a:ext cx="2928960" cy="4857480"/>
          </a:xfrm>
          <a:prstGeom prst="rect">
            <a:avLst/>
          </a:prstGeom>
          <a:ln w="28440">
            <a:solidFill>
              <a:srgbClr val="984807"/>
            </a:solidFill>
            <a:miter/>
          </a:ln>
        </p:spPr>
      </p:pic>
      <p:sp>
        <p:nvSpPr>
          <p:cNvPr id="83" name="TextBox 3"/>
          <p:cNvSpPr/>
          <p:nvPr/>
        </p:nvSpPr>
        <p:spPr>
          <a:xfrm>
            <a:off x="3857760" y="1285920"/>
            <a:ext cx="464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сценный друг, теперь я истинно чувствую, что значит любить … Потерпим еще немного, Ангел мой,  и будем молиться Богу, чтобы нам после того никогда более не разлуча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С. Грибое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9"/>
          <p:cNvSpPr/>
          <p:nvPr/>
        </p:nvSpPr>
        <p:spPr>
          <a:xfrm flipH="1">
            <a:off x="500040" y="1571760"/>
            <a:ext cx="814392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екц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о жизни и творчеств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А. С. Грибоедов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1795/94/90 – 182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066920" y="1052280"/>
            <a:ext cx="403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Его меланхолический характер, его озлобленный ум, его добродушие, самые слабости и пороки, неизменные спутники человечества, – все в нем было необыкновенно привлекательн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С. Пушк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C:\Documents and Settings\user\Мои документы\Мои рисунки\портреты писателей\грибоедов\1.jpg"/>
          <p:cNvPicPr/>
          <p:nvPr/>
        </p:nvPicPr>
        <p:blipFill>
          <a:blip r:embed="rId1"/>
          <a:stretch/>
        </p:blipFill>
        <p:spPr>
          <a:xfrm>
            <a:off x="695160" y="884160"/>
            <a:ext cx="3492720" cy="384012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990720" y="4581360"/>
            <a:ext cx="37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рамской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ртрет Грибоедо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5" descr="http://www.ocito.kaluga.ru/res/lessons/images/liter/2/urok2/slide6.jpg"/>
          <p:cNvPicPr/>
          <p:nvPr/>
        </p:nvPicPr>
        <p:blipFill>
          <a:blip r:embed="rId1"/>
          <a:srcRect l="11660" t="20156" r="11660" b="27568"/>
          <a:stretch/>
        </p:blipFill>
        <p:spPr>
          <a:xfrm>
            <a:off x="1547640" y="1916280"/>
            <a:ext cx="5662800" cy="378756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1714680" y="105264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адьба в Хмели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lus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4" descr="http://www.ocito.kaluga.ru/res/lessons/images/liter/2/urok2/slide5.jpg"/>
          <p:cNvPicPr/>
          <p:nvPr/>
        </p:nvPicPr>
        <p:blipFill>
          <a:blip r:embed="rId1"/>
          <a:srcRect l="9878" t="11537" r="61985" b="37181"/>
          <a:stretch/>
        </p:blipFill>
        <p:spPr>
          <a:xfrm>
            <a:off x="1143000" y="1125360"/>
            <a:ext cx="3213000" cy="43196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1143000" y="59292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тасья Федо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4929120" y="592920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ный А. С. Грибое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Хмели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4500720" y="2473200"/>
            <a:ext cx="35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ские годы А. С. Грибоед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http://www.ocito.kaluga.ru/res/lessons/images/liter/2/urok2/slide7.jpg"/>
          <p:cNvPicPr/>
          <p:nvPr/>
        </p:nvPicPr>
        <p:blipFill>
          <a:blip r:embed="rId1"/>
          <a:srcRect l="9267" t="14746" r="9267" b="24359"/>
          <a:stretch/>
        </p:blipFill>
        <p:spPr>
          <a:xfrm>
            <a:off x="1285920" y="1071720"/>
            <a:ext cx="6643800" cy="4429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1214280" y="5572080"/>
            <a:ext cx="692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сковский университ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Литография неизвестного художни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http://www.ocito.kaluga.ru/res/lessons/images/liter/2/urok2/slide8.jpg"/>
          <p:cNvPicPr/>
          <p:nvPr/>
        </p:nvPicPr>
        <p:blipFill>
          <a:blip r:embed="rId1"/>
          <a:srcRect l="7187" t="11519" r="59267" b="29490"/>
          <a:stretch/>
        </p:blipFill>
        <p:spPr>
          <a:xfrm>
            <a:off x="1222200" y="1700280"/>
            <a:ext cx="2492640" cy="33987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http://www.ocito.kaluga.ru/res/lessons/images/liter/2/urok2/slide8.jpg"/>
          <p:cNvPicPr/>
          <p:nvPr/>
        </p:nvPicPr>
        <p:blipFill>
          <a:blip r:embed="rId2"/>
          <a:srcRect l="45532" t="25644" r="8946" b="27161"/>
          <a:stretch/>
        </p:blipFill>
        <p:spPr>
          <a:xfrm>
            <a:off x="4500720" y="1700280"/>
            <a:ext cx="3311280" cy="309708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928800" y="52243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. С. Бегич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4429080" y="52243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 Н. С. Бегичева в Моск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428840" y="111600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л у ж б а   О т е ч е с т в 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1146240" y="98100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 у э л 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C:\Documents and Settings\user\Мои документы\Мои рисунки\портреты писателей\якубович.jpg"/>
          <p:cNvPicPr/>
          <p:nvPr/>
        </p:nvPicPr>
        <p:blipFill>
          <a:blip r:embed="rId1"/>
          <a:stretch/>
        </p:blipFill>
        <p:spPr>
          <a:xfrm>
            <a:off x="1163520" y="1689120"/>
            <a:ext cx="3122640" cy="3432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user\Мои документы\Мои рисунки\портреты писателей\грибоедов\1.jpg"/>
          <p:cNvPicPr/>
          <p:nvPr/>
        </p:nvPicPr>
        <p:blipFill>
          <a:blip r:embed="rId2"/>
          <a:stretch/>
        </p:blipFill>
        <p:spPr>
          <a:xfrm>
            <a:off x="4773600" y="1579680"/>
            <a:ext cx="3108240" cy="3462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1403280" y="51814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 И. Якубови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5041800" y="51814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 С. Грибое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Documents and Settings\user\Мои документы\Мои рисунки\портреты писателей\Рылеев.jpg"/>
          <p:cNvPicPr/>
          <p:nvPr/>
        </p:nvPicPr>
        <p:blipFill>
          <a:blip r:embed="rId1"/>
          <a:stretch/>
        </p:blipFill>
        <p:spPr>
          <a:xfrm>
            <a:off x="3035160" y="615960"/>
            <a:ext cx="2932200" cy="39067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"/>
          <p:cNvSpPr/>
          <p:nvPr/>
        </p:nvSpPr>
        <p:spPr>
          <a:xfrm>
            <a:off x="2715120" y="957240"/>
            <a:ext cx="35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ибоедов и декабрис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C:\Documents and Settings\user\Мои документы\Мои рисунки\портреты писателей\Трубецкой.jpg"/>
          <p:cNvPicPr/>
          <p:nvPr/>
        </p:nvPicPr>
        <p:blipFill>
          <a:blip r:embed="rId2"/>
          <a:stretch/>
        </p:blipFill>
        <p:spPr>
          <a:xfrm>
            <a:off x="1547640" y="2637000"/>
            <a:ext cx="2143440" cy="2695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5" name="Picture 5" descr="C:\Documents and Settings\user\Мои документы\Мои рисунки\портреты писателей\Оболенский.jpg"/>
          <p:cNvPicPr/>
          <p:nvPr/>
        </p:nvPicPr>
        <p:blipFill>
          <a:blip r:embed="rId3"/>
          <a:stretch/>
        </p:blipFill>
        <p:spPr>
          <a:xfrm>
            <a:off x="5867280" y="2717640"/>
            <a:ext cx="2214720" cy="2643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6" name="TextBox 5"/>
          <p:cNvSpPr/>
          <p:nvPr/>
        </p:nvSpPr>
        <p:spPr>
          <a:xfrm>
            <a:off x="3886200" y="43052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. Ф. Рыле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5902200" y="5418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. П. Оболен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826920" y="53611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. П. Трубец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3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6:04:30Z</dcterms:created>
  <dc:creator>Панина</dc:creator>
  <dc:description/>
  <dc:language>en-US</dc:language>
  <cp:lastModifiedBy>123</cp:lastModifiedBy>
  <dcterms:modified xsi:type="dcterms:W3CDTF">2015-03-11T11:46:14Z</dcterms:modified>
  <cp:revision>96</cp:revision>
  <dc:subject/>
  <dc:title>Презентация PowerPoint</dc:title>
</cp:coreProperties>
</file>