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586-6BE9-48F4-A4A7-C1417A67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42920" y="3843720"/>
            <a:ext cx="7912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10E-7984-4B4A-856F-58083C55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4292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9724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81F-B383-4C9D-9A2E-550912B9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18080" y="134100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3240" y="134100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42920" y="384372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18080" y="384372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93240" y="384372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EAA-75C9-443E-85B3-903B976B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9EC2-DB9C-4839-88D4-CECE265E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E5E1-00E8-401B-B0D5-A2E74DB2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FD83-9DE2-4345-A93D-0F63D99F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F18A-2576-4E96-9D23-583EB111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4D08-91F3-4B0D-8905-36C072F7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42560" y="-360"/>
            <a:ext cx="81010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1A3C-019D-4184-A98B-989F6263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292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37C1-08BD-4EC1-8079-15878650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DF4-081F-4B91-B3DB-38BEB758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9724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CFAE-A9EF-4153-9278-84EFA6CD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920" y="3843720"/>
            <a:ext cx="7912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27E4-8072-47CB-A7C0-BF0DAE79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42920" y="3843720"/>
            <a:ext cx="7912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4357-A450-45BE-8B42-E9323CE7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4292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9724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2FAB-9086-414C-AC5C-ED3BE86F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18080" y="134100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93240" y="134100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42920" y="384372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18080" y="384372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93240" y="384372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5B8E-C584-4B2D-9FF8-E6D351C5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DE20-69C5-4331-95F4-D9831212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4012-7819-4499-AD80-E18F780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8929-07DA-4F37-83BD-EFECBEEC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BAA0-5F60-4DD8-B221-F24F53C6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8842-8AE1-4753-9139-C3FFE845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E7C-FB83-4978-B652-96A8A15C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42560" y="-360"/>
            <a:ext cx="81010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C6D8-F800-47AE-88CA-FF9A3376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4292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7A6C-1BBD-4B4C-871E-95FB6F6B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9724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D0F8-6B0C-4C2B-93F7-DE2C45E8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42920" y="3843720"/>
            <a:ext cx="7912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1F79-3DC0-4087-BC18-E06187A2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42920" y="3843720"/>
            <a:ext cx="7912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C9E7-35F9-4648-B929-9251362E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4292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9724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F796-CE06-4BF3-8317-A1ADC7F2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718080" y="134100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93240" y="134100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42920" y="384372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718080" y="384372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93240" y="3843720"/>
            <a:ext cx="2547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5BDE-ACD1-41CD-BE70-21ACB6B3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68B-CCDF-4EE4-B5A7-A0F391B3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D25-8063-4BCA-A780-0BBD54B6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560" y="-360"/>
            <a:ext cx="810108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4A7-91BD-4703-84F8-DCFCB90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4292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4E7-5762-45F5-8D7D-D395775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97240" y="384372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280-C1BE-4446-8C7F-422B0D89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7240" y="1341000"/>
            <a:ext cx="3861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920" y="3843720"/>
            <a:ext cx="7912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7FF-6427-4B93-B446-F9BCDE8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126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1264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83664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FD93-0139-4B9F-B864-8CA389FD7FD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89CE-29E8-495A-AE5E-413A6006C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45 Helvetica Light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45 Helvetica Light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45 Helvetica Light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45 Helvetica Light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45 Helvetica Light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45 Helvetica Light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45 Helvetica Light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3EB8-ED28-4EC6-8868-303C9506FCA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mail.ru/" TargetMode="Externa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980640"/>
            <a:ext cx="665172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Работа в компьютерной сети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rne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8" descr=""/>
          <p:cNvPicPr/>
          <p:nvPr/>
        </p:nvPicPr>
        <p:blipFill>
          <a:blip r:embed="rId1"/>
          <a:srcRect l="0" t="0" r="0" b="67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6"/>
          <p:cNvSpPr/>
          <p:nvPr/>
        </p:nvSpPr>
        <p:spPr>
          <a:xfrm>
            <a:off x="1908000" y="1413000"/>
            <a:ext cx="4104000" cy="1368360"/>
          </a:xfrm>
          <a:prstGeom prst="wedgeRoundRectCallout">
            <a:avLst>
              <a:gd name="adj1" fmla="val -39939"/>
              <a:gd name="adj2" fmla="val -134800"/>
              <a:gd name="adj3" fmla="val 16667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яющие меню</a:t>
            </a:r>
            <a:endParaRPr b="1" lang="en-US" sz="32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rcRect l="0" t="0" r="0" b="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908000" y="1413000"/>
            <a:ext cx="4104000" cy="1368360"/>
          </a:xfrm>
          <a:prstGeom prst="wedgeRoundRectCallout">
            <a:avLst>
              <a:gd name="adj1" fmla="val -44157"/>
              <a:gd name="adj2" fmla="val -109629"/>
              <a:gd name="adj3" fmla="val 16667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45 Helvetica Light"/>
              </a:rPr>
              <a:t>кнопки </a:t>
            </a:r>
            <a:endParaRPr b="1" lang="en-US" sz="3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45 Helvetica Light"/>
              </a:rPr>
              <a:t>навигации</a:t>
            </a:r>
            <a:r>
              <a:rPr b="1" lang="ru-RU" sz="22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rcRect l="0" t="0" r="0" b="57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395280" y="3068640"/>
            <a:ext cx="4176720" cy="1800360"/>
          </a:xfrm>
          <a:prstGeom prst="wedgeRoundRectCallout">
            <a:avLst>
              <a:gd name="adj1" fmla="val -34722"/>
              <a:gd name="adj2" fmla="val -84305"/>
              <a:gd name="adj3" fmla="val 16667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45 Helvetica Light"/>
              </a:rPr>
              <a:t>Папки для работы с электронной почтой</a:t>
            </a:r>
            <a:r>
              <a:rPr b="1" lang="ru-RU" sz="34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rcRect l="0" t="0" r="0" b="57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/>
          <p:cNvSpPr/>
          <p:nvPr/>
        </p:nvSpPr>
        <p:spPr>
          <a:xfrm>
            <a:off x="395280" y="3068640"/>
            <a:ext cx="4176720" cy="1800360"/>
          </a:xfrm>
          <a:prstGeom prst="wedgeRoundRectCallout">
            <a:avLst>
              <a:gd name="adj1" fmla="val -37837"/>
              <a:gd name="adj2" fmla="val 84212"/>
              <a:gd name="adj3" fmla="val 16667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45 Helvetica Light"/>
              </a:rPr>
              <a:t>Адресная книга</a:t>
            </a:r>
            <a:endParaRPr b="1" lang="en-US" sz="3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45 Helvetica Light"/>
              </a:rPr>
              <a:t>(аналог записной книги)</a:t>
            </a:r>
            <a:r>
              <a:rPr b="1" lang="ru-RU" sz="34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стройка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utlook Expr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9120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ервом запуске 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ook Expres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ускается мастер подключ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ервом шаге необходимо ввести ФИ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24826" t="24715" r="26490" b="25807"/>
          <a:stretch/>
        </p:blipFill>
        <p:spPr>
          <a:xfrm>
            <a:off x="1403280" y="2492280"/>
            <a:ext cx="5545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стройка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utlook Expr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9120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тором шаге необходимо ввести адрес электронной поч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rcRect l="24733" t="24715" r="26343" b="25807"/>
          <a:stretch/>
        </p:blipFill>
        <p:spPr>
          <a:xfrm>
            <a:off x="1403280" y="1989000"/>
            <a:ext cx="6264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стройка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utlook Expr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9120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третьем шаге доменные имена серверов входящих и исходящих сообщений (эту информацию следует получить у провайдера, администратора сети, или на сайте бесплатной почтовой службы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rcRect l="24811" t="24715" r="26446" b="25753"/>
          <a:stretch/>
        </p:blipFill>
        <p:spPr>
          <a:xfrm>
            <a:off x="1908000" y="2708280"/>
            <a:ext cx="5328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стройка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utlook Expr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rcRect l="25276" t="25546" r="26243" b="24852"/>
          <a:stretch/>
        </p:blipFill>
        <p:spPr>
          <a:xfrm>
            <a:off x="1332000" y="1413000"/>
            <a:ext cx="68403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стройка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utlook Expr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34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ook Expres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работать с несколькими адресами электронной почты, для того чтобы настроить второй и последующие адрес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ные запи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ад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ави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труктура папок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274760"/>
            <a:ext cx="374328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пки создаются по умолчанию для сортирования поч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4884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ящ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4884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ящ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4884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правлен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4884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ален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4884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нов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rcRect l="0" t="0" r="81427" b="58125"/>
          <a:stretch/>
        </p:blipFill>
        <p:spPr>
          <a:xfrm>
            <a:off x="4932360" y="1484280"/>
            <a:ext cx="2854440" cy="4824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84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абота с почтой н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l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инципы работы с электронной почто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бзор бесплатных почтовых серверов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ткрытие почтового ящика н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l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астройка почтового клиент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look Exp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труктура папок почтового ящик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тправление и получение писе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тправление и получение писем с вложениям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аботы с адресной книго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Фильтрация поч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труктура папок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38941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рав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а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нов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716360" y="1628640"/>
            <a:ext cx="3672000" cy="439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письма пришедшие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адрес электронной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ты складываются в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у папку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труктура папок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38941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рав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а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нов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716360" y="1628640"/>
            <a:ext cx="3672000" cy="439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сьма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готовленные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отправки,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правляются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матически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оединении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Интернетом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труктура папок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38941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прав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а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нов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716360" y="1628640"/>
            <a:ext cx="3672000" cy="439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назначена для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ранения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пий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правленных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сем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труктура папок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38941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рав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да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нов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716360" y="1628640"/>
            <a:ext cx="3672000" cy="439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назначена для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ранения удаленных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сем (аналог мусорной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зины)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труктура папок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38941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ящ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рав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ал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рнов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716360" y="1628640"/>
            <a:ext cx="3672000" cy="439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45 Helvetica Light"/>
              </a:rPr>
              <a:t>Папка для хранения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45 Helvetica Light"/>
              </a:rPr>
              <a:t>писем, находящихся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45 Helvetica Light"/>
              </a:rPr>
              <a:t>в процессе разработки</a:t>
            </a:r>
            <a:r>
              <a:rPr b="1" lang="ru-RU" sz="22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Чтение сообщений электронной поч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532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того как программа Outlook Express загрузит сообщ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жать кнопк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авить поч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панели инструментов сообщ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осмотра сообщения в области просмотра щелкните его в списке сообщ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осмотра сообщения в отдельном окне дважды щелкните его в списке сообщ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111_2"/>
          <p:cNvPicPr/>
          <p:nvPr/>
        </p:nvPicPr>
        <p:blipFill>
          <a:blip r:embed="rId1"/>
          <a:stretch/>
        </p:blipFill>
        <p:spPr>
          <a:xfrm>
            <a:off x="6033960" y="1893960"/>
            <a:ext cx="2500560" cy="3438360"/>
          </a:xfrm>
          <a:prstGeom prst="rect">
            <a:avLst/>
          </a:prstGeom>
          <a:ln w="38160">
            <a:solidFill>
              <a:srgbClr val="000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Чтение сообщений электронной поч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rcRect l="4315" t="20987" r="6043" b="15839"/>
          <a:stretch/>
        </p:blipFill>
        <p:spPr>
          <a:xfrm>
            <a:off x="395280" y="1413000"/>
            <a:ext cx="835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даление почтового сообщения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ерите сообщение в списке сообщ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жмите кнопк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дал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панели инструмент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порядочивание поч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532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добавить папку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п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пол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пап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казать имя папки и ее располож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rcRect l="78689" t="13324" r="8612" b="64695"/>
          <a:stretch/>
        </p:blipFill>
        <p:spPr>
          <a:xfrm>
            <a:off x="6227640" y="1700280"/>
            <a:ext cx="2401920" cy="3510000"/>
          </a:xfrm>
          <a:prstGeom prst="rect">
            <a:avLst/>
          </a:prstGeom>
          <a:ln w="38160">
            <a:solidFill>
              <a:srgbClr val="000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оздание и отправка сообщений электронной почты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58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отправить сообщение по электронной почте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панели инструментов нажать кнопк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здать сообщ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пол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м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/ил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п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ведите адреса электронной почты всех получателей, разделяя их запятыми или точками с запятой 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;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пол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указать тему сообщения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вести текст сообщения и нажмите кнопк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тправи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78039" t="13304" r="8756" b="64503"/>
          <a:stretch/>
        </p:blipFill>
        <p:spPr>
          <a:xfrm>
            <a:off x="6659640" y="1844640"/>
            <a:ext cx="2160360" cy="3240000"/>
          </a:xfrm>
          <a:prstGeom prst="rect">
            <a:avLst/>
          </a:prstGeom>
          <a:ln w="38160">
            <a:solidFill>
              <a:srgbClr val="000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нципы работы с электронной почто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-mai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Electronic mail) - электронная почта - электронный аналог обычной почты, второй по популяр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ервис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работе с электронной почто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умент представлен в электронном ви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е с текстом можно отправить файлы, фотографии, музыку, видео и т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правка и доставка происходит за короткий промежуток по времени (от 1 мин до 14 час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оздание и отправка сообщений электронной почты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rcRect l="78039" t="13304" r="8756" b="64503"/>
          <a:stretch/>
        </p:blipFill>
        <p:spPr>
          <a:xfrm>
            <a:off x="6732720" y="1557360"/>
            <a:ext cx="2127240" cy="3024000"/>
          </a:xfrm>
          <a:prstGeom prst="rect">
            <a:avLst/>
          </a:prstGeom>
          <a:ln w="38160">
            <a:solidFill>
              <a:srgbClr val="000060"/>
            </a:solidFill>
            <a:miter/>
          </a:ln>
        </p:spPr>
      </p:pic>
      <p:sp>
        <p:nvSpPr>
          <p:cNvPr id="211" name="Text Box 5"/>
          <p:cNvSpPr/>
          <p:nvPr/>
        </p:nvSpPr>
        <p:spPr>
          <a:xfrm>
            <a:off x="250920" y="1413000"/>
            <a:ext cx="61927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ить набранный текст письма на ошибки: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писание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оздание и отправка сообщений электронной почты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rcRect l="78039" t="13304" r="8756" b="64503"/>
          <a:stretch/>
        </p:blipFill>
        <p:spPr>
          <a:xfrm>
            <a:off x="6732720" y="1557360"/>
            <a:ext cx="2127240" cy="3024000"/>
          </a:xfrm>
          <a:prstGeom prst="rect">
            <a:avLst/>
          </a:prstGeom>
          <a:ln w="38160">
            <a:solidFill>
              <a:srgbClr val="000060"/>
            </a:solidFill>
            <a:miter/>
          </a:ln>
        </p:spPr>
      </p:pic>
      <p:sp>
        <p:nvSpPr>
          <p:cNvPr id="214" name="Text Box 4"/>
          <p:cNvSpPr/>
          <p:nvPr/>
        </p:nvSpPr>
        <p:spPr>
          <a:xfrm>
            <a:off x="250920" y="1413000"/>
            <a:ext cx="6192720" cy="47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ройка кодировки для отправляемых писем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адка «Отправка сообщений»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нда "Выбор языка«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 выбрать кодировку для отправляемых писем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оссии принято отправлять и получать письма в KOI-8R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оздание и отправка сообщений электронной почты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rcRect l="0" t="0" r="0" b="5300"/>
          <a:stretch/>
        </p:blipFill>
        <p:spPr>
          <a:xfrm>
            <a:off x="900000" y="1268280"/>
            <a:ext cx="763272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бавление файла к письму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rcRect l="0" t="0" r="0" b="70600"/>
          <a:stretch/>
        </p:blipFill>
        <p:spPr>
          <a:xfrm>
            <a:off x="395280" y="4653000"/>
            <a:ext cx="7775640" cy="1714320"/>
          </a:xfrm>
          <a:prstGeom prst="rect">
            <a:avLst/>
          </a:prstGeom>
          <a:ln w="0">
            <a:noFill/>
          </a:ln>
        </p:spPr>
      </p:pic>
      <p:sp>
        <p:nvSpPr>
          <p:cNvPr id="219" name="Line 4"/>
          <p:cNvSpPr/>
          <p:nvPr/>
        </p:nvSpPr>
        <p:spPr>
          <a:xfrm flipV="1">
            <a:off x="3564000" y="5229000"/>
            <a:ext cx="1008000" cy="936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971640" y="1484280"/>
            <a:ext cx="7616880" cy="24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н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бр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ожение фай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затем найти файл, который требуется вложить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ть файл и нажать кнопк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ож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вложенного файла появится в поле Присоединить, находящемся в заголовке сообщения.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Адресная книг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68360" y="1484280"/>
            <a:ext cx="812016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ная книга обеспечивает хранение контактных сведений.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рытие адресной книги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жать кнопк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ре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панели инструментов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ть команд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ресная кни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мен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ткрытия адресной книги из окна сообщения щелкнуть значо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пия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бавление контактов в адресную кни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68360" y="1484280"/>
            <a:ext cx="8120160" cy="24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добавления в адресную книгу имени непосредственно из почтового сообщения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смотре сообщения или составлении ответа на него щелкнуть правой кнопкой имя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ть команд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бавить в адресную кни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бавление контактов в адресную кни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68360" y="1484280"/>
            <a:ext cx="835164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 мен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«Сервис»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н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ресная кни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дресной книге выбрать папку, в которую нужно добавить контакт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0" t="0" r="51046" b="51924"/>
          <a:stretch/>
        </p:blipFill>
        <p:spPr>
          <a:xfrm>
            <a:off x="1763640" y="3068640"/>
            <a:ext cx="50403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бавление контактов в адресную кни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612720" y="1268280"/>
            <a:ext cx="8352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ть команд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ь конта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24154" t="4508" r="27387" b="47416"/>
          <a:stretch/>
        </p:blipFill>
        <p:spPr>
          <a:xfrm>
            <a:off x="1692360" y="2276640"/>
            <a:ext cx="561636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бавление контактов в адресную кни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468360" y="1484280"/>
            <a:ext cx="812016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сти необходимые сведения на вклад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остаточно ввести имя и фамилию)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ведении имени, фамилии или отчества они автоматически появляются в пол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ж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азать адрес электронной почты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26416" t="7490" r="17222" b="38406"/>
          <a:stretch/>
        </p:blipFill>
        <p:spPr>
          <a:xfrm>
            <a:off x="1187280" y="1413000"/>
            <a:ext cx="69120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бавление контактов в адресную кни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rcRect l="25276" t="18027" r="21408" b="29390"/>
          <a:stretch/>
        </p:blipFill>
        <p:spPr>
          <a:xfrm>
            <a:off x="826920" y="1484280"/>
            <a:ext cx="6553440" cy="491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"/>
          <p:cNvPicPr/>
          <p:nvPr/>
        </p:nvPicPr>
        <p:blipFill>
          <a:blip r:embed="rId2"/>
          <a:srcRect l="0" t="0" r="0" b="47170"/>
          <a:stretch/>
        </p:blipFill>
        <p:spPr>
          <a:xfrm>
            <a:off x="539640" y="1700280"/>
            <a:ext cx="80280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нципы работы с электронной почто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работой с электронной почтой необходимо выбрать способ работы  с электронной корреспонденци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через веб-интерфей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постоянное подключение к Интерне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 помощью специальных почтовых программ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ook Express, Ba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подключение к Интернету и работа обеспечивается автоматически программ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равнению с предыдущим методом  время работы в Интернет занимает значительно меньше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бавление группы контактов в адресную кни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12720" y="1268280"/>
            <a:ext cx="8352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ть команд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ть групп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45 Helvetica Light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rcRect l="24154" t="4508" r="27387" b="47416"/>
          <a:stretch/>
        </p:blipFill>
        <p:spPr>
          <a:xfrm>
            <a:off x="1692360" y="2276640"/>
            <a:ext cx="561636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бавление группы контактов в адресную кни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468360" y="1557360"/>
            <a:ext cx="835164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363600" algn="just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кроется диалоговое окн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  <a:p>
            <a:pPr indent="363600" algn="just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вести название группы в пол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звание групп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graphicFrame>
        <p:nvGraphicFramePr>
          <p:cNvPr id="243" name="Object 6"/>
          <p:cNvGraphicFramePr/>
          <p:nvPr/>
        </p:nvGraphicFramePr>
        <p:xfrm>
          <a:off x="1403280" y="2565360"/>
          <a:ext cx="568980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568980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обавление группы контактов в адресную книг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468360" y="1557360"/>
            <a:ext cx="83516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363600" algn="just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обавлять в группе участников можно несколькими способами.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  <a:p>
            <a:pPr lvl="1" marL="542880" indent="173160" algn="just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бы добавить в группу человека, чей адрес занесен в адресную книгу, нажать кнопк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ыбра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выбрать имя из списка.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  <a:p>
            <a:pPr lvl="1" marL="542880" indent="173160" algn="just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добавления в группу человека без занесения в адресную книгу, введите его имя и электронный адрес в нижнюю часть диалогового окн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нажать кнопк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бави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  <a:p>
            <a:pPr lvl="1" marL="542880" indent="173160" algn="just">
              <a:lnSpc>
                <a:spcPct val="115000"/>
              </a:lnSpc>
              <a:spcBef>
                <a:spcPts val="414"/>
              </a:spcBef>
              <a:spcAft>
                <a:spcPts val="414"/>
              </a:spcAft>
              <a:buClr>
                <a:srgbClr val="3333cc"/>
              </a:buClr>
              <a:buSzPct val="55000"/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добавления человека и в группу, и в адресную книгу нажмите кнопк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здать контак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введите необходимые сведения. </a:t>
            </a: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45 Helvetica Light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826920" y="1484280"/>
          <a:ext cx="6840720" cy="49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684072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оздание подпис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адка «Подпис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нда Созд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сти текст который будет автоматически добавляться к каждому отправляемому письм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стейшем случае это может подпись вида “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кренне Ваш, Иванов А. 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ортировка входящих писе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 для сообщений..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та..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создать собственные правила автоматической сортировки писем по папка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олучении сообщения с заданными условиями (значениями пол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п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ли словами, которые должны содержаться в сообщении) над письмом будут выполняться действия, отмеченные в поле выбора действ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Защита почтового ящика от несанкционированного доступ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34164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ыбирайте слишком легкие пароли, такие как Ваше имя или год рождения. Злоумышленнику будет гораздо труднее проникнуть в ящик с паролем "gvt737e1", чем в ящик с паролем "123"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4164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чужой машине не забывайте завершать сеанс работы с поч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того на сервере бесплатной почтовой службы пользуйтесь кнопкой "Выход" или "Завершение сеанса"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4164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йте почтовые службы, поддерживающие безопасное подтверждение пароля или проверку подлинности пользовате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Защита корреспонденции от вирус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 в коем случае не открывайте полученные по почте файлы без проверки их новейшим антивиру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письмо с вложениями файлов получено из неизвестного источника, лучше всего удалить его, не чита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е использования бесплатной почтовой службы выбирайте те из них, которые поддерживают проверку входящей почты на вирусы (например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mail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Защита от спам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амом называют несанкционированную рассылку почты, предпринимаемую в рекламных или иных целя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активнее Вы используете электронную почту, тем выше вероятность, что через некоторое время Вы начнете получать по E-mail сомнительные коммерческие предложения и описания достоинств абсолютно ненужных Вам товар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Защита от спам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айтесь без необходимости не оставлять свой адрес E-mail на страницах Internet, где он может стать легкой добычей спамеров или сканирующих програм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 algn="just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йте фильтрацию входящей почты для предотвращения повторного спама. В OE создать правила фильтрации писем можно из мен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дмен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 для сообщ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унк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та..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амо создание правил выполняется в удобном и наглядном окне диалог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нципы работы с электронной почто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12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начала работы с электронной почты необходимо создать электронный почтовый ящ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созд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электронного почтового ящика по месту работы, как правило выдается администратором сети. При смене работы почтовый ящик удаляет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360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электронного почтового ящика при покупке карточки подключения к Интернету. При окончании действия карточки почтовый ящик удаля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оздание электронного почтового ящика на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il.ru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7705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анда «Регистрация в почт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>
            <a:lum bright="-6000"/>
          </a:blip>
          <a:srcRect l="0" t="0" r="0" b="8401"/>
          <a:stretch/>
        </p:blipFill>
        <p:spPr>
          <a:xfrm>
            <a:off x="755640" y="1557360"/>
            <a:ext cx="7777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rcRect l="0" t="0" r="0" b="67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"/>
          <p:cNvPicPr/>
          <p:nvPr/>
        </p:nvPicPr>
        <p:blipFill>
          <a:blip r:embed="rId1"/>
          <a:srcRect l="0" t="0" r="0" b="67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нципы работы с электронной почто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12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5604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электронного почтового ящика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есплатн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овом сервер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il.ru, newmail.ru, rambler.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тд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товый серве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рограмма, обеспечивающая работу электронной почты со стороны Inter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электронной почты состоит из двух част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5604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пользовате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5604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овый доме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имени пользователя ставится символ ‘@’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gel@mail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7:33:55Z</dcterms:created>
  <dc:creator>Мартос Ириша</dc:creator>
  <dc:description/>
  <dc:language>en-US</dc:language>
  <cp:lastModifiedBy>дима</cp:lastModifiedBy>
  <dcterms:modified xsi:type="dcterms:W3CDTF">2015-03-11T19:19:42Z</dcterms:modified>
  <cp:revision>70</cp:revision>
  <dc:subject/>
  <dc:title>PowerPoint 2003 Создание презентаций</dc:title>
</cp:coreProperties>
</file>