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3DC-0F16-4471-B847-C2C1706E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29A-E3B4-4383-B771-96E56096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710-AD1F-4A9A-997B-FD39B5DB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306-4359-4B9F-9541-A853592A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949-9A84-4409-BB24-39EC3319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CFD8-9DD0-40DB-AA64-F7313845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2303-1865-4B02-9BB0-14928A8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436-C88B-4CFF-AF1B-9E3EBE2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C287-9386-41FB-AC7C-6D70E273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C352-ED63-43EF-85FE-EEA8DB95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88F4-D3EE-40A2-ABFD-67170D0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285-378F-4988-8837-EC80C3A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CA95-69E0-41E1-8B8B-5B34AD2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0058-851D-4599-9ADC-FC24E70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0CD-65A1-4E0C-BE02-0B894A13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658D-687A-4824-B0AC-9982DCA8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8DC-B17F-4153-A518-7BE37C8D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4D5B-323B-4869-A4DD-865F246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6CEA-83D5-4A97-AB59-0407462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8ED6-D2DF-455A-8E3D-D21BD18C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B5E6-8AAA-4C77-918E-1B0E83EF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0D04-D838-4137-BDCB-8564E70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391-2EC3-481A-A7F7-BA148042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F4E8-7AE3-43D6-BA9B-2660A60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1AAE-04BE-403F-9EE3-9958D2C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2656-0359-42CC-9CEB-6199C9B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45F48-9B1D-4692-9859-6CFF47B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8111-CB78-4107-9BC9-45CC0100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238C-8C35-4AD7-A4BD-55C0D688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D483-B91D-401C-A2D3-F6B28DE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38B2-A1BC-436A-AECD-EAEE42D3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55E6-CE6A-40AD-95C5-3B91854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0B8B-A928-4A1D-B432-3345B77E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5C6-8843-43B9-9D0E-BBFAAE5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C2FD-1733-4ED0-838E-E73A447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B350-AC58-4412-AD82-44C291B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4461-E0D4-4B46-8664-CEE76B4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B561-F269-4B94-989C-B6CD794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1AD4-F8FB-47DD-9BAD-254B107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0AEB-5CE5-429D-8193-27DB922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0EC6-747D-44C6-B75D-CEF0E48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ED94-A55E-4D81-8FDF-A9201DAF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3B13-122D-42B2-8C81-06B42AFA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6C70-EA0E-4D50-B9D2-2CB750D6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011-F416-470B-9CB5-6A0256C7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27B4-44AD-49C1-B491-B528243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EDAC-88ED-45A7-8502-1EA4F472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0D09-B86D-4F7D-A33A-6F2F1D7C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CAA1-F4D6-41B6-A115-B214B0F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0DD4-FA4E-4799-80E1-F77E0CD1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2285-F863-4238-A29B-2CE3757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37A4-5984-4F2E-95CB-B6A8143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E205-7DB5-4C2B-9CAA-FEFC838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CD80-5336-47D9-81A0-6351A35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650B4-A852-40D9-9CEF-4290066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D11-B86F-4E08-9970-3533E2B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38C6-C217-43CD-90AE-260C67D4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1ACD-897A-43CF-BEB6-308F3822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634E-8CCD-4BFB-83D7-61E5CE4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C0D2-FD12-467C-AF05-9B1B6E9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382B-E376-4F4A-A882-10D34ACE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9DAF-D566-479C-9031-A41BDCC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534E-69B6-4A39-9535-A0F5F126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B0A5A-014D-4095-AE17-E8CC470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9259-F753-40FD-811C-64F9FE5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041A-2F4F-4D44-A714-CDBBA76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DEB-3208-4369-8F00-FDCCCED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B37C-752F-4DC1-8EDF-542052A4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B7A8-9A39-42B7-B032-634AED9A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711B-87E8-496D-A92D-8A4718F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688-CDA9-4EB9-A6D6-6D6DDEB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3F3-C0DA-49FB-8B54-0BA2796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49E-D1A6-448B-8773-DBFAD985C933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33E-6DDF-4E52-9C57-5197E93B9909}" type="slidenum">
              <a:rPr b="0" lang="ru-RU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0C7-40FF-48B6-853D-9206540F695A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C7C6-B77E-4A67-9381-D31FB5D6FC03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A55D-AC90-493D-B40D-DAD4E04085E6}" type="slidenum">
              <a:rPr b="0" lang="ru-RU" sz="10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C18-D4C8-42C5-84E8-C9AE28EC6720}" type="slidenum">
              <a:rPr b="0" lang="ru-RU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izhevsk.rfn.ru/rnews.html?id=7159" TargetMode="External"/><Relationship Id="rId3" Type="http://schemas.openxmlformats.org/officeDocument/2006/relationships/hyperlink" Target="http://www.pereplet.ru/pops/shirshov/shirshov.html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../../&#1040;&#1076;&#1084;&#1080;&#1085;&#1080;&#1089;&#1090;&#1088;&#1072;&#1090;&#1086;&#1088;/&#1052;&#1086;&#1080;%20&#1076;&#1086;&#1082;&#1091;&#1084;&#1077;&#1085;&#1090;&#1099;/&#1053;&#1086;&#1074;&#1072;&#1103;%20&#1087;&#1072;&#1087;&#1082;&#1072;/docs/29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../../../../../&#1040;&#1076;&#1084;&#1080;&#1085;&#1080;&#1089;&#1090;&#1088;&#1072;&#1090;&#1086;&#1088;/&#1052;&#1086;&#1080;%20&#1076;&#1086;&#1082;&#1091;&#1084;&#1077;&#1085;&#1090;&#1099;/&#1053;&#1086;&#1074;&#1072;&#1103;%20&#1087;&#1072;&#1087;&#1082;&#1072;/docs/30.htm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../../../../../&#1040;&#1076;&#1084;&#1080;&#1085;&#1080;&#1089;&#1090;&#1088;&#1072;&#1090;&#1086;&#1088;/&#1052;&#1086;&#1080;%20&#1076;&#1086;&#1082;&#1091;&#1084;&#1077;&#1085;&#1090;&#1099;/&#1053;&#1086;&#1074;&#1072;&#1103;%20&#1087;&#1072;&#1087;&#1082;&#1072;/docs/31.htm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6"/>
          <p:cNvSpPr txBox="1"/>
          <p:nvPr/>
        </p:nvSpPr>
        <p:spPr>
          <a:xfrm>
            <a:off x="571680" y="1000080"/>
            <a:ext cx="6983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Как устроен компьютер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714920" y="571500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 Кузнецова Виктор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ца 9 В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D:\Мои рисунки\АНИМАЦИЯ\baby07.gif"/>
          <p:cNvPicPr/>
          <p:nvPr/>
        </p:nvPicPr>
        <p:blipFill>
          <a:blip r:embed="rId3"/>
          <a:stretch/>
        </p:blipFill>
        <p:spPr>
          <a:xfrm>
            <a:off x="142920" y="4075200"/>
            <a:ext cx="3429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1133640" y="-42840"/>
            <a:ext cx="6876720" cy="1517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14200" y="2357280"/>
            <a:ext cx="41896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чпад (джойстик) (англ. TouchPad) представляет собой сенсорную панель, движение пальца по которой вызывает перемещение курсора. В подавляющем большинстве современных ноутбуков применяется именно тачпад, так как отсутствие в нем движущихся частей обусловливает его высокую надежность.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03" name="Содержимое 6" descr="C:\Ravnovesie\info3\image\Image148.gif"/>
          <p:cNvPicPr/>
          <p:nvPr/>
        </p:nvPicPr>
        <p:blipFill>
          <a:blip r:embed="rId2"/>
          <a:stretch/>
        </p:blipFill>
        <p:spPr>
          <a:xfrm>
            <a:off x="4572000" y="1785960"/>
            <a:ext cx="4357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3" descr=""/>
          <p:cNvPicPr/>
          <p:nvPr/>
        </p:nvPicPr>
        <p:blipFill>
          <a:blip r:embed="rId1"/>
          <a:stretch/>
        </p:blipFill>
        <p:spPr>
          <a:xfrm>
            <a:off x="566640" y="6480"/>
            <a:ext cx="7491600" cy="1646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5365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манная ручка - сканер C-Pen компании C Technologies снабжена процессором и памятью. Главная особенность этого миниатюрного сканера - быстродействующая цифровая камера, делающая 100 снимков в секунду. 6 Мбайт оперативной памяти позволяет сохранить до 2000 страниц отсканированного текста, который можно непосредственно передать в текстовый редактор персонального компьютера. С таким миниатюрным прибором - подобием электронного блокнота удобно работать в библиотеке. Он распознает тексты на 53 языках и, кроме того. Переводит тексты с английского языка на русский и обратно. Этот перевод немедленно отражается на миниатюрном жидкокристаллическом дисплее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06" name="Содержимое 6" descr="C:\Ravnovesie\info3\image\Image151.gif"/>
          <p:cNvPicPr/>
          <p:nvPr/>
        </p:nvPicPr>
        <p:blipFill>
          <a:blip r:embed="rId2"/>
          <a:stretch/>
        </p:blipFill>
        <p:spPr>
          <a:xfrm>
            <a:off x="5867280" y="2286000"/>
            <a:ext cx="30625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615960" y="-60480"/>
            <a:ext cx="7626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13840" y="1628640"/>
            <a:ext cx="5365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ое устройство - сканер. С его помощью можно сканировать, то есть последовательно считывать, переводить в цифровую форму и вводить в компьютер все, что размещается на плоской стеклянной поверхности сканера: газеты, журналы, деловые письма, факсы, фотографии и слайды, развороты книг и визитные карточки. После того, как закрывается крышка такого планшетного сканера, сканирующая головка начинает двигаться по сканируемому документу, "читая" текст или рисунок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09" name="Содержимое 4" descr="C:\Ravnovesie\info3\image\Image150.gif"/>
          <p:cNvPicPr/>
          <p:nvPr/>
        </p:nvPicPr>
        <p:blipFill>
          <a:blip r:embed="rId2"/>
          <a:stretch/>
        </p:blipFill>
        <p:spPr>
          <a:xfrm>
            <a:off x="6084720" y="1785960"/>
            <a:ext cx="25592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609480" y="115920"/>
            <a:ext cx="8107560" cy="1536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13840" y="1643040"/>
            <a:ext cx="5286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лазерных принтерах, подобно ксероксу, используется электрографический принцип: изображение переносится на бумагу с барабана, к которому с помощью электростатического потенциала притягиваются частички краски (тонера). В отличие от копировального аппарата, в лазерном принтере печатающий барабан электризуется с помощью полупроводникового лазера по командам компьютера. В состав лазерного принтера входят: фотопроводящий цилиндр (печатающий барабан), полупроводниковый лазер и прецизионная оптико-механическая система, которая перемещает лазерный луч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12" name="Содержимое 4" descr="C:\Ravnovesie\info3\image\Image158.gif"/>
          <p:cNvPicPr/>
          <p:nvPr/>
        </p:nvPicPr>
        <p:blipFill>
          <a:blip r:embed="rId2"/>
          <a:stretch/>
        </p:blipFill>
        <p:spPr>
          <a:xfrm>
            <a:off x="5796000" y="2500200"/>
            <a:ext cx="30621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71360" y="96840"/>
            <a:ext cx="797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85840" y="1857240"/>
            <a:ext cx="5581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совершенные струйные принтеры относятся к устройствам безударного действия. Они печатают, разбрызгивая на бумагу микроскопические капельки специальных чернил, выбрасываемых на бумагу через сопла печатающей головки. Перед разбрызгиванием этим микрокапелькам дается электрический заряд, а после разбрызгивания они направляются в нужные точки бумаги с помощью электростатического поля. Количество сопел у разных моделей струйных принтеров - от 12 до 256, а максимальная разрешающая способность массовых моделей - 1440 точек на дюйм. В отличие от матричных, струйные принтеры обеспечивают лучшее качество печати и работают с гораздо меньшим шумом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15" name="Содержимое 4" descr="C:\Ravnovesie\info3\image\Image157.gif"/>
          <p:cNvPicPr/>
          <p:nvPr/>
        </p:nvPicPr>
        <p:blipFill>
          <a:blip r:embed="rId2"/>
          <a:stretch/>
        </p:blipFill>
        <p:spPr>
          <a:xfrm>
            <a:off x="5867280" y="2000160"/>
            <a:ext cx="27054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20840" y="401760"/>
            <a:ext cx="8442000" cy="9633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533520" y="1628640"/>
            <a:ext cx="83055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f5fa"/>
                </a:solidFill>
                <a:latin typeface="Times New Roman"/>
              </a:rPr>
              <a:t>Формулировка основного вывода:</a:t>
            </a:r>
            <a:r>
              <a:rPr b="0" lang="ru-RU" sz="2400" spc="-1" strike="noStrike">
                <a:solidFill>
                  <a:srgbClr val="def5f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рисует, он считае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ирует завод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же в космосе лет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ает прогноз пог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ллионы вычисл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сделать за мину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гадайтесь, что за гени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, конечно же … (компьютер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D:\Мои рисунки\АНИМАЦИЯ\c3.gif"/>
          <p:cNvPicPr/>
          <p:nvPr/>
        </p:nvPicPr>
        <p:blipFill>
          <a:blip r:embed="rId2"/>
          <a:stretch/>
        </p:blipFill>
        <p:spPr>
          <a:xfrm>
            <a:off x="214200" y="4714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749160" y="324000"/>
            <a:ext cx="7845480" cy="779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27"/>
          <p:cNvSpPr/>
          <p:nvPr/>
        </p:nvSpPr>
        <p:spPr>
          <a:xfrm>
            <a:off x="441360" y="179388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аботе были использованы следующие Интернет-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1476360" y="2845440"/>
            <a:ext cx="646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izhevsk.rfn.ru/rnews.html?id=71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http://www.pereplet.ru/pops/shirshov/shirshov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www.polemics.ru/articles/?articleID=7451&amp;hideText=0&amp;itemPag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sv.intbel.ru/N79/pg07-02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www.december.ru/article/72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samouchka.net/2007/02/01/ukhod_za_kompjuterom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www.valinfo.ru/gallery/details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imtg.wl.dvgu.ru/sotr/vlasov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a2bf"/>
                </a:solidFill>
                <a:latin typeface="Arial"/>
              </a:rPr>
              <a:t>http://news.excelion.ru/1/2006-07-22-2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4" descr=""/>
          <p:cNvPicPr/>
          <p:nvPr/>
        </p:nvPicPr>
        <p:blipFill>
          <a:blip r:embed="rId1"/>
          <a:stretch/>
        </p:blipFill>
        <p:spPr>
          <a:xfrm>
            <a:off x="603360" y="506520"/>
            <a:ext cx="8150040" cy="9144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539640" y="1628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Цель 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казать устройство компьюте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11280" y="328464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Задачи раб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ить литературу по теме «Компьютер и его устройство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ть презентационные материалы по данной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28760" y="30002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истемный блок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Монитор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лавиатура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Мышь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Тачпад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нер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85840" y="14810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25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hlinkClick r:id="rId1"/>
              </a:rPr>
              <a:t>Устройство системного блока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4680" indent="258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4680" indent="2588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рпусе системного блока размещается материнская (системная) плата. На ней располагаются микропроцессор, модули оперативной памяти (ОЗУ), системная шина, микросхемы-контроллеры, управляющие работой системной шины, портов, винчестера и других устройств хранения информации, а также микросхема постоянного запоминающего устройства (ПЗУ), в которую записывается BIOS - программа, управляющая взаимодействием отдельных частей компьютера. На материнской плате имеются разъемы для подключения плат (или карт) других устройств. Для работы монитора необходима видеокарта (контроллер монитора). Остальные платы можно добавлять по желанию: звуковую карту - для ввода и воспроизведения речи и музыки; видеокарту - для вывода видеоизображения; плату внутреннего модема - для соединения через телефонную линию с другими компьютерами и сетью Интернет (используются также внешние модемы в виде отдельных устройств, подключаемые к компьютеру кабелем) и др.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4680" indent="2588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85" name="Заголовок 1" descr=""/>
          <p:cNvPicPr/>
          <p:nvPr/>
        </p:nvPicPr>
        <p:blipFill>
          <a:blip r:embed="rId2"/>
          <a:stretch/>
        </p:blipFill>
        <p:spPr>
          <a:xfrm>
            <a:off x="73080" y="146160"/>
            <a:ext cx="86500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396720" y="-30240"/>
            <a:ext cx="8150400" cy="1494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42560" y="1500120"/>
            <a:ext cx="607212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ый диск представляет собой алюминиевую или стеклокерамическую (в более поздних конструкциях винчестеров) пластину с магнитным покрытием - тонким слоем окиси железа (в более ранних моделях) или окиси хрома (в более поздних моделях). Весь пакет дисков заключен в герметичный корпус, обеспечивающий необходимую чистоту и постоянное давление очищенного от пыли воздуха с помощью сложной системы специальных фильтров. Ведь высокие скорости вращения дисков и малые зазоры между ними и головками требуют идеально чистой воздушной среды: малейшая пылинка может вывести винчестер из строя. Чтение и запись информации осуществляются головками чтения и записи, укрепленными на поворотных рычагах-позиционерах - подобно игле звукоснимателя на тонарме проигрывателя. Головки не касаются поверхностей дисков, а перемещаются над ними на расстоянии долей микрона.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88" name="Содержимое 5" descr="C:\Ravnovesie\info3\image\Image140.gif"/>
          <p:cNvPicPr/>
          <p:nvPr/>
        </p:nvPicPr>
        <p:blipFill>
          <a:blip r:embed="rId2"/>
          <a:stretch/>
        </p:blipFill>
        <p:spPr>
          <a:xfrm>
            <a:off x="6372360" y="1628640"/>
            <a:ext cx="24238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122400" y="-55440"/>
            <a:ext cx="8515080" cy="2066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2920" y="1969560"/>
            <a:ext cx="485784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8119"/>
                </a:solidFill>
                <a:uFillTx/>
                <a:latin typeface="Times New Roman"/>
              </a:rPr>
              <a:t>Монитор с электронно-лучевой трубкой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ие жидкокристаллического LCD (Liquid Crystal Display) монитора (или любого индикатора, например, часов или калькуляторов) основано на использовании вещества, находящегося в жидком состоянии, но при этом обладающего некоторыми свойствами кристаллических тел. Молекулы таких жидких кристаллов под действием электрического поля способны изменять свою ориентацию и свойства проходящего сквозь них светового луча. Пользуясь этим свойством, в жидкокристаллических индикаторах, изменяя электрическое напряжение и ориентацию молекул, создают изображени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91" name="Содержимое 7" descr="C:\Ravnovesie\info3\image\Image152.gif"/>
          <p:cNvPicPr/>
          <p:nvPr/>
        </p:nvPicPr>
        <p:blipFill>
          <a:blip r:embed="rId2"/>
          <a:stretch/>
        </p:blipFill>
        <p:spPr>
          <a:xfrm>
            <a:off x="5214960" y="2571840"/>
            <a:ext cx="35002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115920" y="-19080"/>
            <a:ext cx="8674200" cy="19335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14200" y="1928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8119"/>
                </a:solidFill>
                <a:uFillTx/>
                <a:latin typeface="Times New Roman"/>
              </a:rPr>
              <a:t>Плазменный экран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ми плазменных экранов являются высокая яркость, контрастность и очень большой угол обзора - до 180 градусов. У них отсутствует дрожание картинки, так как она выводится не по строчкам, а прямо в цифровом виде. Размер плазменных экранов достигает 100 см при толщине всего 8,5 - 9 см, то есть его как картину можно поставить на стол или повесить на стену. Плазменные экраны (мониторы и телевизоры), также как и жидкокристаллические, являются полностью цифровыми приборами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94" name="Содержимое 4" descr="C:\Ravnovesie\info3\image\Image154.gif"/>
          <p:cNvPicPr/>
          <p:nvPr/>
        </p:nvPicPr>
        <p:blipFill>
          <a:blip r:embed="rId2"/>
          <a:stretch/>
        </p:blipFill>
        <p:spPr>
          <a:xfrm>
            <a:off x="5072040" y="2714760"/>
            <a:ext cx="3646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195120" y="109440"/>
            <a:ext cx="7882200" cy="1725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42560" y="1928520"/>
            <a:ext cx="3786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Клавиатуры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нство IBM-совместимых клавиатур (то есть предназначенных для персональных компьютеров, производимых компанией IBM или по ее лицензиям) состоит из 104/105 и более клавиш. В их число входят алфавитно-цифровые клавиши, клавиши управления курсором и другие командные клавиши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97" name="Содержимое 5" descr="C:\Ravnovesie\info3\image\Image146.gif"/>
          <p:cNvPicPr/>
          <p:nvPr/>
        </p:nvPicPr>
        <p:blipFill>
          <a:blip r:embed="rId3"/>
          <a:stretch/>
        </p:blipFill>
        <p:spPr>
          <a:xfrm>
            <a:off x="4429080" y="2357280"/>
            <a:ext cx="4100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420840" y="23760"/>
            <a:ext cx="7864200" cy="15922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13840" y="1571400"/>
            <a:ext cx="565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Устройство "мыши"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- небольшая пластмассовая коробочка с двумя (или тремя) кнопками и проводом, присоединяемым к последовательному порту компьютера. Существуют и беспроводные мыши с радиопередачей сигналов и автономным питанием. Движение мыши по коврику вызывает перемещение по экрану монитора ПК специального указателя - курсора, а команды отдаются компьютеру нажатием кнопок мыши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ьшее распространение получили механические мыши с шариком. Их недостатком является частое засорение шарика и оптической системы, требующее периодической чистки. Оптические мыши, более надежные и точные, построены на базе оптического индикатора. Однако они дороже механических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00" name="Содержимое 4" descr="C:\Ravnovesie\info3\image\Image149.gif"/>
          <p:cNvPicPr/>
          <p:nvPr/>
        </p:nvPicPr>
        <p:blipFill>
          <a:blip r:embed="rId3"/>
          <a:stretch/>
        </p:blipFill>
        <p:spPr>
          <a:xfrm>
            <a:off x="5940360" y="1700280"/>
            <a:ext cx="29894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09:42:39Z</dcterms:created>
  <dc:creator>FuckYouBill</dc:creator>
  <dc:description/>
  <dc:language>en-US</dc:language>
  <cp:lastModifiedBy>User</cp:lastModifiedBy>
  <dcterms:modified xsi:type="dcterms:W3CDTF">2015-03-10T10:41:41Z</dcterms:modified>
  <cp:revision>40</cp:revision>
  <dc:subject/>
  <dc:title>Зоря.</dc:title>
</cp:coreProperties>
</file>