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646-B9FC-47C0-AB69-A6CFBE27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042-2C90-456E-A67C-4C78D280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2E34C-3FBA-4952-8266-44D72A6C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7D01E-B642-4F31-A585-48607859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5A3A2-F35D-49B2-9354-647C6D08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BD0D9-435C-427B-9E2C-1264A5FD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BE4E8-B097-4777-BBFD-2B1565DA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95620-9798-4521-A310-F27B6C9C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3A5F4-7641-4091-8C78-61C756B0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8AE25-D767-4A9E-9740-06962719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122EA-3781-4B88-B525-9D9113A5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F2790-323C-43BD-B496-3C2E8783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C69-D4CB-4D49-8799-609E658A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8F438-74DD-44C5-83F8-9C0449FC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7EAB8-6B33-4F72-8759-64AC54F7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A5C13-3010-484D-84C6-DBEA3667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B1216-00B7-48C5-8384-E43C861E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DD11C-1238-4A59-A8DB-E3438058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7C422-C79F-4255-BAE8-78E33263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DEE4C-6B4B-4C14-9FD5-03956D9A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32CAC-F6D8-4A4F-A3A4-F7B067F5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253FB-AD50-43C8-9A3E-FB46EF1D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FFA8B-C33D-4FBE-9A8E-AADDDA9E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274-0CDC-4628-AECE-4877237C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15BA6-7A65-4DBE-88F7-0CC73744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25F3A-15C9-434E-9041-21C9FA48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8D0C9-D186-4D3C-9217-FD084EDA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E75E5-27B3-4107-B6CE-6241AD58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B945D-CB7A-4C50-A219-A6ED2ED7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13AF4-AF32-433A-BF90-90AB6EED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BDD06-2775-48E3-B40A-5172EC93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DB935-9C0F-422F-A5E1-B26815CF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29ACD-72FD-4C6A-8BAA-841BF01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A573C-48E5-4E4E-AA36-F8E0044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292F-0CE1-4729-90A5-C30037B8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87128-E759-40BF-82A5-173B4AD7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1D314-218E-40CE-B70F-058255A9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5B57C-3E4D-4213-9EDD-6511A4A3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41E46-1C96-4DA1-91C2-B4D760E4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3BA0F-0B03-4A48-A05A-83F56E31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119D5-47D0-4EC2-BE02-E9820A18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3927A-9021-467D-8751-0711E834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A3F6D-FC55-42D3-ABB3-4C76C88F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A90BA-7B9E-46A0-8DF8-80711C1E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41B76-F228-4D77-87C9-A89F6A2C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0368-8FC4-47FB-AA74-CF41BCDC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4D102-BC08-4CCC-A99D-503C9C16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46CD4-9B12-48A9-BBF1-B33C98DD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680F9-0834-4315-99BD-E58A7D63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262FD-A8F1-40DE-8AB8-A2811B58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7E7CC-FC4B-4B14-995E-C2319F9E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725B-4292-41B7-BB0E-8A445FF6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AF07-8058-48BC-923D-99510A37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E898-ECAF-4428-A31E-8389D683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3651-506D-4502-87AA-A3B0AAA2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9C07-2CB1-4244-823B-9307047F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601-983B-478A-B851-63100F4C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A720-2DED-4347-B7DF-3A474B08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903E-8D94-46DD-A01E-1AEC71DE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65A5-E16E-4079-8DF4-14AE1755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C1C4-7BCC-4058-8D66-058E54BA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DD11-FA28-4CAD-952A-563C2F09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D110-2767-42C9-BCEC-7C4CA4F4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129F-9960-4DC2-9F19-3EF05FF8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F9EAF-18C5-49FE-B679-E881D626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41AA6-E178-476B-AB83-A162BB77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141A2-B1CA-4E5D-96E8-8154AD47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BC3-16D0-45D4-90B7-8869F77B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833E-0029-4220-AFF9-1BB2A5B9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DEC4-A76C-45B4-B129-6CEDFA70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DE6C-4E71-4ED7-91D4-E5A58F90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5EE1-AC36-407B-9763-6BE663B2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5147-705A-4583-98C2-056A52CB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AC39-6F77-449B-B7EF-5C8702BF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40AD-B637-46C6-98C8-C6326F56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825CF-798F-473E-A6DC-50A03FE4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0D567-F899-4BD6-9F45-9237278B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5340E-41C6-4023-BF97-FA5A6893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B05-CDCD-40A8-B362-C765CF49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BB69-7AEE-46B9-B42E-8CCFBF96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DF0A-D999-4227-B395-3D35942A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9EA39-8E99-4CF8-B3C0-0CFCF854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DB82D-ADF0-4727-841B-BAC4F736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A0BF2-F175-4C07-AD45-B4C65042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D0640-91A6-445F-869E-18514D12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C9D58-8B57-4EC2-A8BE-B6EAE05D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33147-5A82-4240-9628-47FD4D29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75DD-75C4-4F2E-9A69-5F99DF2A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F97F1-51C5-41FC-B464-69D9AA6C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406-75D7-42F0-8F44-E1B6A431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2F9C-2B29-42B3-A389-40461113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5D7EA-A674-4EA2-B064-C6F1CD68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D496C-BCA9-4530-9343-571D5909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A2A06-1426-42D3-87B1-11391BE0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85BD4-2442-4118-9952-129A22CD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8995D-A03E-4C92-8749-FCE8764A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4182E-B230-4BD3-B037-2374FC35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B6DF8-866E-4F22-8F0C-0CD64127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9CC39-8768-469B-B03F-7008E20D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8D1EF-CD00-4D7C-950B-7F452B52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F78-AD63-4260-BE5F-253452C2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CA1E9-0819-4671-8794-7E58E4C6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8EA83-1AAD-421A-92B7-C9DF39CD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AB987-287D-453F-AA5A-73315A54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676EB-0F22-4CBD-B8F1-F4907881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69F4C-129A-4CF3-A7E3-7EFF04C6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8599-74F7-414B-BA3D-23035B65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BA72F-8074-4B12-80B0-2CC6D5CE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CFDCD-5C5D-4167-982E-447C4370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58465-BE83-418D-BDE2-2771C6D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C217D-DD75-40E0-AD3B-0210474E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E5B-2D9D-409D-9D0D-D9EFB103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61680-B138-488B-A909-1E8A0C7E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0CB79-E8D3-463B-9913-656050BA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2ED94-125D-49D8-A272-D3052F21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05F0F-D260-4C5B-922B-FA69E697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2D2BE-1E7B-44C7-AC33-EEC4A9D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FC34D-3234-4D0D-93F4-DC61BF4A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A1B31-7101-463C-AAAB-F37FF206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54885-7F5A-49B9-89CC-B3D57744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7559-970A-4343-B563-BD3E8C6C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3FF6C-5052-44F7-B935-A6C01B1D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DB3-A4CD-45C8-9A16-C83CC4D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A7EA-8018-4919-AC2F-5F029B0E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A4F2E-A01E-4DE5-AFD5-401E92E5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09F1F-32DC-47FF-8AB3-4BE53B33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03888-93FF-4151-BC73-F11E74E4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1F64A-CE87-4263-B649-86A9F5AF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40DEC-395D-4EA4-9578-ED0D69FD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43DCF-4E24-45BD-874C-B1F66B53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50937-1DA2-4AB3-80B1-6F6E729A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0B14E-D78F-4E95-B5C9-9115622C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BEB9B-5850-456B-A431-BDBB56C6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961-2B71-4AE0-910B-F3082053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693FA-ADBA-43D1-83F7-88F8644F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68C5A-FDB2-417E-9BB5-66E1A7B2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75D8D-8C0F-4D68-BCD0-7B81D8D2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22982-FC45-4CBB-AE05-5BE14EF0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4C6D8-E68C-4B93-A532-E2A660B6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CE96C-8E39-465B-8A4D-EDBEB33F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66BCC-D23E-4F29-B1FB-A746C4C3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CFD71-DD10-4153-B9BE-C912E44C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5727B-7777-4911-B11A-91516419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011E5-1768-4847-BDA2-AC4D989E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14D5-BB96-4D2D-8CF6-C9C26FF07CD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A42F-996B-48B5-A5BE-B58B968AFCD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58D0-FCE4-47E7-BDC0-EABFD8BA213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477E-53E0-494D-A6CD-F154ED3F49B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0C74-05B6-4BA6-B802-5A19E851039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D78C-915B-40B1-A015-E2F69AB9786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FDD3-F507-49DF-A171-B3A3A898451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12F9-052C-4E64-B925-BE27C1D71D2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4C6C-E840-4817-884B-99D2AA3FE3A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394B-74BE-43DD-88A1-57BC0719BEF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AEDE-F87B-463E-B4BB-0E7B856FFAA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090F-45E7-42C7-8B50-9A824B6B437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42600" y="3886200"/>
            <a:ext cx="77151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    САНДЖИЕВА В.Т., УЧИТЕЛЬ НАЧАЛЬНЫХ КЛАССОВ.                    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571320" y="428400"/>
            <a:ext cx="81435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634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d16349"/>
                </a:solidFill>
                <a:latin typeface="Times New Roman"/>
                <a:ea typeface="Times New Roman"/>
              </a:rPr>
              <a:t>Конкурс исследовательских и проектных работ среди учащихся начальных классов </a:t>
            </a:r>
            <a:br>
              <a:rPr sz="3200"/>
            </a:br>
            <a:r>
              <a:rPr b="1" lang="ru-RU" sz="3200" spc="-1" strike="noStrike">
                <a:solidFill>
                  <a:srgbClr val="d16349"/>
                </a:solidFill>
                <a:latin typeface="Times New Roman"/>
                <a:ea typeface="Times New Roman"/>
              </a:rPr>
              <a:t>«Ювента»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Прямоугольник 3"/>
          <p:cNvSpPr/>
          <p:nvPr/>
        </p:nvSpPr>
        <p:spPr>
          <a:xfrm>
            <a:off x="928800" y="235728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 Комнатные цветы нашего класс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642960" y="300024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 работы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джурова Ангира Айсовна, ученица 3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785880" y="521496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КОУ «Алцынхутинская средняя   общеобразовательная школа имени Г.О. Рокчин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1840320" y="607212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етченеровский район, п.Алцынх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ОКАЗЫВАЕТСЯ: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142640"/>
            <a:ext cx="850428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 того, что желтеют листья у герани, может быть нескольк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 листьев желтеют и сохнут только края, значит, растению не хватает влаг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лтизна листьев сопровождается вялостью, то причина как раз в избытке влаг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еет герань и теряет нижние листья и от недостаточного освеще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метила что, из  8 горшков с цветами в двух горшках - герань не цветёт, а растёт только в высоту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-428760"/>
            <a:ext cx="85345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ОКАЗЫВАЕТСЯ: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285920"/>
            <a:ext cx="85042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ричиной того, что не цветет герань, являетс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шком низкая температура или нехватка света; (и в правду эти горшки стояли на шкафу в тени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шком просторный горшок, стимулирующий рост корневой системы, но тормозящий цветение; (точно горшки были по размеру больши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воевременная обрезка: герань нужно регулярно «стричь», тогда она будет гуще ветвиться и пышнее цвест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Фото0073"/>
          <p:cNvPicPr/>
          <p:nvPr/>
        </p:nvPicPr>
        <p:blipFill>
          <a:blip r:embed="rId1"/>
          <a:stretch/>
        </p:blipFill>
        <p:spPr>
          <a:xfrm>
            <a:off x="0" y="0"/>
            <a:ext cx="2071800" cy="27352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C:\Users\user\Desktop\фото цветы\Фото\Фото0059.jpg"/>
          <p:cNvPicPr/>
          <p:nvPr/>
        </p:nvPicPr>
        <p:blipFill>
          <a:blip r:embed="rId2"/>
          <a:stretch/>
        </p:blipFill>
        <p:spPr>
          <a:xfrm>
            <a:off x="6500880" y="0"/>
            <a:ext cx="2643120" cy="278604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5345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  <a:ea typeface="Calibri"/>
              </a:rPr>
              <a:t> 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  <a:ea typeface="Calibri"/>
              </a:rPr>
              <a:t>ПРАВИЛА УХОДА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2356920"/>
            <a:ext cx="85042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ты надо поливать водой комнатной температур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йку при поливе надо держать низко над горшком, чтобы почва не разбрызгивалась. Многие растения нужно опрыскивать водой с помощью специального опрыскивател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ыхлить почву лучше всего палочкой после полива, когда она немного просохнет. Рыхлят только на поверхности и только по краю горшка, чтобы не повредить корн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ин раз в месяц надо протирать гладкие крупные листья растений влажной губкой или тряпкой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заливайте их, растение может сгни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357280" y="0"/>
            <a:ext cx="542952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en-US" sz="32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Выращивание </a:t>
            </a:r>
            <a:br>
              <a:rPr sz="3200"/>
            </a:br>
            <a:r>
              <a:rPr b="0" lang="en-US" sz="32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комнатного цветка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. 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2142720" y="1357200"/>
            <a:ext cx="7000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классе срезала отростки с разных растений и поместила в воду. Потом когда появились корешки, посадила их в 2 горшочки.  Сначала они прижились хорошо, но потом в одном горшке листья завяли, пожелтели и пропал. Наверное, я перелила воду. Другой цветок продолжает расти. Моё изучение этого растения продолжается. Я хочу продолжить наблюдение над тем, как влияет размер цветочного горшка на цветение и развитие раст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Рисунок 3" descr="C:\Users\user\Desktop\фото цветы\Фото\Фото0109.jpg"/>
          <p:cNvPicPr/>
          <p:nvPr/>
        </p:nvPicPr>
        <p:blipFill>
          <a:blip r:embed="rId1"/>
          <a:stretch/>
        </p:blipFill>
        <p:spPr>
          <a:xfrm>
            <a:off x="0" y="0"/>
            <a:ext cx="2143080" cy="3429000"/>
          </a:xfrm>
          <a:prstGeom prst="rect">
            <a:avLst/>
          </a:prstGeom>
          <a:ln w="0">
            <a:noFill/>
          </a:ln>
        </p:spPr>
      </p:pic>
      <p:pic>
        <p:nvPicPr>
          <p:cNvPr id="650" name="Рисунок 4" descr="C:\Users\user\Desktop\фото цветы\Фото\Фото0121.jpg"/>
          <p:cNvPicPr/>
          <p:nvPr/>
        </p:nvPicPr>
        <p:blipFill>
          <a:blip r:embed="rId2"/>
          <a:stretch/>
        </p:blipFill>
        <p:spPr>
          <a:xfrm>
            <a:off x="0" y="3429000"/>
            <a:ext cx="214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Заключение.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142640"/>
            <a:ext cx="85042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и хотелось бы отметить, что поставленная гипотеза о том, что растения, которые растут в нашем классе и дома, оказывают положительное воздействие на организм человека и создают уют  в доме, подтвердилась. Комнатные растения нашего класса благоприятно влияют на здоровье и настроение учащихся.  Таким образом, цель моего исследования достигну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, я расширила свои знания и представления в области изучаемого предмета, вырастила комнатный цветок. В дальнейшем я буду продолжать наблюдать за герань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53452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Список  литературы.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.А.Плешаков. Атлас – определитель «От земли до неба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.А. Плешаков. Учебник Окружающий ми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.Ю. Васильева. «Окружающий мир». 2 класс. Поурочные разработ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Гончарова Е.Ю. Энциклопедия комнатного цветоводства. Мир книги.- 200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нтернет, наблюдения, рассказы взросл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Б.Н.Головкин. В.Н.Чеканова. Комнатные раст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Введ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ирода нашей планеты очень удивительна и содержит много загадок и тайн. Одной из таких загадок являются комнатные раст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На уроке окружающего мира во 2 классе изучали тему «Комнатные растения». Меня очень заинтересовала эта тема, хотелось узнать всё больше  о них. И решила их размножать дома. А для этого надо было многое узнать. Так появилась моя работ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53452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Цель: узнать о роли растений в жизни человека и изучить способы их размножения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85840" y="1428480"/>
            <a:ext cx="8572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учить особенности комнатных растений в классе и до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йти и прочитать информацию о комнатных растения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формить презентацию по тем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изучение литературы и информационных ресурсов сети Интернет; выращивание растения, наблюд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9899"/>
                </a:solidFill>
                <a:latin typeface="Georgia"/>
              </a:rPr>
              <a:t>Актуальность данной работы: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резко выросла роль комнатных растений как фактора, улучшающего климат наших помещений.  Каждый цветок достоин удивления, восхищения и особого ухода и внима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нная тема мне показалась интересной потому, что  цветы всегда прекрасны. И создать эту красоту в школе необходимо, так как цветы укрепляют здоровье и улучшает настроени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едполагаю, что чем больше комнатных растений в помещении, тем лучше. Тем самым они будут способствовать улучшению микроклимата в комнате, создадут уют и красот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Times New Roman"/>
                <a:ea typeface="Calibri"/>
              </a:rPr>
              <a:t>Роль комнатных растений в жизни человека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213920"/>
            <a:ext cx="85042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 с давних пор украшают своё жилище живыми растениями. Этот обычай возник в странах с холодной зимой. Сначала в комнатах в зимнее время выращивали лекарственные растения – людям хотелось, чтобы они всегда были под рукой. Потом стали выращивать растения ради красоты. Цветы  поглощают пыль, увлажняют и очищают воздух в комнате от вредных газов, уничтожают микробы. Поэтому там, где собирается больше людей, растений тоже должно быть по возможности больше. Очень важно иметь зеленые растения поблизости от рабочего места людям с повышенной нагрузкой на зрение, в первую очередь, при многочасовой работе на компьютере. Цветы своей красотой, приятным запахом радуют нас, помогают поднять настроение.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Рисунок 1" descr="книга1.jpg"/>
          <p:cNvPicPr/>
          <p:nvPr/>
        </p:nvPicPr>
        <p:blipFill>
          <a:blip r:embed="rId1"/>
          <a:stretch/>
        </p:blipFill>
        <p:spPr>
          <a:xfrm rot="512400">
            <a:off x="7081920" y="488880"/>
            <a:ext cx="1928880" cy="19303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C:\Users\user\Desktop\Ангира.JPG"/>
          <p:cNvPicPr/>
          <p:nvPr/>
        </p:nvPicPr>
        <p:blipFill>
          <a:blip r:embed="rId2"/>
          <a:stretch/>
        </p:blipFill>
        <p:spPr>
          <a:xfrm rot="21165600">
            <a:off x="0" y="475920"/>
            <a:ext cx="2147760" cy="192888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Книги - помощни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286000" y="1571760"/>
            <a:ext cx="52862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я  интернет и различную литературу в библиотеке,  я многое узнала о комнатных растениях.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Я с одноклассниками прошла по классам нашей школы.  Почти во всех кабинетах есть комнатные цветы.  Во многих кабинетах растёт герань разных расцветок, традесканция, фиалка и друг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6" descr="C:\Users\user\Desktop\Фото0161.jpg"/>
          <p:cNvPicPr/>
          <p:nvPr/>
        </p:nvPicPr>
        <p:blipFill>
          <a:blip r:embed="rId3"/>
          <a:stretch/>
        </p:blipFill>
        <p:spPr>
          <a:xfrm>
            <a:off x="0" y="3000240"/>
            <a:ext cx="239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34160" cy="147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Растения нашего класса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356840"/>
            <a:ext cx="85042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комнатные растения в классе очень красивы и разнообразны.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ения различаются формой и размерами листьев, необыкновенным разнообразием окрас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Рисунок 4" descr="C:\Users\user\Desktop\фото цветы\Фото0071.jpg"/>
          <p:cNvPicPr/>
          <p:nvPr/>
        </p:nvPicPr>
        <p:blipFill>
          <a:blip r:embed="rId1"/>
          <a:stretch/>
        </p:blipFill>
        <p:spPr>
          <a:xfrm>
            <a:off x="428760" y="3398760"/>
            <a:ext cx="2428920" cy="326700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4"/>
          <p:cNvSpPr/>
          <p:nvPr/>
        </p:nvSpPr>
        <p:spPr>
          <a:xfrm>
            <a:off x="429480" y="300024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9899"/>
                </a:solidFill>
                <a:latin typeface="Arial"/>
              </a:rPr>
              <a:t>Герань или Пеларг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C:\Users\user\Desktop\Фото0148.jpg"/>
          <p:cNvPicPr/>
          <p:nvPr/>
        </p:nvPicPr>
        <p:blipFill>
          <a:blip r:embed="rId2"/>
          <a:stretch/>
        </p:blipFill>
        <p:spPr>
          <a:xfrm>
            <a:off x="3286080" y="3357720"/>
            <a:ext cx="2411280" cy="321444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6"/>
          <p:cNvSpPr/>
          <p:nvPr/>
        </p:nvSpPr>
        <p:spPr>
          <a:xfrm>
            <a:off x="3214800" y="30002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каланхо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Содержимое 3" descr="C:\Users\user\Desktop\фото цветы\Фото0143.jpg"/>
          <p:cNvPicPr/>
          <p:nvPr/>
        </p:nvPicPr>
        <p:blipFill>
          <a:blip r:embed="rId3"/>
          <a:stretch/>
        </p:blipFill>
        <p:spPr>
          <a:xfrm>
            <a:off x="6429240" y="3714840"/>
            <a:ext cx="2428920" cy="285732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4"/>
          <p:cNvSpPr/>
          <p:nvPr/>
        </p:nvSpPr>
        <p:spPr>
          <a:xfrm>
            <a:off x="6500880" y="3000240"/>
            <a:ext cx="22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янка или Денежное дере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Растения нашего класс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радесканция                                    Пахистахис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Users\user\Desktop\фото цветы\Фото0147.jpg"/>
          <p:cNvPicPr/>
          <p:nvPr/>
        </p:nvPicPr>
        <p:blipFill>
          <a:blip r:embed="rId1"/>
          <a:stretch/>
        </p:blipFill>
        <p:spPr>
          <a:xfrm>
            <a:off x="571680" y="20001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" descr="C:\Users\user\Desktop\фото цветы\Фото0070.jpg"/>
          <p:cNvPicPr/>
          <p:nvPr/>
        </p:nvPicPr>
        <p:blipFill>
          <a:blip r:embed="rId2"/>
          <a:stretch/>
        </p:blipFill>
        <p:spPr>
          <a:xfrm>
            <a:off x="5143680" y="2071800"/>
            <a:ext cx="321444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Мои наблюдения за геранью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499760"/>
            <a:ext cx="85042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комнатных растений  в классе мне очень нравится  герань. Может потому, что даже сейчас зимой цветёт герань  различных расцветок. Их красивые розовые, белые, красные цветы  настолько ярки, что глаз не отвести. Наблюдая за геранью я узнала очень много полезного. В частности  я заметила, что в некоторых горшках желтеют листья у геран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дала себе вопрос почему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19:56:19Z</dcterms:created>
  <dc:creator>user</dc:creator>
  <dc:description/>
  <dc:language>en-US</dc:language>
  <cp:lastModifiedBy>user</cp:lastModifiedBy>
  <dcterms:modified xsi:type="dcterms:W3CDTF">2015-03-11T07:36:54Z</dcterms:modified>
  <cp:revision>60</cp:revision>
  <dc:subject/>
  <dc:title>РАСТЕНИЯ НАШЕГО КЛАССА</dc:title>
</cp:coreProperties>
</file>