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095D-678D-4745-A06A-3D2085FF23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7BDE-AF4A-4609-8057-14F459B81F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дермис образован многослойным эпителием. Клетки внутреннего слоя размножаются, а клетки слоев, оттесняемых наружу, стареют, становясь все более плоскими и ороговевшими, а затем отмирают и слущиваются. Мертвые клетки выполняют защитную функ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C7CE-B89A-4FEF-833D-749B55013A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дермис образован многослойным эпителием. Клетки внутреннего слоя размножаются, а клетки слоев, оттесняемых наружу, стареют, становясь все более плоскими и ороговевшими, а затем отмирают и слущиваются. Мертвые клетки выполняют защитную функ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82E9-7D99-46CF-A66D-388A05B777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9E2-5368-426A-AD61-A6265C1D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0171-778A-4C9E-A989-F1ABEE3B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6CDDA-809A-4053-8D08-16D9C17A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0CF8C-6AE5-407F-AAB0-E691FDDF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05A8C-B40B-463E-9B0A-8D20B6D3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4FCC2-9068-467D-8F93-691E52EB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8D905-DD1D-4D28-AAB1-F93F39A1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1CA8A-6A0D-4B7A-AD32-292574A3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7FEEA-C82B-43CF-89CD-3BBFEEF8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F3E83-B74A-4147-B05A-A18CE6B1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C5B9D-EDD4-4FA7-B96E-90D996CE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8AEB4-2E65-4019-B1E7-A75D1D2D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894-28CF-4472-A11B-3681FFB5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79B78-BC80-4FE6-8F4B-953EFE35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746A6-6339-4146-8E81-385B2FF3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285E4-AF46-42B2-8096-9179C7B9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80B66-0DD9-4283-A5A5-4F5B7CF6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48958-2EA5-4B86-8F50-4B12536D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67E91-5A34-4905-BD9C-E641354A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B1F32-E3CC-466D-B970-B56B6191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68B62-AB46-4B38-B367-2F0832F6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9A428-9F55-4DC7-BC61-9FFBCCC4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50027-4479-463F-A43F-D421BD21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7E7C-19D6-4832-808F-1DC1984F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18D86-E95F-44A8-9824-3A18B0DA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27EF-0244-4DD4-A577-F0D150DB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2AA2-7C03-4C6B-B418-AB6ACCA3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44B7-A6CB-441C-861A-1517BA5A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DF17-E4D6-4310-B43D-83B52C70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A3DF-6226-440B-AC55-246D84F6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43E1-8219-46C1-AA27-7EC1D2BF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A76B-C793-40FB-A5A2-AEDC8372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C60-D454-400D-96F8-64DC701A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5CDC-1C73-4679-99FC-81F875AC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80C3-56A8-4C34-B92E-877A13D0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49F1-5BB3-4707-9A9C-A032F520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2D45-F6D4-401C-8CC4-6ABC3AA4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697F-481E-4066-9C08-C6294352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2A458-83E4-4582-8BED-70678698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67735-EAD9-487A-B4D0-02C6A83E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6CA63-F2C1-4D12-9DD3-3EDEAF53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C4CC2-C98F-40D0-9107-F8840CCA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619B3-F315-48A0-A2E3-46B90A77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1F94-9B22-4D2A-9890-C2642728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FCBD4-FB6C-49DF-BAB6-65CA81E1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E1F39-0FB2-4492-80EA-D0812C10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778AE-24CD-4E32-BE7D-EBA31D5D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B9D7C-59AE-48D7-9275-7369E6F6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BB55C-0B45-4F59-80AF-2C5028BA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9551E-C16E-48B3-B529-80676D5C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66FAC-1A5C-4779-9CD5-734BCC44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B0C49-9E84-4641-B8AC-3A77DFB8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63D99-5874-4AE5-ADC0-DE28D61F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D3403-FC56-4AAE-B173-53A34D89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1D8-3A42-4807-AA60-AB41A08A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2A968-2477-46A9-A43D-AAD17BB7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8FBD1-CB56-4076-9362-436A4D3E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44C14-D475-4317-8232-271A63FF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8AECA-1B2F-484B-B3E4-B423EE5B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3A84A-1770-44DB-A8B1-E107A794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1A182-F7EF-409B-9F0F-8CADE4B6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7A0BF-A551-4066-84CA-AE3DE653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3D8B6-F743-438C-A2F4-751200B9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C96E4-B18A-4ACF-9FF6-D6C471A5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068BF-EC35-480F-9287-AEC0359D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0A6E-C373-4E44-896F-F3A933BE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47CBB-A7E4-4AFB-A66C-61A09F1D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54B7F-BD34-4F8B-9A01-D17FD283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AB91F-2D03-4016-8B79-75049EFC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96735-B313-4AF4-B14E-5F5D240A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68840-C6C6-4371-A4D3-990B52DE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21261-4795-410B-806A-07ED0920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7D69D-4D20-4001-B970-AE73BDFB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F522D-6019-476E-A3AB-0336E782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EF0FE-3F7D-4420-94CC-F7144482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418B0-7468-49ED-AF57-08DF5C57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3B1-CCE7-4387-86C5-EFFF413B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C20A3-C63B-4D8C-BB0A-9F71F9FD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1F106-D1A2-496F-A8F7-AFCB080C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5F3CB-A6A0-4161-81DF-6034AC10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B0B07-8798-4AD7-BCC5-C66FFFDB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70A67-B195-4513-88E7-55037B4D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361B4-5B24-4F94-8E45-E96A455C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20103-9347-4CFF-A882-51246F55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92EA6-8319-4789-850F-13E2FC1E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2155F-075D-4857-B98D-503984E3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ED2AF-1FD6-4804-89AE-9A70F9B9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5B69-AEED-4D86-A37D-F2B44136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73600-8697-4966-920C-B33D0725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BABBB-EA97-46AB-ACD3-9E46C01F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00568-AB5B-45CA-8214-8CA09D94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8704B-2895-467C-8944-9394AF7C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D4713-8378-4148-9924-B7B6E39C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4E19C-7931-4B2E-A7AE-4D587CBC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61680-761E-4852-9153-EC58BDAA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56DC5-48B6-4FAC-AF2A-4DD5FD95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F3B5C-5F43-4F8F-8934-E8ADAD61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8C6C2-0515-4629-A1DF-2EE0F2FA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16A-3C4A-497E-8A35-5270B564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B4617-95A7-4487-9F18-B2E2AB18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4D44A-DD94-4390-83B1-60E28789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69BCE-281B-48DC-B6E9-7719172B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9E281-54E4-4D1A-810E-94CBFAD7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5009C-2324-47C5-98D0-132CFD05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0035E-5D57-4591-8509-D3B7727F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46535-E2F2-4FF8-9521-5094F01D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70C09-CDF1-4E61-A38E-ECCB9774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B9D64-016E-46FD-A801-D1053C42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B59EC-38E4-4B76-BD34-CAC78AF9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72F9-3D59-4765-9288-08F6F261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62B29-8BF0-4713-8433-D944754E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091DF-8BF1-417D-A31C-763C8651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F24FE-A0EB-4D72-8F09-7086EB2E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DE6C1-5B4C-4077-8BD3-A54B8A5D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A5212-902B-44C1-B9A6-856E8DE9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5CFAE-75DD-4D3E-9C64-F88D484B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267F5-BA9C-4043-859B-6632F8E5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D5388-C2B0-4C69-BC18-62EC9BC9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29AD6-F6A7-4FB0-AB4D-953953A1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3FBDB-C7CB-41E7-8D22-3A93502D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67EF-8E7A-4A09-9D3A-633EF232F00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EF85-2157-4C05-BD1F-5BB90C8854B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B60A-7381-448D-B548-7D7C01A2715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722F-2C9C-4B69-AD82-ADD644C202E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BB52-437A-42B9-BA48-F4CF09C3EA9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5E1D-A28A-4F68-ABBE-3E2594207C4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F32D-A62D-4350-8DDB-A0A80829D0D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7FA7-D6BA-4AAD-952D-AA08F161013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4144-8654-4EE8-A296-EB623BC7E0A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56BF-FE11-459E-A970-F42BD8C20B5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28400" y="4643280"/>
            <a:ext cx="830556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Учитель биологии Оюн Шенне Михайлов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7" name="Заголовок 6" descr=""/>
          <p:cNvPicPr/>
          <p:nvPr/>
        </p:nvPicPr>
        <p:blipFill>
          <a:blip r:embed="rId1"/>
          <a:stretch/>
        </p:blipFill>
        <p:spPr>
          <a:xfrm>
            <a:off x="281160" y="1908000"/>
            <a:ext cx="846612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4" descr="Строение кожи"/>
          <p:cNvPicPr/>
          <p:nvPr/>
        </p:nvPicPr>
        <p:blipFill>
          <a:blip r:embed="rId1"/>
          <a:stretch/>
        </p:blipFill>
        <p:spPr>
          <a:xfrm>
            <a:off x="0" y="0"/>
            <a:ext cx="90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4" descr="Строение кожи -1"/>
          <p:cNvPicPr/>
          <p:nvPr/>
        </p:nvPicPr>
        <p:blipFill>
          <a:blip r:embed="rId1"/>
          <a:stretch/>
        </p:blipFill>
        <p:spPr>
          <a:xfrm>
            <a:off x="142920" y="142920"/>
            <a:ext cx="8715240" cy="671508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5"/>
          <p:cNvSpPr/>
          <p:nvPr/>
        </p:nvSpPr>
        <p:spPr>
          <a:xfrm>
            <a:off x="266760" y="322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Расы человека"/>
          <p:cNvPicPr/>
          <p:nvPr/>
        </p:nvPicPr>
        <p:blipFill>
          <a:blip r:embed="rId1"/>
          <a:stretch/>
        </p:blipFill>
        <p:spPr>
          <a:xfrm>
            <a:off x="179280" y="1197000"/>
            <a:ext cx="2737080" cy="540072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3"/>
          <p:cNvSpPr/>
          <p:nvPr/>
        </p:nvSpPr>
        <p:spPr>
          <a:xfrm>
            <a:off x="179280" y="189000"/>
            <a:ext cx="87854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2340000" y="3333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 чего зависит цвет кож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3203640" y="1197000"/>
            <a:ext cx="576108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3348000" y="17733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мная кожа негроидной расы объясняется большим количеством в ней меланина, чем у представителей других р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"/>
          <p:cNvSpPr/>
          <p:nvPr/>
        </p:nvSpPr>
        <p:spPr>
          <a:xfrm>
            <a:off x="3348000" y="263700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ланин защищает кожу, блокируя ультрафиолетовые лучи, воздействию которых подвергаются жители солнечной Аф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3348000" y="3500280"/>
            <a:ext cx="54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торым пигментом человеческой кожи является каротин. Это желтое вещество, которое помимо человеческой кожи присутствует в моркови, а также желтке яйца. Как и меланин, каротин есть в коже всех людей мира. Но наибольшее его количество в коже народов Восточной Азии. Это придает их лицам желтоватый отте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3348000" y="573408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 европеоидов наблюдается низкое содержание и меланина, и каро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541008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80800" y="1315800"/>
            <a:ext cx="42908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тсутствие пигмента меланина в кожи - альбиниз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7" name="Picture 2" descr="C:\Users\Next\Desktop\is.jpeg"/>
          <p:cNvPicPr/>
          <p:nvPr/>
        </p:nvPicPr>
        <p:blipFill>
          <a:blip r:embed="rId1"/>
          <a:stretch/>
        </p:blipFill>
        <p:spPr>
          <a:xfrm>
            <a:off x="3995640" y="765000"/>
            <a:ext cx="4897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4" descr="Строение кожи -1"/>
          <p:cNvPicPr/>
          <p:nvPr/>
        </p:nvPicPr>
        <p:blipFill>
          <a:blip r:embed="rId1"/>
          <a:stretch/>
        </p:blipFill>
        <p:spPr>
          <a:xfrm>
            <a:off x="142920" y="142920"/>
            <a:ext cx="8715240" cy="671508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5"/>
          <p:cNvSpPr/>
          <p:nvPr/>
        </p:nvSpPr>
        <p:spPr>
          <a:xfrm>
            <a:off x="266760" y="322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Заголовок 1" descr=""/>
          <p:cNvPicPr/>
          <p:nvPr/>
        </p:nvPicPr>
        <p:blipFill>
          <a:blip r:embed="rId1"/>
          <a:stretch/>
        </p:blipFill>
        <p:spPr>
          <a:xfrm>
            <a:off x="115920" y="-171360"/>
            <a:ext cx="8577360" cy="171432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 txBox="1"/>
          <p:nvPr/>
        </p:nvSpPr>
        <p:spPr>
          <a:xfrm>
            <a:off x="914400" y="71424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2" name="Рисунок 3" descr="На данном отпечатке пальца отмечены следующие признаки: две линии - &quot;тип линии&quot;; то, что между ними - может выступать в качестве области образа, но обычно берётся вся площадь отпечатка; красная окружность слева - пункт &quot;дельта&quot;; красная окружность ниже - ядро; жёлтые окружности показывают некоторые минуции. Папиллярный узор - левая петля."/>
          <p:cNvPicPr/>
          <p:nvPr/>
        </p:nvPicPr>
        <p:blipFill>
          <a:blip r:embed="rId2"/>
          <a:stretch/>
        </p:blipFill>
        <p:spPr>
          <a:xfrm>
            <a:off x="0" y="1143000"/>
            <a:ext cx="4762440" cy="550080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4" descr="1 – 4 – узоры типа «петля» (левая, правая, центральная, двойная), 5 и 6 – узоры типа «дельта» или «дуга» (простая и острая), 7 и 8 – узоры типа «спираль» (центральная и смешанная))"/>
          <p:cNvPicPr/>
          <p:nvPr/>
        </p:nvPicPr>
        <p:blipFill>
          <a:blip r:embed="rId3"/>
          <a:stretch/>
        </p:blipFill>
        <p:spPr>
          <a:xfrm>
            <a:off x="5143680" y="1000080"/>
            <a:ext cx="3724200" cy="2786040"/>
          </a:xfrm>
          <a:prstGeom prst="rect">
            <a:avLst/>
          </a:prstGeom>
          <a:ln w="0">
            <a:noFill/>
          </a:ln>
        </p:spPr>
      </p:pic>
      <p:sp>
        <p:nvSpPr>
          <p:cNvPr id="494" name="Прямоугольник 5"/>
          <p:cNvSpPr/>
          <p:nvPr/>
        </p:nvSpPr>
        <p:spPr>
          <a:xfrm>
            <a:off x="5286240" y="4000680"/>
            <a:ext cx="3571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9f7"/>
                </a:solidFill>
                <a:latin typeface="Arial"/>
              </a:rPr>
              <a:t>Дактилоскопия – раздел криминалистики, изучающий строение кожных узоров внутренних (ладонных) поверхностей ногтевых фаланг пальцев рук для идентификации личности, уголовной регистрации и розыска преступ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3"/>
          <p:cNvSpPr/>
          <p:nvPr/>
        </p:nvSpPr>
        <p:spPr>
          <a:xfrm>
            <a:off x="174600" y="189000"/>
            <a:ext cx="8569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Потовые железы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стречаются почти во всех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участках кожи. Их количество достигает 2,5 миллио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 u="sng">
                <a:solidFill>
                  <a:srgbClr val="ff0000"/>
                </a:solidFill>
                <a:uFillTx/>
                <a:latin typeface="Arial"/>
              </a:rPr>
              <a:t>Мерокринные </a:t>
            </a:r>
            <a:r>
              <a:rPr b="0" lang="ru-RU" sz="900" spc="-1" strike="noStrike" u="sng">
                <a:solidFill>
                  <a:srgbClr val="000000"/>
                </a:solidFill>
                <a:uFillTx/>
                <a:latin typeface="Arial"/>
              </a:rPr>
              <a:t>-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это простые трубчатые железы, которые имеются на всех участках общего кожного покрова. Эти железы начинают функционировать с рожде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 u="sng">
                <a:solidFill>
                  <a:srgbClr val="ff0000"/>
                </a:solidFill>
                <a:uFillTx/>
                <a:latin typeface="Arial"/>
              </a:rPr>
              <a:t>Апокринные -</a:t>
            </a:r>
            <a:r>
              <a:rPr b="0" lang="ru-RU" sz="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находятся в подмышечных впадинах, коже лба. кожи вызывают резкий зап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ачинают функционировать в подростковом возрасте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5"/>
          <p:cNvSpPr/>
          <p:nvPr/>
        </p:nvSpPr>
        <p:spPr>
          <a:xfrm>
            <a:off x="3492360" y="177336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6"/>
          <p:cNvSpPr/>
          <p:nvPr/>
        </p:nvSpPr>
        <p:spPr>
          <a:xfrm>
            <a:off x="3492360" y="177336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7"/>
          <p:cNvSpPr/>
          <p:nvPr/>
        </p:nvSpPr>
        <p:spPr>
          <a:xfrm>
            <a:off x="3492360" y="494172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8820000" y="177336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9"/>
          <p:cNvSpPr/>
          <p:nvPr/>
        </p:nvSpPr>
        <p:spPr>
          <a:xfrm>
            <a:off x="3492360" y="1197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личество потовых желез на 1 см ко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0"/>
          <p:cNvSpPr/>
          <p:nvPr/>
        </p:nvSpPr>
        <p:spPr>
          <a:xfrm>
            <a:off x="3492360" y="234936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1"/>
          <p:cNvSpPr/>
          <p:nvPr/>
        </p:nvSpPr>
        <p:spPr>
          <a:xfrm>
            <a:off x="6443640" y="177336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2"/>
          <p:cNvSpPr/>
          <p:nvPr/>
        </p:nvSpPr>
        <p:spPr>
          <a:xfrm>
            <a:off x="3708360" y="1844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Часть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3"/>
          <p:cNvSpPr/>
          <p:nvPr/>
        </p:nvSpPr>
        <p:spPr>
          <a:xfrm>
            <a:off x="6659640" y="1844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4"/>
          <p:cNvSpPr/>
          <p:nvPr/>
        </p:nvSpPr>
        <p:spPr>
          <a:xfrm>
            <a:off x="3492360" y="278136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5"/>
          <p:cNvSpPr/>
          <p:nvPr/>
        </p:nvSpPr>
        <p:spPr>
          <a:xfrm>
            <a:off x="3492360" y="321300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6"/>
          <p:cNvSpPr/>
          <p:nvPr/>
        </p:nvSpPr>
        <p:spPr>
          <a:xfrm>
            <a:off x="3492360" y="364500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7"/>
          <p:cNvSpPr/>
          <p:nvPr/>
        </p:nvSpPr>
        <p:spPr>
          <a:xfrm>
            <a:off x="3492360" y="407664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8"/>
          <p:cNvSpPr/>
          <p:nvPr/>
        </p:nvSpPr>
        <p:spPr>
          <a:xfrm>
            <a:off x="3492360" y="450864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9"/>
          <p:cNvSpPr/>
          <p:nvPr/>
        </p:nvSpPr>
        <p:spPr>
          <a:xfrm>
            <a:off x="3851280" y="2349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адо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0"/>
          <p:cNvSpPr/>
          <p:nvPr/>
        </p:nvSpPr>
        <p:spPr>
          <a:xfrm>
            <a:off x="7236000" y="2349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1"/>
          <p:cNvSpPr/>
          <p:nvPr/>
        </p:nvSpPr>
        <p:spPr>
          <a:xfrm>
            <a:off x="3851280" y="2781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ошвы н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2"/>
          <p:cNvSpPr/>
          <p:nvPr/>
        </p:nvSpPr>
        <p:spPr>
          <a:xfrm>
            <a:off x="7236000" y="278136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3"/>
          <p:cNvSpPr/>
          <p:nvPr/>
        </p:nvSpPr>
        <p:spPr>
          <a:xfrm>
            <a:off x="3851280" y="321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удь и жив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4"/>
          <p:cNvSpPr/>
          <p:nvPr/>
        </p:nvSpPr>
        <p:spPr>
          <a:xfrm>
            <a:off x="7236000" y="335772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5"/>
          <p:cNvSpPr/>
          <p:nvPr/>
        </p:nvSpPr>
        <p:spPr>
          <a:xfrm>
            <a:off x="7236000" y="3213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6"/>
          <p:cNvSpPr/>
          <p:nvPr/>
        </p:nvSpPr>
        <p:spPr>
          <a:xfrm>
            <a:off x="3851280" y="3645000"/>
            <a:ext cx="18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7"/>
          <p:cNvSpPr/>
          <p:nvPr/>
        </p:nvSpPr>
        <p:spPr>
          <a:xfrm>
            <a:off x="7164360" y="3645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8"/>
          <p:cNvSpPr/>
          <p:nvPr/>
        </p:nvSpPr>
        <p:spPr>
          <a:xfrm>
            <a:off x="3851280" y="4076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едро и гол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9"/>
          <p:cNvSpPr/>
          <p:nvPr/>
        </p:nvSpPr>
        <p:spPr>
          <a:xfrm>
            <a:off x="7236000" y="407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0"/>
          <p:cNvSpPr/>
          <p:nvPr/>
        </p:nvSpPr>
        <p:spPr>
          <a:xfrm>
            <a:off x="3924360" y="4508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п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31"/>
          <p:cNvSpPr/>
          <p:nvPr/>
        </p:nvSpPr>
        <p:spPr>
          <a:xfrm>
            <a:off x="7236000" y="450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2"/>
          <p:cNvSpPr/>
          <p:nvPr/>
        </p:nvSpPr>
        <p:spPr>
          <a:xfrm>
            <a:off x="250920" y="5300640"/>
            <a:ext cx="864216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33"/>
          <p:cNvSpPr/>
          <p:nvPr/>
        </p:nvSpPr>
        <p:spPr>
          <a:xfrm>
            <a:off x="250920" y="5373720"/>
            <a:ext cx="86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смотрите под лупой кожу ладонной поверхности кисти. Видны мелкие отверстия устий протоков потовых желез. Почему при волнении ладонные поверхности кисти оказываются влажными, а тыльные н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" descr="Строение кожи-1"/>
          <p:cNvPicPr/>
          <p:nvPr/>
        </p:nvPicPr>
        <p:blipFill>
          <a:blip r:embed="rId1"/>
          <a:stretch/>
        </p:blipFill>
        <p:spPr>
          <a:xfrm>
            <a:off x="468360" y="1052640"/>
            <a:ext cx="2394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6" name=""/>
          <p:cNvGraphicFramePr/>
          <p:nvPr/>
        </p:nvGraphicFramePr>
        <p:xfrm>
          <a:off x="108000" y="1052640"/>
          <a:ext cx="8856720" cy="5184720"/>
        </p:xfrm>
        <a:graphic>
          <a:graphicData uri="http://schemas.openxmlformats.org/drawingml/2006/table">
            <a:tbl>
              <a:tblPr/>
              <a:tblGrid>
                <a:gridCol w="1771560"/>
                <a:gridCol w="1771560"/>
                <a:gridCol w="1770120"/>
                <a:gridCol w="1771560"/>
                <a:gridCol w="1771920"/>
              </a:tblGrid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льца Руффи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рецептор тепл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льца Мессн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осязательный рецептор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цептор бо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льца Крауз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рецептор холод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льце Фатера-Пачи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прессорецептор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7" name="Picture 31" descr="Р-прикосновения"/>
          <p:cNvPicPr/>
          <p:nvPr/>
        </p:nvPicPr>
        <p:blipFill>
          <a:blip r:embed="rId1"/>
          <a:stretch/>
        </p:blipFill>
        <p:spPr>
          <a:xfrm>
            <a:off x="179280" y="112536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2" descr="р-тепла"/>
          <p:cNvPicPr/>
          <p:nvPr/>
        </p:nvPicPr>
        <p:blipFill>
          <a:blip r:embed="rId2"/>
          <a:stretch/>
        </p:blipFill>
        <p:spPr>
          <a:xfrm>
            <a:off x="1979640" y="112536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3" descr="р-холода"/>
          <p:cNvPicPr/>
          <p:nvPr/>
        </p:nvPicPr>
        <p:blipFill>
          <a:blip r:embed="rId3"/>
          <a:stretch/>
        </p:blipFill>
        <p:spPr>
          <a:xfrm>
            <a:off x="3708360" y="1125360"/>
            <a:ext cx="1657440" cy="16560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4" descr="Р"/>
          <p:cNvPicPr/>
          <p:nvPr/>
        </p:nvPicPr>
        <p:blipFill>
          <a:blip r:embed="rId4"/>
          <a:stretch/>
        </p:blipFill>
        <p:spPr>
          <a:xfrm>
            <a:off x="5508720" y="1125360"/>
            <a:ext cx="1630440" cy="1656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5" descr="Р---боли"/>
          <p:cNvPicPr/>
          <p:nvPr/>
        </p:nvPicPr>
        <p:blipFill>
          <a:blip r:embed="rId5"/>
          <a:stretch/>
        </p:blipFill>
        <p:spPr>
          <a:xfrm>
            <a:off x="7236000" y="1125360"/>
            <a:ext cx="1633320" cy="16495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6" descr="Копия Копия Холод"/>
          <p:cNvPicPr/>
          <p:nvPr/>
        </p:nvPicPr>
        <p:blipFill>
          <a:blip r:embed="rId6"/>
          <a:stretch/>
        </p:blipFill>
        <p:spPr>
          <a:xfrm>
            <a:off x="179280" y="4941720"/>
            <a:ext cx="1606680" cy="9446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7" descr="Копия Копия Холод"/>
          <p:cNvPicPr/>
          <p:nvPr/>
        </p:nvPicPr>
        <p:blipFill>
          <a:blip r:embed="rId7"/>
          <a:stretch/>
        </p:blipFill>
        <p:spPr>
          <a:xfrm>
            <a:off x="1908000" y="4941720"/>
            <a:ext cx="1656000" cy="9129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8" descr="Копия Копия Холод"/>
          <p:cNvPicPr/>
          <p:nvPr/>
        </p:nvPicPr>
        <p:blipFill>
          <a:blip r:embed="rId8"/>
          <a:stretch/>
        </p:blipFill>
        <p:spPr>
          <a:xfrm>
            <a:off x="3708360" y="4941720"/>
            <a:ext cx="1663920" cy="9493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9" descr="Копия Копия Холод"/>
          <p:cNvPicPr/>
          <p:nvPr/>
        </p:nvPicPr>
        <p:blipFill>
          <a:blip r:embed="rId9"/>
          <a:stretch/>
        </p:blipFill>
        <p:spPr>
          <a:xfrm>
            <a:off x="5508720" y="4941720"/>
            <a:ext cx="1655640" cy="9320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0" descr="Копия Копия Холод"/>
          <p:cNvPicPr/>
          <p:nvPr/>
        </p:nvPicPr>
        <p:blipFill>
          <a:blip r:embed="rId10"/>
          <a:stretch/>
        </p:blipFill>
        <p:spPr>
          <a:xfrm>
            <a:off x="7308720" y="4941720"/>
            <a:ext cx="1584360" cy="92268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41"/>
          <p:cNvSpPr/>
          <p:nvPr/>
        </p:nvSpPr>
        <p:spPr>
          <a:xfrm>
            <a:off x="108000" y="189000"/>
            <a:ext cx="8856720" cy="718920"/>
          </a:xfrm>
          <a:prstGeom prst="rect">
            <a:avLst/>
          </a:prstGeom>
          <a:solidFill>
            <a:srgbClr val="a564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2"/>
          <p:cNvSpPr/>
          <p:nvPr/>
        </p:nvSpPr>
        <p:spPr>
          <a:xfrm>
            <a:off x="108000" y="189000"/>
            <a:ext cx="88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поставьте раздражитель и рецепторы кожи, воспринимающие соответствующее разд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Давление"/>
          <p:cNvPicPr/>
          <p:nvPr/>
        </p:nvPicPr>
        <p:blipFill>
          <a:blip r:embed="rId1"/>
          <a:stretch/>
        </p:blipFill>
        <p:spPr>
          <a:xfrm>
            <a:off x="179280" y="1292400"/>
            <a:ext cx="8785440" cy="451296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6"/>
          <p:cNvSpPr/>
          <p:nvPr/>
        </p:nvSpPr>
        <p:spPr>
          <a:xfrm>
            <a:off x="179280" y="189000"/>
            <a:ext cx="878544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179280" y="33336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ак воспринимается давление тыльной стороны карандаша коже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179280" y="5950080"/>
            <a:ext cx="878544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соотношение орг осязан"/>
          <p:cNvPicPr/>
          <p:nvPr/>
        </p:nvPicPr>
        <p:blipFill>
          <a:blip r:embed="rId1"/>
          <a:stretch/>
        </p:blipFill>
        <p:spPr>
          <a:xfrm>
            <a:off x="2247840" y="1700280"/>
            <a:ext cx="4326120" cy="494172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5"/>
          <p:cNvSpPr/>
          <p:nvPr/>
        </p:nvSpPr>
        <p:spPr>
          <a:xfrm>
            <a:off x="179280" y="189000"/>
            <a:ext cx="8713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250920" y="189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Если бы размер частей нашего тела соответствовал числу расположенных на нем рецепторов, то мы напоминали бы вот такое существо. Где на теле человека  больше всего  находится рецептор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208080" y="182520"/>
            <a:ext cx="8697960" cy="78732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285840" y="1071360"/>
            <a:ext cx="86868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4e3b30"/>
                </a:solidFill>
                <a:latin typeface="Franklin Gothic Book"/>
              </a:rPr>
              <a:t>1. Какое из  этих суждений верно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Обмен веществ происходит..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а) между внешней средой  и организмом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б) только во внутренней среде организма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в) в пищеварительном тракте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г) только в клетках тканей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4e3b30"/>
                </a:solidFill>
                <a:latin typeface="Franklin Gothic Book"/>
              </a:rPr>
              <a:t>2. Каково основное значение пластического обмена веществ в клетках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а) строительство органических веществ и накопление энергии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б) производство органических веществ и накопление энергии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в) выделение отходов обмена веществ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г) поддержание температуры тел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4e3b30"/>
                </a:solidFill>
                <a:latin typeface="Franklin Gothic Book"/>
              </a:rPr>
              <a:t>3. Что наблюдается при недостатке витамина В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а) отставание в росте и куриная слепота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б) нервный паралич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в) рахит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г) цинг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8"/>
          <p:cNvSpPr/>
          <p:nvPr/>
        </p:nvSpPr>
        <p:spPr>
          <a:xfrm>
            <a:off x="3564000" y="2492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3635280" y="34290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9"/>
          <p:cNvSpPr/>
          <p:nvPr/>
        </p:nvSpPr>
        <p:spPr>
          <a:xfrm>
            <a:off x="3995640" y="333360"/>
            <a:ext cx="4969080" cy="61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4284720" y="1557360"/>
            <a:ext cx="453528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то такое «гусиная кожа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чему волосы поднимаются дыб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4211640" y="907920"/>
            <a:ext cx="4392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то по строению представляет собой воло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Волосяной фоликул"/>
          <p:cNvPicPr/>
          <p:nvPr/>
        </p:nvPicPr>
        <p:blipFill>
          <a:blip r:embed="rId1"/>
          <a:stretch/>
        </p:blipFill>
        <p:spPr>
          <a:xfrm>
            <a:off x="250920" y="333360"/>
            <a:ext cx="3529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5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"/>
          <p:cNvGraphicFramePr/>
          <p:nvPr/>
        </p:nvGraphicFramePr>
        <p:xfrm>
          <a:off x="0" y="0"/>
          <a:ext cx="9144000" cy="6899400"/>
        </p:xfrm>
        <a:graphic>
          <a:graphicData uri="http://schemas.openxmlformats.org/drawingml/2006/table">
            <a:tbl>
              <a:tblPr/>
              <a:tblGrid>
                <a:gridCol w="4140360"/>
                <a:gridCol w="5003640"/>
              </a:tblGrid>
              <a:tr h="1038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ризн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Вывод о здоровье или заболевани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ладкие, бледно-розовые ног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доров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Бледный цвет ног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боле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Желтизна ног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Болезни пече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иний цвет ног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ердечная недостато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гнутая и выпуклая форма ног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едостаток железа в организ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линные линии на ногтя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лохая всасываемость в системе пищевар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перечные бороз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знак стресса, плохое пит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4" name="Text Box 35"/>
          <p:cNvSpPr/>
          <p:nvPr/>
        </p:nvSpPr>
        <p:spPr>
          <a:xfrm>
            <a:off x="826920" y="0"/>
            <a:ext cx="605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 txBox="1"/>
          <p:nvPr/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.Прочитать  параграф 39, ответить на вопросы 1-4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214200" y="0"/>
            <a:ext cx="877752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4e3b30"/>
                </a:solidFill>
                <a:latin typeface="Franklin Gothic Book"/>
              </a:rPr>
              <a:t>4. Что строится в клетках человека из аминокислот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а) чужие белки,</a:t>
            </a: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б)крахма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в)витамины</a:t>
            </a: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г) собственные белк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4e3b30"/>
                </a:solidFill>
                <a:latin typeface="Franklin Gothic Book"/>
              </a:rPr>
              <a:t>5. Какие их этих  веществ не выводятся из организма во внешнюю среду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а) вода и углекислый газ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б) аминокислоты, углеводы и кислород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в) мочевина, </a:t>
            </a: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г) вода и сол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4e3b30"/>
                </a:solidFill>
                <a:latin typeface="Franklin Gothic Book"/>
              </a:rPr>
              <a:t>6. Какой из этих ответов наиболее полно характеризует процесс обмена веществ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а) потребление пищи, переваривание и усваивание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б) синтез органических веществ в клетках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в) накопление энергии путем расщепления органических веществ в клетках и выделение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4e3b30"/>
                </a:solidFill>
                <a:latin typeface="Franklin Gothic Book"/>
              </a:rPr>
              <a:t>7. Какие продукты содержат много витамина С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а) овощи и фрукты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б) печень и свежее мясо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в) рыбий жыр и яйцо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4e3b30"/>
                </a:solidFill>
                <a:latin typeface="Franklin Gothic Book"/>
              </a:rPr>
              <a:t>г) хлеб из муки с отрубям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214200" y="285840"/>
            <a:ext cx="87775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4e3b30"/>
                </a:solidFill>
                <a:latin typeface="Franklin Gothic Book"/>
              </a:rPr>
              <a:t>8. Какое значение имеет белки в организм</a:t>
            </a:r>
            <a:r>
              <a:rPr b="0" lang="be-BY" sz="2000" spc="-1" strike="noStrike">
                <a:solidFill>
                  <a:srgbClr val="4e3b30"/>
                </a:solidFill>
                <a:latin typeface="Franklin Gothic Book"/>
              </a:rPr>
              <a:t>е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4e3b30"/>
                </a:solidFill>
                <a:latin typeface="Franklin Gothic Book"/>
              </a:rPr>
              <a:t>а) являются основным стройматериалом клетк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4e3b30"/>
                </a:solidFill>
                <a:latin typeface="Franklin Gothic Book"/>
              </a:rPr>
              <a:t>б)участвуют в свертывании крови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4e3b30"/>
                </a:solidFill>
                <a:latin typeface="Franklin Gothic Book"/>
              </a:rPr>
              <a:t>в) ферментативное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4e3b30"/>
                </a:solidFill>
                <a:latin typeface="Franklin Gothic Book"/>
              </a:rPr>
              <a:t>г) все ответы правильны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4e3b30"/>
                </a:solidFill>
                <a:latin typeface="Franklin Gothic Book"/>
              </a:rPr>
              <a:t>9. Основное значение воды для клетки организма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4e3b30"/>
                </a:solidFill>
                <a:latin typeface="Franklin Gothic Book"/>
              </a:rPr>
              <a:t>а) основной стройматериал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4e3b30"/>
                </a:solidFill>
                <a:latin typeface="Franklin Gothic Book"/>
              </a:rPr>
              <a:t>б) придает ей упругость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4e3b30"/>
                </a:solidFill>
                <a:latin typeface="Franklin Gothic Book"/>
              </a:rPr>
              <a:t>в) растворитель для неорганических веществ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4e3b30"/>
                </a:solidFill>
                <a:latin typeface="Franklin Gothic Book"/>
              </a:rPr>
              <a:t>г) главная среда биохимических реакци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4e3b30"/>
                </a:solidFill>
                <a:latin typeface="Franklin Gothic Book"/>
              </a:rPr>
              <a:t>10. Главное значение глюкозы для организма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4e3b30"/>
                </a:solidFill>
                <a:latin typeface="Franklin Gothic Book"/>
              </a:rPr>
              <a:t>а) транспорт кислорода и угликислого газа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4e3b30"/>
                </a:solidFill>
                <a:latin typeface="Franklin Gothic Book"/>
              </a:rPr>
              <a:t>б) главный источник энергии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4e3b30"/>
                </a:solidFill>
                <a:latin typeface="Franklin Gothic Book"/>
              </a:rPr>
              <a:t>в) основной стройматериал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4e3b30"/>
                </a:solidFill>
                <a:latin typeface="Franklin Gothic Book"/>
              </a:rPr>
              <a:t>г) ферментативная функци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285840" y="357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Ключи к тесту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1-а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6-г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be-BY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Критерии оценок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2-а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7-а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10 правильных ответов – “5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3-б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8-г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9-8  правильных ответов – “4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4-г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9-г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7-6 правильных ответов – “3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5-б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10-б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5-4 правильных ответов – “2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-16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8. Какое значение имеет белки в организме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0920" indent="-16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а) являются основным стройматериалом клет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0920" indent="-16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б)участвуют в свертывании крови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0920" indent="-16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в) ферментативное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0920" indent="-16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г) все ответы правильны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0920" indent="-16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9. Основное значение воды для клетки организма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0920" indent="-16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а) основной стройматериал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0920" indent="-16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б) придает ей упругость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0920" indent="-16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в) растворитель для неорганических веществ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0920" indent="-16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г) главная среда биохимических реакци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0920" indent="-16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10. Главное значение глюкозы для организма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0920" indent="-16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а) транспорт кислорода и угликислого газа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0920" indent="-16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б) главный источник энергии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0920" indent="-16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в) основной стройматериал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0920" indent="-16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г) ферментативная функц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0920" indent="-16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4e3b30"/>
                </a:solidFill>
                <a:latin typeface="Franklin Gothic Book"/>
              </a:rPr>
              <a:t>Ученики проводят взаимопроверк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457200" y="3141720"/>
            <a:ext cx="822960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 нашем организме это самый тяжелый орган, он весит 2кг 700гр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 нем содержится 250 тысяч «холодовых» и 30 тысяч «тепловых» рецепторов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На этом органе находится около 250 тысяч волос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лощадь кожи у взрослого человека достигает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,5 — 2,5 м²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7" name="Picture 7" descr="C:\Documents and Settings\Общий\Рабочий стол\кожа\Human_skin_structure.jpg"/>
          <p:cNvPicPr/>
          <p:nvPr/>
        </p:nvPicPr>
        <p:blipFill>
          <a:blip r:embed="rId2"/>
          <a:stretch/>
        </p:blipFill>
        <p:spPr>
          <a:xfrm>
            <a:off x="468360" y="189000"/>
            <a:ext cx="8136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450720" y="615960"/>
            <a:ext cx="8242560" cy="38275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Нашивка 3"/>
          <p:cNvSpPr/>
          <p:nvPr/>
        </p:nvSpPr>
        <p:spPr>
          <a:xfrm>
            <a:off x="7885080" y="5877000"/>
            <a:ext cx="484200" cy="4842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Цель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урока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Установить взаимосвязь строения и функции кожи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9:46:41Z</dcterms:created>
  <dc:creator>Граф</dc:creator>
  <dc:description/>
  <dc:language>en-US</dc:language>
  <cp:lastModifiedBy>2014г</cp:lastModifiedBy>
  <dcterms:modified xsi:type="dcterms:W3CDTF">2014-04-01T06:29:15Z</dcterms:modified>
  <cp:revision>37</cp:revision>
  <dc:subject/>
  <dc:title>Тема урока ?</dc:title>
</cp:coreProperties>
</file>