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BFF-13B1-4850-B0A4-62F8857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D46-9677-49F9-92AE-61EBD82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2AD64-EE4B-4B8C-AA7D-D7FF8813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DB4DD-48A6-462D-A30B-EA6EDB3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F1E7-7F77-4EF7-B8CD-D77AA9E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45FD6-783C-4CE9-98B6-058B2C3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C1C63-C22F-4B64-8DD1-6A67BE7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8F77-0556-4828-91A1-F445DD7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B3DBC-6E6F-4286-9A3D-FB62A9B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16289-9B11-4BAF-ADA2-D23F33D2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663E-AD54-4714-AA9E-5CA73AC8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6321-2F23-422C-B48E-AF7738CF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8B7-8D96-43B7-B14C-BA7723D7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D12A7-6A6C-45AF-8DBA-45E15C3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5574A-A8A0-4F34-8C9C-354D102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07800-B470-49D3-A18F-E367CC1E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ABA31-46DE-42C4-9A05-F589CE1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084FD-6F5C-47C2-9637-96DAF768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D9EBE-71DD-420F-AE4D-28B5DC7B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F3967-FAFE-4547-98F0-C23B19E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CFEC0-AEBF-4A37-B77B-24FF4B9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0088-3274-405D-9610-76FAF50D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74BEE-3F4E-43E1-A6F3-EC0D97D3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6A8-215B-4FEE-BD42-08C1258F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EC43-A602-4B8B-AFB2-C8D44BF9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7D970-419D-4FA1-887C-F5ED2884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F4F9-8B6A-4417-A64B-05895227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72272-93AA-4FD6-B2AF-1A45205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7B79-0FB6-4489-9DAE-0BB1BFE6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F697-A5E9-40B7-BF02-60FD5B9F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F9A36-8C23-4DF0-AFC1-D95C15FF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CE02F-AA7A-4F72-A095-3D76085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21F15-595D-41CA-A7F5-167490D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BE280-BC51-4546-B340-82BD460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7B34-6069-4D35-AEA6-F2B10659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EA34D-09BE-482C-BE1F-CC11866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C1652-5BF6-48A7-A646-0AA00562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94C8-DEBF-4A63-B7CD-F94220D8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DAF55-89F0-4DCE-932B-45BC4544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DC57F-4B13-4E9E-BF86-E24C8295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54081-67F8-41FB-B728-5AF7E29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747E8-9B17-450C-8099-CAE86F83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ED5F0-5B65-485F-8E64-75F572ED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5D1D5-C09B-452E-8343-43707FA1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E5D1C-CC0A-4C13-8C5F-E58D480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9EE4-5683-4713-A733-BC0A05E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BE9E1-435E-4681-933E-520ED62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90B90-AA19-4FF5-B010-A2E60C2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65A25-4902-434F-B20A-E9DCEDA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CE2CA-4C11-49BA-8484-E46906EA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E98E2-CFA2-4667-9167-6361560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F0FA0-41D4-4350-B318-3C98B28F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D4267-CA75-4069-B6F7-E2EF3D15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0BA20-FAEB-4387-BA72-87B1CADB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287B8-3B31-4CD1-A5FD-9D40AFF5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022D5-BB27-4809-B74E-A5B8E97B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6EE8-F1C2-4AD7-90DE-0EC2CDF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2D5A2-56AC-434D-8D89-E5AC5B5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F47FC-BB25-42F7-B6B5-1446802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0D37E-86C4-4FF5-ACA6-32B7D9D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D8B39-1026-4463-A2B4-A10519D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D2C14-E94C-474B-BBF3-1E07409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B3925-0ACA-40DB-8060-E2197FA3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8AD33-010F-4C7F-B7F0-F2024BFA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FC018-4894-4DC5-B492-FC9EAC5B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AB9CC-D601-441F-87ED-D5E5FBEC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D12DF-13B6-4DEA-AC82-01CEA018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F417-F316-4BFE-BE66-31A92208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67A53-BD02-4441-A07F-111708D9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8B8CB-7DAF-447C-A9E6-2ED2EFB1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3070B-1354-4034-AD8B-0D5E997E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09B7D-15F7-425B-AD78-6233ECD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35DFF-1BD5-4979-9E8A-AC148C9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BBAD6-B95A-4841-8DA3-FAD5F0C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D9EE0-9357-4753-88A6-376BDB2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F650A-F04A-4A59-B4C1-4EB54DD7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736EA-3D47-42D9-8DCA-6027C250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CBCB-94E3-440C-95F3-44794F74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C434-E01F-4C37-A9BB-0587CFB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D57-5997-4F37-B176-8C8DE12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1FF-5F72-49B0-8B18-F7770042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2F0A-739B-4CEF-B36D-873C61E9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F2AF-80B1-4449-A5C7-7CE47CB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A289-6673-45CE-B133-A75F3E6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1161-CE34-4156-B4A6-5EBA8D6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18E9-6D40-4E6D-B917-69E5E5A0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F7CA-F65E-4F25-8BE9-2A08311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4865-3753-4A1E-B9AE-E130762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6C14-34AF-46B9-B090-087C797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280E-B3A9-4468-B174-10C83EA1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E90A-814F-4AEA-B1AC-6C9C2613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DE2-95E9-4DE8-A22D-4B3E29D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3A3F-F91E-4F5D-8C0A-997BECD6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14B9-9FC0-465A-A18A-678D574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8080-6F0A-4935-8A86-D84A2D4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EFE0-92DA-4DAB-85DF-2E62E5F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34DD-2327-46D5-8F7B-C8E2616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B0A1-194E-45B8-87AB-80F7666F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7D0F-7B7F-4D74-ABE3-0287682F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5BD0D-54CC-441E-A2A0-B5B3FA7E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2151-B046-4CD4-8EAA-28A4714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83AB-F0F1-43EF-8729-548AEED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E4E-8F12-4EB9-8A4D-E1E239C1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AB8A-EA59-4108-B573-C39CF5D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FF27-6F6A-43F1-B919-5124AFF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5291-10A8-4553-9460-B3A7E49E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8F2A-E5ED-4D4B-96B1-FB85289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2342-1B67-4759-93B0-87F435E1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F6AF-A273-4AEE-93CB-D13F9E6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512C-0B6C-4C82-925E-66993AC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1A30-C2E3-44C8-88B8-95875FE3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FEA9-676D-436D-B31C-45FF1676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9ABC-27CC-4019-BAAC-11D10597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520-1B12-4F6E-B99D-941F6BE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A444-6218-4F0B-92C2-FCF9C887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8F85-A9F0-4814-93CD-B2952CCA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C63F-5CA0-49FF-B081-02F5729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1410-9EA0-4469-B740-F61DBD0C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5372D-D0C2-4038-9356-C3EE8D1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2E5D-F881-41AF-B596-26BD875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87F3-CB17-4967-9659-54E944A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FEE1-89FB-412F-BC29-006E41F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DEA0-0D06-47DB-B5EC-C984269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C14A-9B6F-4C7C-A584-9D4F005A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16A-67E8-43F8-96CB-FFBDADE7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5F84F-6245-427E-B3E2-2BB97AC1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D070-61F1-48FF-878B-ADE7A959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CDD9-01F5-4611-A44B-613D57E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DECE-5A86-432B-9C9A-59E012E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1869-AD17-4202-BA4A-AAC177A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5C053-8F7F-4BB2-8FA0-8B52851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6069-E6F3-41EE-9DD5-BDE1473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5F4B-2926-4F23-B821-9936FD6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37A15-BC1A-4901-AD16-B14A8B9C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A291D-9626-4700-B1A6-1FB75BA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15E-DB8E-4054-B716-4EF051D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C057-AFF1-4E67-9363-D202F6E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E63E-7060-400B-8FD5-336DA340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B929-3F05-43FA-A186-3B5A57AF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074A-3B83-4334-82C2-F1B8A9DF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BEE4-2415-4216-8B3D-2A83260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F686-FAA8-4975-8ADB-ECDB3E9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FB3A-54DC-4214-8069-3007A8F9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7F10-9546-4918-9C9A-08CBBB1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C8719-AD09-491C-8F4B-48AA30D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C4B9B-3649-432B-B73F-087231C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E78-D18D-4833-8C00-09D9B7E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A728-A117-4E12-910C-9A56B55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BE1A-20A7-4146-8EAE-439C45B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9873-A71A-4FC3-B90C-8B89143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2277-9965-474B-AA4A-9F558505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0D9E-F3AC-4579-8271-09F0968A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6D77-2C03-4E2D-9B2F-71E4AC8F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9DF6E-C630-4FF3-8086-74A29BC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99DE-CA46-40B8-AE2B-353485B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34E5-FF2A-4A33-B681-DA6EFEB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77AE-4104-4F44-8FB0-08D87BE6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602-67DD-4DEF-A88A-690C50E1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1408A-836F-40AB-9E6A-600692A8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B8B31-E0A0-4549-A6DE-D75F758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52E81-E015-4983-BD2E-76DF5359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6939-E2AC-4897-BF2B-3B64AA1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46C8-BF43-444C-82D0-5A6CB9C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2E016-CED2-4739-812C-85FA2435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260F-0866-4896-8E4C-C32605D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A8E15-8511-44C5-8846-8192D71A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850D-53EB-4AD1-A4B2-F2091893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CBAB1-FCC4-4BC7-8BF4-543A67A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BD8-C3F3-4CAF-A468-1CC5E2A236F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797-621B-4895-BFE9-407B949F5BD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07BD-3563-49F3-8867-CDF81592544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AD4-9C8A-4554-8BC1-2355ECB7952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0FD-2E2C-4C3F-85C8-6C4DE2285D0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B3A6-6409-40A0-93CC-4D8E3C2020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3A4-660B-4995-A9E7-99F20E7B4B4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D1A-3872-48E1-92DF-BC5AAA7BDB9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A2F-8028-46EE-8D4F-C0A293E969D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AE15-D5EF-4E53-8726-92862A0FA07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6EC-B90C-4E08-A61B-A22DC5AEAA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4092-CEBA-42F7-8900-3BDC3652CEB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1E9F-B6EC-4EAB-AAA5-7E05573587C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6658-5822-446E-B88C-9A474BC3C0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mbria"/>
              </a:rPr>
              <a:t>Международная (миротворческая) деятельность Вооруженных сил РФ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 rot="20700000">
            <a:off x="2201400" y="5027400"/>
            <a:ext cx="46548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езентация по ОБЖ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Ученицы 11А класс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иноградовой Елизаветы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 rot="900000">
            <a:off x="0" y="2922120"/>
            <a:ext cx="5691240" cy="15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Международная деятельность ВС РФ сегодня неразрывно связана с проведением военной реформы в нашей стране и реформированием вооруженных сил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35" name="Picture 6" descr="121240218682805"/>
          <p:cNvPicPr/>
          <p:nvPr/>
        </p:nvPicPr>
        <p:blipFill>
          <a:blip r:embed="rId1"/>
          <a:stretch/>
        </p:blipFill>
        <p:spPr>
          <a:xfrm rot="883800">
            <a:off x="5789520" y="3745080"/>
            <a:ext cx="2971800" cy="228600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7"/>
          <p:cNvSpPr/>
          <p:nvPr/>
        </p:nvSpPr>
        <p:spPr>
          <a:xfrm flipH="1">
            <a:off x="457200" y="35100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-21304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200160"/>
            <a:ext cx="5532480" cy="549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ная цель военной реформы -обеспечение национальных интересов России, которые в оборонной сфере заключаются в обеспечении безопасности личности, общества и государства от военной агрессии со стороны других государств </a:t>
            </a: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39" name="Picture 4" descr="1194686025_0403_250x200"/>
          <p:cNvPicPr/>
          <p:nvPr/>
        </p:nvPicPr>
        <p:blipFill>
          <a:blip r:embed="rId1"/>
          <a:stretch/>
        </p:blipFill>
        <p:spPr>
          <a:xfrm>
            <a:off x="6068880" y="609480"/>
            <a:ext cx="27511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настоящее время для предотвращения войны и вооруженных конфликтов отдается предпочтение политическим, экономическим и другим невоенным средствам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41" name="Picture 6" descr="20051130153450"/>
          <p:cNvPicPr/>
          <p:nvPr/>
        </p:nvPicPr>
        <p:blipFill>
          <a:blip r:embed="rId1"/>
          <a:stretch/>
        </p:blipFill>
        <p:spPr>
          <a:xfrm>
            <a:off x="1600200" y="2349360"/>
            <a:ext cx="57913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 rot="20919000">
            <a:off x="4114440" y="22788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щита национальных интересов государства предполагает, что Военные силы РФ должны обеспечивать надежнаую защиту страны и осуществлять миротворческую деятельности как самостоятельно, так и в составе международных организаций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43" name="Picture 12" descr=""/>
          <p:cNvPicPr/>
          <p:nvPr/>
        </p:nvPicPr>
        <p:blipFill>
          <a:blip r:embed="rId1"/>
          <a:stretch/>
        </p:blipFill>
        <p:spPr>
          <a:xfrm rot="20950200">
            <a:off x="431280" y="1463760"/>
            <a:ext cx="400392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"/>
          <p:cNvSpPr txBox="1"/>
          <p:nvPr/>
        </p:nvSpPr>
        <p:spPr>
          <a:xfrm rot="900000">
            <a:off x="3470040" y="665280"/>
            <a:ext cx="4706640" cy="57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57480" indent="-3574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аким образом, в настоящее время Военные Силы руководством страны рассматриваются как фактор сдерживания ,как крайнее средство,применяемое в случаях,когда использование мирных средств не привело к ликвидации военной угрозы интересам стран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5105520" y="2282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53880" indent="-353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ка и обучение военнослужащих миротворческого контингента осуществляется на базах Ленинградского,Приволжско-Уральского военных округов,а также на высших офицерских курсах "Выстрел" в городе Солнечногорск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49" name="Picture 4" descr="post-108-1108562346"/>
          <p:cNvPicPr/>
          <p:nvPr/>
        </p:nvPicPr>
        <p:blipFill>
          <a:blip r:embed="rId1"/>
          <a:stretch/>
        </p:blipFill>
        <p:spPr>
          <a:xfrm>
            <a:off x="152280" y="762120"/>
            <a:ext cx="4953240" cy="5105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diwymap"/>
          <p:cNvPicPr/>
          <p:nvPr/>
        </p:nvPicPr>
        <p:blipFill>
          <a:blip r:embed="rId2"/>
          <a:stretch/>
        </p:blipFill>
        <p:spPr>
          <a:xfrm>
            <a:off x="5410080" y="4114800"/>
            <a:ext cx="344808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1640" y="4568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период прохождения службы в составе спецального воинского контингента военнослужащие пользуются статусом, привелегиями, предоставляемыми Конвенцие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53" name="Picture 4" descr="17986"/>
          <p:cNvPicPr/>
          <p:nvPr/>
        </p:nvPicPr>
        <p:blipFill>
          <a:blip r:embed="rId1"/>
          <a:stretch/>
        </p:blipFill>
        <p:spPr>
          <a:xfrm>
            <a:off x="228600" y="1295280"/>
            <a:ext cx="4343400" cy="399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733920" y="151920"/>
            <a:ext cx="49528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еждународная деятельность Военных Сил РФ включает в себя проведение совместных учений, дружественные визиты и другие мероприятия, направленные на упрочнение общего мира и взаимопонимани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56" name="Picture 6" descr="C:\Users\Юзер\Desktop\дет2.jpg"/>
          <p:cNvPicPr/>
          <p:nvPr/>
        </p:nvPicPr>
        <p:blipFill>
          <a:blip r:embed="rId1"/>
          <a:stretch/>
        </p:blipFill>
        <p:spPr>
          <a:xfrm>
            <a:off x="214200" y="152280"/>
            <a:ext cx="3240360" cy="25909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7" descr="C:\Users\Юзер\Desktop\дет.jpg"/>
          <p:cNvPicPr/>
          <p:nvPr/>
        </p:nvPicPr>
        <p:blipFill>
          <a:blip r:embed="rId2"/>
          <a:stretch/>
        </p:blipFill>
        <p:spPr>
          <a:xfrm>
            <a:off x="4110120" y="2895480"/>
            <a:ext cx="48052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</dc:creator>
  <dc:description/>
  <dc:language>en-US</dc:language>
  <cp:lastModifiedBy>Юзер</cp:lastModifiedBy>
  <dcterms:modified xsi:type="dcterms:W3CDTF">2014-04-16T20:57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