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B38-4FF4-448D-942B-8CA0AFE4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EC7-8F10-4380-B023-BFDCEE87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B0BAA-F68A-4207-9025-F02A490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F3D3B-E77B-4F36-9CEF-66841E2D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CB8237-710C-4BD1-9B2E-614C61E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7AA0F3-9102-4E38-80E9-AE805BA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76D76-0E9B-41FB-B090-F897F50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A01E0-5BC4-4434-99A1-1898FF1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C06E2-254F-4F17-8B0D-1321976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F6AB9-D8D9-45B1-9E40-5DE7A8E2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C2E0E-8F30-42EA-A4BD-432F1D0D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E40-AF93-4D45-A405-8BE5E37C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3C0-1328-4018-A976-B1A4DC35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6C499-42CA-4C17-97A4-DDB9A086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ABDBE-B767-4B13-860E-FCDE096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30CE-47FD-41EE-A2DE-B2392DD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EABB-99DD-46BD-97E3-34D09BA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6137C-6405-4B33-8B20-9793EFB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DFD0-22B6-4C59-963A-9EA2204A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3DC4-39E9-473F-A276-2C021FB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6BD-0AF5-4A17-8180-C397247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F38E6-7071-481D-A4AA-DBFD64E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F2F8C-C24C-48B4-BC99-51E30E0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26F81-4737-41E3-B432-B0825CB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F1272-2B76-40C5-B98E-EF1C27DC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087C-EC76-476D-AFD3-FE2856DC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DF52-B55A-46CE-8E6D-233C9997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6A80-DFA8-4533-98CB-D22B33B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95EC-95C1-44EE-84CD-DC481B3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E8ED-B304-4E40-9455-4CDA699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6B70-BE83-4EA5-85DF-308D115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BB8-7902-417C-98BA-2C7D6CC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FA92-818B-4ACD-9246-EDAAF1F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D49C-E8BF-41D1-96D3-C224926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DD7D-F81F-4C2F-802A-F39087C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5EAB-E68E-43F0-BB05-B7E7866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699C-2ABF-407D-83FE-3F53526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54EB-0778-460B-9173-D08E47F1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42B0-829E-4ED4-ADA3-C727CC38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FA613-CE45-4095-85E4-0F2FB77A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CA6DC-2E44-4E76-AFD3-48B30B3B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BD950-1744-4259-9C08-013C0889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2A7-8BEB-49BF-AEC0-62B7E79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B67EC-48F0-49E6-9DF9-0952E2C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90284-FB9B-4CA4-BFA8-8CBBD56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89FAF-0FE3-45BB-A023-E9364E4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8CDF7-06FB-4F92-96BA-CB3FDD1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7E9B4-62A5-4D69-A409-D57B8BD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EFEF5-D613-44BA-8275-555015F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1497A-6868-4D12-A676-F31919A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B2538-0449-458B-AC7F-7F59246F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8C1D4-A766-4C98-B277-0EB59796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7188-7136-444D-92B5-3F47F2E1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B25-DC37-4070-8A0E-EB426CE8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5A91D-AB14-45FF-8AB0-32D6934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67F4-1970-4E32-B647-BACC8B8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CA54-1509-4A75-B91A-BED1E24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2D6A-8E35-444A-90A6-E4535DE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1CD3-C9BA-4657-A661-5BF06A7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09A6-0D1B-4AE5-A394-B330264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3DC7-19B7-4CC7-8246-23B86F7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5905-8719-4997-AB8C-BDC9434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410A8-4CC4-4EDE-92A9-3C44CDE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F919-18B5-4A64-AC53-DC840A5F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F50-82E1-46B9-B5E4-844FDFDB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CB92-FA9F-4E2C-919D-E1448258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4BE6-C9D4-4852-A40E-47C86E84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96A8-0D1B-47BE-8AE2-2348A990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B11AF-53D8-4F68-ACE0-84B9803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9F360-2F87-4523-BDA8-4AF4E3A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85D0-32BF-46B2-B87B-7DE44F55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9DED-9F07-45F5-9705-9DA476A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DFD2-A36D-497E-AA8D-5C65015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185A1-3F17-4B03-B42E-93DD44A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73D2-BEBB-4747-BAEA-A26CAB2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279-CC8D-4DBB-969E-3A6B666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003D-D635-4B13-87C6-A19E64C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7FD8C-16D0-4015-BE95-1ADF2784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78BF-C58A-4C98-82C6-1D013332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A220-96DD-490C-97AE-5E808EA5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8D29-1A8F-40D2-BB84-FBAC6E1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FFD0-3950-408C-B5BE-73D887CB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D82C-4ECE-45EE-AB15-5BE8D163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AF4F-8292-4650-8F00-13CA3BE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623E-5319-4AAF-AA0B-31A3CCD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9EBD-C8AD-4908-9B98-04315BD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A9-D952-43B5-B4ED-D766DD8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0E05-B365-4B44-98D8-BC084A6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C2634-64CB-4EF1-9745-4BAE56B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9F158-6D79-4C9D-BE71-7978D50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25EA-BF48-4A7D-9556-18D8337B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EC271-7BC8-4A79-B3F8-7B8563C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6F0C3-F0A4-40A7-901B-0AC31D9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38235-1D3E-451A-8CF7-7A96385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4C09A-0B4E-4C23-B0F2-9B4AD89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33B15-5B33-4117-AF4B-18F70D37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35053-9B74-457A-A7BE-3C9FAFF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6FB-8C63-4BE4-A77D-352177F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5C279-4B22-4F57-A719-BFC31D9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9A72E-4193-4D3A-B929-AC4A9E3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1BF3D-3F87-4573-B0E6-137A0A4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78480-C17B-4275-B249-B1A003C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F8214-FFA2-471F-88D0-E893AC64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89210-A1A3-406A-86D1-D87CCA88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0743B-1C19-4609-B5D7-8798ED7D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3C3C1-0133-49FD-8F54-C90DC917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27A5B-65F6-4755-952C-854A13D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BB339-7B54-40E1-A764-FA1D6000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6B5-F587-4E51-B500-EEBD9D86446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1D26-BD4A-4E51-BA16-84BC98041BC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F35-E6F0-4F00-97FE-48F3EBC9FA4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a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087B-D9A9-4CA4-9053-EEB6DBDFCC4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9B4C-4E09-4EB0-A677-E3ACD887DE9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BFA-1251-4CF4-A1C4-E7363D5720A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BC3-FF9E-457E-9DCA-DA852E7B236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a6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718-C73E-434C-AC67-91C6F54A425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5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8d5b8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8d5b8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C376-74FD-42A9-947E-3B21C9AFDE3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64296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МАЛЕНЬКИЙ ДРУ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3" descr="PC124407.JPG"/>
          <p:cNvPicPr/>
          <p:nvPr/>
        </p:nvPicPr>
        <p:blipFill>
          <a:blip r:embed="rId1"/>
          <a:stretch/>
        </p:blipFill>
        <p:spPr>
          <a:xfrm>
            <a:off x="3857760" y="150012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PC124409.JPG"/>
          <p:cNvPicPr/>
          <p:nvPr/>
        </p:nvPicPr>
        <p:blipFill>
          <a:blip r:embed="rId2"/>
          <a:stretch/>
        </p:blipFill>
        <p:spPr>
          <a:xfrm>
            <a:off x="357120" y="571680"/>
            <a:ext cx="42148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3" descr="PC304422.JPG"/>
          <p:cNvPicPr/>
          <p:nvPr/>
        </p:nvPicPr>
        <p:blipFill>
          <a:blip r:embed="rId1"/>
          <a:stretch/>
        </p:blipFill>
        <p:spPr>
          <a:xfrm>
            <a:off x="2428920" y="357120"/>
            <a:ext cx="464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3" descr="PC124405.JPG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3"/>
          <p:cNvSpPr/>
          <p:nvPr/>
        </p:nvSpPr>
        <p:spPr>
          <a:xfrm>
            <a:off x="482760" y="1714680"/>
            <a:ext cx="866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же учиться доброте, учить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икого не обижать и помог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, кто попал в 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запомним, что все насеком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нужны и важны в приро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"/>
          <p:cNvSpPr/>
          <p:nvPr/>
        </p:nvSpPr>
        <p:spPr>
          <a:xfrm>
            <a:off x="793800" y="571680"/>
            <a:ext cx="212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28760" y="1857240"/>
            <a:ext cx="850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ть умение восхищаться красотой природы,  сопереживать  и стремление оказывать помощ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756720" y="57168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285840" y="2000160"/>
            <a:ext cx="8358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ять представления детей о насеко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е сравнивать, выделять об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тличительные признаки насеко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любозна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533160" y="285840"/>
            <a:ext cx="816336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Коробкова Татьяна Дмитриев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и их родители средней группы «Морячок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сер, бу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стилин, круп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нты, лес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рстяная ни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штан, листья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4" descr="P3114639.JPG"/>
          <p:cNvPicPr/>
          <p:nvPr/>
        </p:nvPicPr>
        <p:blipFill>
          <a:blip r:embed="rId1"/>
          <a:stretch/>
        </p:blipFill>
        <p:spPr>
          <a:xfrm>
            <a:off x="285840" y="2286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3" descr="P3114637.JPG"/>
          <p:cNvPicPr/>
          <p:nvPr/>
        </p:nvPicPr>
        <p:blipFill>
          <a:blip r:embed="rId2"/>
          <a:stretch/>
        </p:blipFill>
        <p:spPr>
          <a:xfrm>
            <a:off x="4357800" y="285840"/>
            <a:ext cx="44560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3" descr="PC084376.JPG"/>
          <p:cNvPicPr/>
          <p:nvPr/>
        </p:nvPicPr>
        <p:blipFill>
          <a:blip r:embed="rId1"/>
          <a:stretch/>
        </p:blipFill>
        <p:spPr>
          <a:xfrm>
            <a:off x="4714920" y="35712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4" descr="PC084381.JPG"/>
          <p:cNvPicPr/>
          <p:nvPr/>
        </p:nvPicPr>
        <p:blipFill>
          <a:blip r:embed="rId2"/>
          <a:stretch/>
        </p:blipFill>
        <p:spPr>
          <a:xfrm>
            <a:off x="428760" y="35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5" descr="PC084383.JPG"/>
          <p:cNvPicPr/>
          <p:nvPr/>
        </p:nvPicPr>
        <p:blipFill>
          <a:blip r:embed="rId3"/>
          <a:stretch/>
        </p:blipFill>
        <p:spPr>
          <a:xfrm>
            <a:off x="42876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6" descr="PC124412.JPG"/>
          <p:cNvPicPr/>
          <p:nvPr/>
        </p:nvPicPr>
        <p:blipFill>
          <a:blip r:embed="rId4"/>
          <a:stretch/>
        </p:blipFill>
        <p:spPr>
          <a:xfrm>
            <a:off x="4786200" y="357192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3" descr="PC084380.JPG"/>
          <p:cNvPicPr/>
          <p:nvPr/>
        </p:nvPicPr>
        <p:blipFill>
          <a:blip r:embed="rId1"/>
          <a:stretch/>
        </p:blipFill>
        <p:spPr>
          <a:xfrm>
            <a:off x="4857840" y="285840"/>
            <a:ext cx="3929040" cy="28638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PC304424.JPG"/>
          <p:cNvPicPr/>
          <p:nvPr/>
        </p:nvPicPr>
        <p:blipFill>
          <a:blip r:embed="rId2"/>
          <a:stretch/>
        </p:blipFill>
        <p:spPr>
          <a:xfrm>
            <a:off x="500040" y="28584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PC304416.JPG"/>
          <p:cNvPicPr/>
          <p:nvPr/>
        </p:nvPicPr>
        <p:blipFill>
          <a:blip r:embed="rId3"/>
          <a:stretch/>
        </p:blipFill>
        <p:spPr>
          <a:xfrm>
            <a:off x="2500200" y="3214800"/>
            <a:ext cx="41036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PC084389.JPG"/>
          <p:cNvPicPr/>
          <p:nvPr/>
        </p:nvPicPr>
        <p:blipFill>
          <a:blip r:embed="rId1"/>
          <a:stretch/>
        </p:blipFill>
        <p:spPr>
          <a:xfrm>
            <a:off x="714240" y="361800"/>
            <a:ext cx="792972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3" descr="PC084379.JPG"/>
          <p:cNvPicPr/>
          <p:nvPr/>
        </p:nvPicPr>
        <p:blipFill>
          <a:blip r:embed="rId1"/>
          <a:stretch/>
        </p:blipFill>
        <p:spPr>
          <a:xfrm>
            <a:off x="428760" y="468360"/>
            <a:ext cx="82864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19:09:21Z</dcterms:created>
  <dc:creator>USER</dc:creator>
  <dc:description/>
  <dc:language>en-US</dc:language>
  <cp:lastModifiedBy>USER</cp:lastModifiedBy>
  <dcterms:modified xsi:type="dcterms:W3CDTF">2015-03-10T20:00:12Z</dcterms:modified>
  <cp:revision>9</cp:revision>
  <dc:subject/>
  <dc:title>Слайд 1</dc:title>
</cp:coreProperties>
</file>