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8E48-CDAB-46F5-8448-6AF0C481F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C7C1-F08C-4B22-BB87-8801DDC8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272C-7621-46EF-9298-1D0309A28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2FE2-8775-421E-A55B-354FF7844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591A-6DC9-4CA5-904C-07B080312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AB03-0474-4FEF-825B-E3022F04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8D0B-811C-41B8-BB3B-8E3D50FC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287B1-9A57-4109-A566-C2E3FBA6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7395-227B-4B82-9450-E62F2118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1B74-BF9F-4EED-9296-8863D7CC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EB21-7673-43C2-80DE-C485568F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4E70-58DD-4611-B8D7-00B78CE4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3A92-9183-44F8-AA23-222DE82B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B65F-7C80-4DF9-BF43-E0B83181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BF11-A7BD-4FC7-88A9-755BAD0F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FD6F-2505-476A-8246-82499C412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F751-2534-48B9-94A7-0AC4DC930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09EA-74A2-497D-AB50-3A294360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DFE6-7E27-431F-A1A1-DE8C6D4E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309C-DC0C-42AC-927C-03CC8648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1333-9757-4382-BB93-6F7C0762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17CE-73BC-4312-A216-72E55BD1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E40E-427C-4DC5-8ACB-6A292F7D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3BCA-914B-4473-88AF-BDEB032B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>
                    <a:gd name="textAreaLeft" fmla="*/ 360 w 473760"/>
                    <a:gd name="textAreaRight" fmla="*/ 474480 w 473760"/>
                    <a:gd name="textAreaTop" fmla="*/ 0 h 1215000"/>
                    <a:gd name="textAreaBottom" fmla="*/ 1215360 h 12150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498960"/>
                    <a:gd name="textAreaBottom" fmla="*/ 499320 h 49896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81B7-96FC-4459-8BC3-702814D371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>
                  <a:gd name="textAreaLeft" fmla="*/ 0 w 2116080"/>
                  <a:gd name="textAreaRight" fmla="*/ 2116440 w 211608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843480"/>
                  <a:gd name="textAreaBottom" fmla="*/ 843480 h 84348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>
                  <a:gd name="textAreaLeft" fmla="*/ 0 w 439560"/>
                  <a:gd name="textAreaRight" fmla="*/ 439920 w 43956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>
                  <a:gd name="textAreaLeft" fmla="*/ 0 w 523800"/>
                  <a:gd name="textAreaRight" fmla="*/ 524160 w 523800"/>
                  <a:gd name="textAreaTop" fmla="*/ 360 h 3268800"/>
                  <a:gd name="textAreaBottom" fmla="*/ 3269520 h 326880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>
                <a:gd name="textAreaLeft" fmla="*/ 360 w 512640"/>
                <a:gd name="textAreaRight" fmla="*/ 513360 w 512640"/>
                <a:gd name="textAreaTop" fmla="*/ 0 h 1030680"/>
                <a:gd name="textAreaBottom" fmla="*/ 1031040 h 103068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>
                <a:gd name="textAreaLeft" fmla="*/ 0 w 1998720"/>
                <a:gd name="textAreaRight" fmla="*/ 1999080 w 199872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>
                <a:gd name="textAreaLeft" fmla="*/ 0 w 1271520"/>
                <a:gd name="textAreaRight" fmla="*/ 1271880 w 12715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>
                <a:gd name="textAreaLeft" fmla="*/ -360 w 561960"/>
                <a:gd name="textAreaRight" fmla="*/ 561960 w 56196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>
                <a:gd name="textAreaLeft" fmla="*/ 360 w 138240"/>
                <a:gd name="textAreaRight" fmla="*/ 138960 w 1382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9440"/>
                  <a:gd name="textAreaBottom" fmla="*/ 379800 h 379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5000"/>
                  <a:gd name="textAreaBottom" fmla="*/ 315360 h 3150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298800"/>
                  <a:gd name="textAreaBottom" fmla="*/ 299160 h 298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>
                  <a:gd name="textAreaLeft" fmla="*/ 0 w 430560"/>
                  <a:gd name="textAreaRight" fmla="*/ 430920 w 430560"/>
                  <a:gd name="textAreaTop" fmla="*/ 0 h 248400"/>
                  <a:gd name="textAreaBottom" fmla="*/ 248760 h 248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1000"/>
                  <a:gd name="textAreaBottom" fmla="*/ 531360 h 5310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720"/>
                  <a:gd name="textAreaBottom" fmla="*/ 442080 h 4417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360 h 370080"/>
                <a:gd name="textAreaBottom" fmla="*/ 370800 h 370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3A07-9F19-421A-AF9A-4038693D877A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6560" y="764640"/>
            <a:ext cx="7921800" cy="403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800" spc="-1" strike="noStrike">
                <a:solidFill>
                  <a:srgbClr val="ff0000"/>
                </a:solidFill>
                <a:latin typeface="Arial Rounded MT Bold"/>
              </a:rPr>
              <a:t>«Моя семья-</a:t>
            </a:r>
            <a:br>
              <a:rPr sz="7800"/>
            </a:br>
            <a:r>
              <a:rPr b="1" lang="ru-RU" sz="7800" spc="-1" strike="noStrike">
                <a:solidFill>
                  <a:srgbClr val="ff0000"/>
                </a:solidFill>
                <a:latin typeface="Arial Rounded MT Bold"/>
              </a:rPr>
              <a:t>Моё богатство!»</a:t>
            </a:r>
            <a:endParaRPr b="0" lang="en-US" sz="78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508360" y="5084640"/>
            <a:ext cx="3924360" cy="13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ccff"/>
                </a:solidFill>
                <a:latin typeface="Verdana"/>
              </a:rPr>
              <a:t>Выполнила работу:</a:t>
            </a:r>
            <a:br>
              <a:rPr sz="1600"/>
            </a:br>
            <a:r>
              <a:rPr b="0" lang="ru-RU" sz="1600" spc="-1" strike="noStrike">
                <a:solidFill>
                  <a:srgbClr val="ccccff"/>
                </a:solidFill>
                <a:latin typeface="Verdana"/>
              </a:rPr>
              <a:t>Красюкова Алина</a:t>
            </a:r>
            <a:endParaRPr b="0" lang="en-US" sz="1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0675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buClr>
                <a:srgbClr val="ff0000"/>
              </a:buClr>
              <a:buFont typeface="Vivald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800" spc="-1" strike="noStrike">
                <a:solidFill>
                  <a:srgbClr val="ff0000"/>
                </a:solidFill>
                <a:latin typeface="Vivaldi"/>
              </a:rPr>
              <a:t>Спасибо за внимание!</a:t>
            </a:r>
            <a:endParaRPr b="0" lang="en-US" sz="8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f98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MM900300553[1]"/>
          <p:cNvPicPr/>
          <p:nvPr/>
        </p:nvPicPr>
        <p:blipFill>
          <a:blip r:embed="rId1"/>
          <a:stretch/>
        </p:blipFill>
        <p:spPr>
          <a:xfrm>
            <a:off x="3132000" y="3716280"/>
            <a:ext cx="3888000" cy="29973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181080" y="2276280"/>
            <a:ext cx="90360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Font typeface="Vladimir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Vladimir Script"/>
              </a:rPr>
              <a:t>А я совсем не похожа на родителей, но говорят, что я точная копия бабушки</a:t>
            </a:r>
            <a:r>
              <a:rPr b="0" lang="ru-RU" sz="1800" spc="-1" strike="noStrike">
                <a:solidFill>
                  <a:srgbClr val="ff0066"/>
                </a:solidFill>
                <a:latin typeface="Verdana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cc99ff"/>
                </a:solidFill>
                <a:latin typeface="Verdana"/>
              </a:rPr>
              <a:t>Мой сестра, которая  учится в 10 классе совсем не похожа  на меня, уж больно вредная.</a:t>
            </a:r>
            <a:br>
              <a:rPr sz="1800"/>
            </a:b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А я люблю танцевать, рисовать и петь, совсем как моя мама. А я когда вырасту, буду как мой папа, очень умной, сильной и самой главной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Picture 5" descr="MC900397614[1]"/>
          <p:cNvPicPr/>
          <p:nvPr/>
        </p:nvPicPr>
        <p:blipFill>
          <a:blip r:embed="rId2"/>
          <a:stretch/>
        </p:blipFill>
        <p:spPr>
          <a:xfrm>
            <a:off x="3564000" y="0"/>
            <a:ext cx="2111400" cy="22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Verdana"/>
              </a:rPr>
              <a:t>Для меня семья это…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1.Любовь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2.Когда все вместе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3.Уважение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4.Понимание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5.Радость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6.Помощь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Verdana"/>
              </a:rPr>
              <a:t>Мой любимый папа!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211640" y="3212640"/>
            <a:ext cx="389880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ff"/>
                </a:solidFill>
                <a:latin typeface="Verdana"/>
              </a:rPr>
              <a:t>Лучше папы моего</a:t>
            </a:r>
            <a:br>
              <a:rPr sz="2400"/>
            </a:br>
            <a:r>
              <a:rPr b="0" lang="ru-RU" sz="2400" spc="-1" strike="noStrike">
                <a:solidFill>
                  <a:srgbClr val="cc99ff"/>
                </a:solidFill>
                <a:latin typeface="Verdana"/>
              </a:rPr>
              <a:t>Нет на свете никого!</a:t>
            </a:r>
            <a:br>
              <a:rPr sz="2400"/>
            </a:br>
            <a:r>
              <a:rPr b="0" lang="ru-RU" sz="2400" spc="-1" strike="noStrike">
                <a:solidFill>
                  <a:srgbClr val="cc99ff"/>
                </a:solidFill>
                <a:latin typeface="Verdana"/>
              </a:rPr>
              <a:t>Он такой большой и важный!</a:t>
            </a:r>
            <a:br>
              <a:rPr sz="2400"/>
            </a:br>
            <a:r>
              <a:rPr b="0" lang="ru-RU" sz="2400" spc="-1" strike="noStrike">
                <a:solidFill>
                  <a:srgbClr val="cc99ff"/>
                </a:solidFill>
                <a:latin typeface="Verdana"/>
              </a:rPr>
              <a:t>Сильный и отважный</a:t>
            </a:r>
            <a:r>
              <a:rPr b="0" lang="ru-RU" sz="2800" spc="-1" strike="noStrike">
                <a:solidFill>
                  <a:srgbClr val="cc99ff"/>
                </a:solidFill>
                <a:latin typeface="Verdana"/>
              </a:rPr>
              <a:t>!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cc99ff"/>
                </a:solidFill>
                <a:latin typeface="Verdana"/>
              </a:rPr>
              <a:t>Я для папы своего </a:t>
            </a:r>
            <a:br>
              <a:rPr sz="2400"/>
            </a:br>
            <a:r>
              <a:rPr b="0" lang="ru-RU" sz="2400" spc="-1" strike="noStrike">
                <a:solidFill>
                  <a:srgbClr val="cc99ff"/>
                </a:solidFill>
                <a:latin typeface="Verdana"/>
              </a:rPr>
              <a:t>Не жалею ничего. </a:t>
            </a:r>
            <a:br>
              <a:rPr sz="2400"/>
            </a:br>
            <a:r>
              <a:rPr b="0" lang="ru-RU" sz="2400" spc="-1" strike="noStrike">
                <a:solidFill>
                  <a:srgbClr val="cc99ff"/>
                </a:solidFill>
                <a:latin typeface="Verdana"/>
              </a:rPr>
              <a:t>Мы с ним лучшие друзья, </a:t>
            </a:r>
            <a:br>
              <a:rPr sz="2400"/>
            </a:br>
            <a:r>
              <a:rPr b="0" lang="ru-RU" sz="2400" spc="-1" strike="noStrike">
                <a:solidFill>
                  <a:srgbClr val="cc99ff"/>
                </a:solidFill>
                <a:latin typeface="Verdana"/>
              </a:rPr>
              <a:t>Куда он, туда и я.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 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5" name="Picture 18" descr="image (1)"/>
          <p:cNvPicPr/>
          <p:nvPr/>
        </p:nvPicPr>
        <p:blipFill>
          <a:blip r:embed="rId1"/>
          <a:stretch/>
        </p:blipFill>
        <p:spPr>
          <a:xfrm>
            <a:off x="0" y="2060640"/>
            <a:ext cx="3395520" cy="45291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19"/>
          <p:cNvSpPr/>
          <p:nvPr/>
        </p:nvSpPr>
        <p:spPr>
          <a:xfrm>
            <a:off x="4140360" y="1787040"/>
            <a:ext cx="4679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d60c"/>
                </a:solidFill>
                <a:latin typeface="Verdana"/>
              </a:rPr>
              <a:t>Моего папу зовут Коля. Он очень добрый, трудолюбивый и отзывчивый. У него золотые руки. Он сможет сделать дома всё-при-всё! Его профессия шофёр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Verdana"/>
              </a:rPr>
              <a:t>Моя любимая мама!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64000" y="4221000"/>
            <a:ext cx="25927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Verdana"/>
              </a:rPr>
              <a:t>Никого на свете</a:t>
            </a:r>
            <a:br>
              <a:rPr sz="3200"/>
            </a:br>
            <a:r>
              <a:rPr b="1" lang="ru-RU" sz="3200" spc="-1" strike="noStrike">
                <a:solidFill>
                  <a:srgbClr val="ff0066"/>
                </a:solidFill>
                <a:latin typeface="Verdana"/>
              </a:rPr>
              <a:t>Лучше мамы нет!</a:t>
            </a: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Picture 8" descr="image"/>
          <p:cNvPicPr/>
          <p:nvPr/>
        </p:nvPicPr>
        <p:blipFill>
          <a:blip r:embed="rId1"/>
          <a:stretch/>
        </p:blipFill>
        <p:spPr>
          <a:xfrm>
            <a:off x="179280" y="1773360"/>
            <a:ext cx="4032360" cy="36795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9"/>
          <p:cNvSpPr/>
          <p:nvPr/>
        </p:nvSpPr>
        <p:spPr>
          <a:xfrm>
            <a:off x="5219640" y="2310120"/>
            <a:ext cx="3456000" cy="16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Verdana"/>
              </a:rPr>
              <a:t>Мою маму зовут Оксана. Моя мама очень добрая, трудолюбивая, очень хорошо готовит. Радует меня всякими вкусностями. Любит цветы. Её проффесия повар.</a:t>
            </a:r>
            <a:r>
              <a:rPr b="0" lang="ru-RU" sz="2000" spc="-1" strike="noStrike">
                <a:solidFill>
                  <a:srgbClr val="ff00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Моя любимая сестричка!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716000" y="4220640"/>
            <a:ext cx="396108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Сестра - это лучший друг, от которого невозможно избавиться.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И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всё-таки, это круто, когда есть старшая сестра!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3" name="Picture 6" descr="image (2)"/>
          <p:cNvPicPr/>
          <p:nvPr/>
        </p:nvPicPr>
        <p:blipFill>
          <a:blip r:embed="rId1"/>
          <a:stretch/>
        </p:blipFill>
        <p:spPr>
          <a:xfrm>
            <a:off x="395280" y="1836720"/>
            <a:ext cx="4105440" cy="382428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7"/>
          <p:cNvSpPr/>
          <p:nvPr/>
        </p:nvSpPr>
        <p:spPr>
          <a:xfrm>
            <a:off x="5003640" y="1916280"/>
            <a:ext cx="33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5076720" y="1484640"/>
            <a:ext cx="2836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99ff"/>
                </a:solidFill>
                <a:latin typeface="Verdana"/>
              </a:rPr>
              <a:t>Мою сестру зовут Настя. Она ученица 10 класса. Она умная, красивая девушка. Любит слушать музыку, сидеть в компьютере, и очень-очень любит путешествовать…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Я!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716000" y="1773360"/>
            <a:ext cx="40388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29d60c"/>
              </a:buClr>
              <a:buFont typeface="Viner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9d60c"/>
                </a:solidFill>
                <a:latin typeface="Viner Hand ITC"/>
              </a:rPr>
              <a:t>Меня зовут Алина.</a:t>
            </a:r>
            <a:br>
              <a:rPr sz="3200"/>
            </a:br>
            <a:r>
              <a:rPr b="0" i="1" lang="ru-RU" sz="3200" spc="-1" strike="noStrike">
                <a:solidFill>
                  <a:srgbClr val="29d60c"/>
                </a:solidFill>
                <a:latin typeface="Viner Hand ITC"/>
              </a:rPr>
              <a:t>Я ученица 5 класса. Учусь отлично! Занимаюсь волейболом. Люблю очень гулять со своими друзьям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8" name="Picture 7" descr="WgNPgyfzmiw"/>
          <p:cNvPicPr/>
          <p:nvPr/>
        </p:nvPicPr>
        <p:blipFill>
          <a:blip r:embed="rId1"/>
          <a:stretch/>
        </p:blipFill>
        <p:spPr>
          <a:xfrm>
            <a:off x="324000" y="18367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250" autoRev="1" fill="hold"/>
                                        <p:tgtEl>
                                          <p:spTgt spid="1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429228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Verdana"/>
              </a:rPr>
              <a:t>Ну, а вместе мы СЧАСТЛИВАЯ СЕМЬЯ!!!</a:t>
            </a:r>
            <a:endParaRPr b="0" lang="en-US" sz="88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f98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5157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Берегите сестру и брата они у вас одни!</a:t>
            </a:r>
            <a:endParaRPr b="0" lang="en-US" sz="1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436464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Берегите маму, она у вас одна! 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Rectangle 11"/>
          <p:cNvSpPr/>
          <p:nvPr/>
        </p:nvSpPr>
        <p:spPr>
          <a:xfrm>
            <a:off x="3708360" y="2997360"/>
            <a:ext cx="53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Берегите папу, он у вас один!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Rectangle 14"/>
          <p:cNvSpPr/>
          <p:nvPr/>
        </p:nvSpPr>
        <p:spPr>
          <a:xfrm>
            <a:off x="1403280" y="333360"/>
            <a:ext cx="705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Я ЛЮБЛЮ СВОЮ СЕМЬЮ!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2T16:31:10Z</dcterms:created>
  <dc:creator>User</dc:creator>
  <dc:description/>
  <dc:language>en-US</dc:language>
  <cp:lastModifiedBy>Admin</cp:lastModifiedBy>
  <dcterms:modified xsi:type="dcterms:W3CDTF">2014-12-04T15:20:38Z</dcterms:modified>
  <cp:revision>4</cp:revision>
  <dc:subject/>
  <dc:title>«Моя семья- Моё богатство!»</dc:title>
</cp:coreProperties>
</file>